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381-CE3A-4D5A-8B00-E7453E96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1E6-5598-4F1B-8906-476EB85F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1E0-1DDA-4FBB-832C-A12B2DCA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9EE-BA83-403E-907B-2B0DE00C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11F4-87CC-48DB-A782-4464AFBF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D575-FF1D-4F15-8E1B-5647BE93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E90F-59D4-42CA-85F1-3B154F62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95EA-A115-4040-A127-D89A25BA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76FE-9B8E-42A4-B654-59E5435D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131D-7ED6-42A2-91E5-92CA5359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AD2E-3FE8-41A1-8196-E1EC0C5A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C08-A9FB-4A99-A01D-01EDAD6E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4995-4BE1-4CB3-8A66-06CD3DFB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132F-B723-4BB4-8848-3557C9CF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1E68-CAFE-4C8A-85E0-40556FF3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FB97-3BCD-4FAE-B761-8F35F3B6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C477-6A8B-4B75-A0A8-8D521D10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A7F-7D75-4D70-896D-B55792E3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83A-F42C-4B1D-AC0F-B2579C8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A5C-0208-45E6-A0F9-6431A987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26B-81C1-4C05-A408-380C3B2D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698-2174-46E2-A2C4-FDA3E2C6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D62-E28F-4DBC-B90B-3002274E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C10-3A70-498E-A782-D65D5F73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217B-99FC-4B54-875C-5A45473136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65D6-C0AD-4489-AB35-CC7484356E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Урок-подорож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“ Морська регат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26028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4df581"/>
                </a:solidFill>
                <a:latin typeface="Arial"/>
              </a:rPr>
              <a:t>Тема: Апостро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review-imag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6085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ahoma"/>
              </a:rPr>
              <a:t>Острів Підручників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review-imag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779292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ahoma"/>
              </a:rPr>
              <a:t>Острів Колективний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Наша сім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’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ружна, Наша, велика, і, сі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аш сі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 дружна і вел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ть, мене, і , Є, братів, у, сестрич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Є у мене п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ть братів і сестрич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працює, Вале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н, інженер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Вале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н працює інженер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ходить, клас, Льоня, у, де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Льоня ходить у де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тий кла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Ми, у, п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тому, Ма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нкою , з, вчимо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Ми з Ма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нкою вчимося у п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тому класі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першокласник, Олесь -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Олесь – першокласни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ще, А, і, дитячому, садку, Петрик, у, Де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А ще у дитячому садку Петрик і Де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я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932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333399"/>
                </a:solidFill>
                <a:latin typeface="Tahoma"/>
              </a:rPr>
              <a:t>Острів Відпочинку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56880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333399"/>
                </a:solidFill>
                <a:latin typeface="Tahoma"/>
              </a:rPr>
              <a:t>Острів </a:t>
            </a:r>
            <a:br>
              <a:rPr sz="8000"/>
            </a:br>
            <a:r>
              <a:rPr b="0" lang="uk-UA" sz="8000" spc="-1" strike="noStrike">
                <a:solidFill>
                  <a:srgbClr val="333399"/>
                </a:solidFill>
                <a:latin typeface="Tahoma"/>
              </a:rPr>
              <a:t>Творчий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КОМАН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2 коман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3 коман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Скласти вірш із слі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Море, лоскоче, п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яти, на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Очі , сліпить, зайчикам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Камінцями, гладким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Грає ,і, з, сонечком, н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3213000" cy="1670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251160" cy="1631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Робота в командах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стрів Цікавих завдан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ahoma"/>
              </a:rPr>
              <a:t>Завдання для 1-ї команд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84072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756108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826920" y="4797360"/>
          <a:ext cx="7848720" cy="647640"/>
        </p:xfrm>
        <a:graphic>
          <a:graphicData uri="http://schemas.openxmlformats.org/drawingml/2006/table">
            <a:tbl>
              <a:tblPr/>
              <a:tblGrid>
                <a:gridCol w="872280"/>
                <a:gridCol w="1055160"/>
                <a:gridCol w="687600"/>
                <a:gridCol w="874440"/>
                <a:gridCol w="869400"/>
                <a:gridCol w="874440"/>
                <a:gridCol w="873000"/>
                <a:gridCol w="869760"/>
                <a:gridCol w="872640"/>
              </a:tblGrid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`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1116000" y="2421000"/>
            <a:ext cx="77724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ahoma"/>
              </a:rPr>
              <a:t>Завдання для 2-ї кома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076640"/>
            <a:ext cx="7772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ahoma"/>
              </a:rPr>
              <a:t>Завдання для 3-ї кома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6173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Tahoma"/>
              </a:rPr>
              <a:t>Перевірка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1коман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Тому тяжко, хто зло па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`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тає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2 коман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нього сім 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`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тниць 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тиж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3 коман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обить 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`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те через деся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review-image" descr=""/>
          <p:cNvPicPr/>
          <p:nvPr/>
        </p:nvPicPr>
        <p:blipFill>
          <a:blip r:embed="rId1"/>
          <a:stretch/>
        </p:blipFill>
        <p:spPr>
          <a:xfrm>
            <a:off x="684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review-image" descr=""/>
          <p:cNvPicPr/>
          <p:nvPr/>
        </p:nvPicPr>
        <p:blipFill>
          <a:blip r:embed="rId2"/>
          <a:stretch/>
        </p:blipFill>
        <p:spPr>
          <a:xfrm>
            <a:off x="7524720" y="4508640"/>
            <a:ext cx="2195640" cy="1925640"/>
          </a:xfrm>
          <a:prstGeom prst="rect">
            <a:avLst/>
          </a:prstGeom>
          <a:ln w="0">
            <a:noFill/>
          </a:ln>
        </p:spPr>
      </p:pic>
      <p:pic>
        <p:nvPicPr>
          <p:cNvPr id="151" name="preview-image" descr=""/>
          <p:cNvPicPr/>
          <p:nvPr/>
        </p:nvPicPr>
        <p:blipFill>
          <a:blip r:embed="rId3"/>
          <a:stretch/>
        </p:blipFill>
        <p:spPr>
          <a:xfrm>
            <a:off x="4572000" y="5418000"/>
            <a:ext cx="2065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гад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5910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такий же як знак розділов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І відомий шкільній дітворі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Та в словах української мов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Я пишусь не внизу, а вгорі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84720" y="5229000"/>
            <a:ext cx="26640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(Апостроф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566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сипаються монети і слова з апостроф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review-imag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2000" cy="71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review-imag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стрів Каліграфіч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14920" y="1773360"/>
            <a:ext cx="352908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review-image" descr=""/>
          <p:cNvPicPr/>
          <p:nvPr/>
        </p:nvPicPr>
        <p:blipFill>
          <a:blip r:embed="rId1"/>
          <a:stretch/>
        </p:blipFill>
        <p:spPr>
          <a:xfrm>
            <a:off x="3924360" y="3429000"/>
            <a:ext cx="480060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4724" t="0" r="4724" b="74957"/>
          <a:stretch/>
        </p:blipFill>
        <p:spPr>
          <a:xfrm>
            <a:off x="755640" y="1773360"/>
            <a:ext cx="6899400" cy="919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аліграфічна хвили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19928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Bradley Hand ITC"/>
              </a:rPr>
              <a:t>  </a:t>
            </a:r>
            <a:r>
              <a:rPr b="0" i="1" lang="uk-UA" sz="3600" spc="-1" strike="noStrike">
                <a:solidFill>
                  <a:srgbClr val="000000"/>
                </a:solidFill>
                <a:latin typeface="Gigi"/>
              </a:rPr>
              <a:t>М</a:t>
            </a:r>
            <a:r>
              <a:rPr b="0" i="1" lang="en-US" sz="3600" spc="-1" strike="noStrike">
                <a:solidFill>
                  <a:srgbClr val="000000"/>
                </a:solidFill>
                <a:latin typeface="Gigi"/>
              </a:rPr>
              <a:t>’</a:t>
            </a:r>
            <a:r>
              <a:rPr b="0" i="1" lang="uk-UA" sz="3600" spc="-1" strike="noStrike">
                <a:solidFill>
                  <a:srgbClr val="000000"/>
                </a:solidFill>
                <a:latin typeface="Gigi"/>
              </a:rPr>
              <a:t>я   в</a:t>
            </a:r>
            <a:r>
              <a:rPr b="0" i="1" lang="en-US" sz="3600" spc="-1" strike="noStrike">
                <a:solidFill>
                  <a:srgbClr val="000000"/>
                </a:solidFill>
                <a:latin typeface="Gigi"/>
              </a:rPr>
              <a:t>’</a:t>
            </a:r>
            <a:r>
              <a:rPr b="0" i="1" lang="uk-UA" sz="3600" spc="-1" strike="noStrike">
                <a:solidFill>
                  <a:srgbClr val="000000"/>
                </a:solidFill>
                <a:latin typeface="Gigi"/>
              </a:rPr>
              <a:t>ю     п</a:t>
            </a:r>
            <a:r>
              <a:rPr b="0" i="1" lang="en-US" sz="3600" spc="-1" strike="noStrike">
                <a:solidFill>
                  <a:srgbClr val="000000"/>
                </a:solidFill>
                <a:latin typeface="Gigi"/>
              </a:rPr>
              <a:t>’</a:t>
            </a:r>
            <a:r>
              <a:rPr b="0" i="1" lang="uk-UA" sz="3600" spc="-1" strike="noStrike">
                <a:solidFill>
                  <a:srgbClr val="000000"/>
                </a:solidFill>
                <a:latin typeface="Gigi"/>
              </a:rPr>
              <a:t>є </a:t>
            </a:r>
            <a:r>
              <a:rPr b="0" i="1" lang="en-US" sz="3600" spc="-1" strike="noStrike">
                <a:solidFill>
                  <a:srgbClr val="000000"/>
                </a:solidFill>
                <a:latin typeface="Gig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gi"/>
              </a:rPr>
              <a:t>  </a:t>
            </a:r>
            <a:r>
              <a:rPr b="0" i="1" lang="uk-UA" sz="3600" spc="-1" strike="noStrike">
                <a:solidFill>
                  <a:srgbClr val="000000"/>
                </a:solidFill>
                <a:latin typeface="Gigi"/>
              </a:rPr>
              <a:t>в</a:t>
            </a:r>
            <a:r>
              <a:rPr b="0" i="1" lang="en-US" sz="3600" spc="-1" strike="noStrike">
                <a:solidFill>
                  <a:srgbClr val="000000"/>
                </a:solidFill>
                <a:latin typeface="Gigi"/>
              </a:rPr>
              <a:t>’</a:t>
            </a:r>
            <a:r>
              <a:rPr b="0" i="1" lang="uk-UA" sz="3600" spc="-1" strike="noStrike">
                <a:solidFill>
                  <a:srgbClr val="000000"/>
                </a:solidFill>
                <a:latin typeface="Gigi"/>
              </a:rPr>
              <a:t>ї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Bradley Hand ITC"/>
              </a:rPr>
              <a:t>Сім</a:t>
            </a: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Bradley Hand ITC"/>
              </a:rPr>
              <a:t>я  любов</a:t>
            </a: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Bradley Hand ITC"/>
              </a:rPr>
              <a:t>ю </a:t>
            </a: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Bradley Hand ITC"/>
              </a:rPr>
              <a:t>солов</a:t>
            </a: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Bradley Hand ITC"/>
              </a:rPr>
              <a:t>ї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Bradley Hand ITC"/>
              </a:rPr>
              <a:t>п</a:t>
            </a: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Bradley Hand ITC"/>
              </a:rPr>
              <a:t>єдеста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3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б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е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еф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е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, ю, є, 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й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  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й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  [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й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  [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йї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597800" y="-4203720"/>
            <a:ext cx="24383880" cy="15239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ловникова ро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двір…я  бур…ян  п…ятниця  зілл…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комп…ютер портф…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дві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 бу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н  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тниця  зілля  ком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ютер  портф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animClr clrSpc="rgb">
                                      <p:cBhvr>
                                        <p:cTn id="126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127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3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3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review-imag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стрів Звуко-букве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1628280"/>
            <a:ext cx="678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кщо ти розумний, чемний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Гарне і твоє і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І за тебе не дарем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уде горда вся сі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12:56:18Z</dcterms:created>
  <dc:creator>Андрей</dc:creator>
  <dc:description/>
  <dc:language>en-US</dc:language>
  <cp:lastModifiedBy>Андрей</cp:lastModifiedBy>
  <dcterms:modified xsi:type="dcterms:W3CDTF">2015-11-09T17:48:36Z</dcterms:modified>
  <cp:revision>6</cp:revision>
  <dc:subject/>
  <dc:title>Тема: Апостроф. Урок-подорож “ Морська регата”</dc:title>
</cp:coreProperties>
</file>