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8BC2-7471-46BF-861F-1B455D5F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91F3-4B8B-4FC8-88E7-F27BA5A2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159A-B5CE-44F1-8AB9-CC1E0EC6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6331-B3C3-4AD3-B9EB-C4C01259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E75B-2C10-4479-A000-61F24FEF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2ED0-9029-4C75-B99A-2CF43765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93CD-FD54-49FB-9A8C-2410A913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4CFE-3B22-4979-B381-94D2813F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0EEF-656E-4F05-8549-77E1043A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6695-43E2-4B0D-A586-FC672F65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6FE2-7458-4699-9312-7BDC1B11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516A-4958-441D-B6CE-907ABA79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9C8B-8BC4-400E-99A7-0D22B4E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7131-DA18-4B67-8A68-E2FDF099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304B-8517-4CC1-8E94-5E5BF940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E0E4-49BE-4A4B-850A-F02CFA3D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4ED9-8A8E-4D86-BADC-BDB21A67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EB0F-D6A0-4F07-960F-DABF707B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68BF-55C6-4A34-ACA2-FF569C1A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53F4-76BC-4ED1-84A7-BECF7547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D910-E508-4B5D-B6D3-32C0357E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2735-CE62-4D12-8AFB-63240410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CA09-08E9-4364-B824-8CFB387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85A9-5F8C-4034-A41C-A26BA1B3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99E0-6270-449B-A2A7-0578416EE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60B6-839E-499F-8C32-C48B12916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 HEALTHY APPETITE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032360" cy="388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439236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BE HEALTHY, WEALTHY AND WI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88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ngthen your life, lessen your meal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Benjamin Frankl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wise man should consider that health is the greatest of human blessings. Let food be your medici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Hippocr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ive a man food, and he can eat for a day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 a man a job, and he can only eat for 30 minutes on break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Lev Sp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5798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late the words into Ukrainia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cou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cen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edom of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he question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id the school introduce the new rul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he school banned students from doing during lunch brea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re the two mothers unhappy about the new rul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 mothers do after the new rules were introduc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benefits of the new regime, according to the head tea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 the synonyms to the word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each opinion with the word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itness are personal matters – the Government shouldn’t pass laws abou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eople don’t look after their health, the Government will have to raise taxes to pay fo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have the right to eat unhealthy food, but not to give it to the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...would make a lot more things illegal, if they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vernment has launched successful campaigns in the past to raise awareness of heal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6247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iomatic phrase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uld eat a ho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rinks like a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a sweet to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orth your s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ll like hot c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ing with milk and h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y goosebe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orm in a tea-c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9:59:42Z</dcterms:created>
  <dc:creator>Слава</dc:creator>
  <dc:description/>
  <dc:language>en-US</dc:language>
  <cp:lastModifiedBy>Слава</cp:lastModifiedBy>
  <dcterms:modified xsi:type="dcterms:W3CDTF">2014-02-16T15:33:52Z</dcterms:modified>
  <cp:revision>12</cp:revision>
  <dc:subject/>
  <dc:title>     A HEALTHY APPETITE?</dc:title>
</cp:coreProperties>
</file>