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588-DC79-4C19-8E44-A82ECF9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57C-313D-4F28-A398-C24177FB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261-0232-4871-9522-E2282B05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648-9013-4D09-80BD-D0DE4EE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019-4D73-492E-891C-7D04446C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5420-7C79-4368-995C-AEA36A36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A24D-ADB4-4354-941D-B683D2EA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31A-AC14-4F42-BE3C-6F5B013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8F3C-FEA4-499F-B2C6-52852DCD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4B1-1F00-4C51-882A-24F1C029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666-336C-4C68-9418-1E0098A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359-7C4A-43AF-9FB6-9AC977D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B98-7F30-4F21-8084-353FEE7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364-54EB-4A11-812A-C11336D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02A-72A7-45F2-AD1E-227C304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BC6-7585-4D08-9468-C20F16A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CD0-82C8-4AD7-A1C2-E7579802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D7D-33F5-43B9-9EC7-6A39FEC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994-F090-4B7D-B9D7-B6BB8F5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7E6-93B1-4988-BF71-4AE646A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9DB-7262-45C3-911F-60B1C94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754-59E3-4998-95B7-A0B8FA1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E0D-7D74-421A-984C-E395ED1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C2E-7D50-42E2-8759-33BB521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56BA-9D4C-42E3-8F83-D0DF255200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375-0DA5-435B-A595-0A89ABE141E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ідсумковий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 урок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2920" y="2924280"/>
            <a:ext cx="3714840" cy="18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Життя і творчість Тараса Шевче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47640" y="4797000"/>
            <a:ext cx="6840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3366"/>
                </a:solidFill>
                <a:latin typeface="Arial"/>
              </a:rPr>
              <a:t>Дякую за співпрацю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1640" y="2714760"/>
            <a:ext cx="15001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Не дуріте самі себе, Учітесь, читайт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 чужому научайтесь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Й свого не цурайте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Т.Шевченк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29098"/>
          <p:cNvPicPr/>
          <p:nvPr/>
        </p:nvPicPr>
        <p:blipFill>
          <a:blip r:embed="rId1"/>
          <a:stretch/>
        </p:blipFill>
        <p:spPr>
          <a:xfrm>
            <a:off x="5364000" y="2276640"/>
            <a:ext cx="3780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исл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 і приказки про Т.Шевчен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Шевченко за народ бідував, бо з народу сам походжа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еред світу, серед нас буде вічно жить Тара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Шевченко Тарас – світоч правди серед на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то Шевченка прочитав, той багатшим серцем ста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Шевченкові твори сяють, мов ясні зор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У наш чудовий час вічно житиме Тара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Шевченко дужий був не силою, а словом мудри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 Онтаріо в Канаді українці йому ра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На панщині пшеницю жала і власну доля проклинал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лово Шевченка живе серед нас, мов ясний дороговк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Шевченка мучили, карали, та духу його не зламал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расів «Кобзар» - народу великий да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питання для перш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ї коман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) Коли народився Тарас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2)Яким був його соціальний стан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3) Ім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’я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 діда по матері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4)У якому селі знаходилася хата Копія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5) Скільки братів і сестер мав Тарас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6) Кому належать слова: «…Тарасу нічого не треба з мого хазяйства;він не буде абияким чоловіком;, з його вийде або щось дуже добре, або велике ледащо…»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7) Подругу дитячих років звали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8)Сиротою  хлопець залишився  у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9) Відстань між селами Моринці і Кирилів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0)Тарас вступив у Кирилівську дяківську школу в 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1) Скільки часу пас Тарас громадських ягнят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2)Хто такий Степан Степанович Превлоцький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3)Старшого брата Микиту батько вчив стельмахувати. А що виготовляли стельмах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4)З якого матеріалу робив хлопець фарби – саморобк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5)Що означає ім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 Тарас  в перекладі  з грецької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6. Де знаходилась  хата батьків у Кирилівці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7) Назвіть метафори у вірші «За сонцем хмаронька пливе»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8) Вірш «Садок вишневий коло хати..» був  написаний у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питання для другої коман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)Шевченко називав своєю батьківщиною село…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2)Звідки походить прізвище Шевчен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3) Батько Тараса Григорій Іванович тричі називав своїх доньок одним іменем. Яким саме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4)Як звали матір і старшу сестру Тараса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5)Скільки часу пройшло від дня смерті матері  20 серпня 1823 року, коли батько знову одружився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6)  До заміжньої сестри Тарас  бігав у село 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7)Яка будівля, пов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зана з життям Тараса, зберігається в первинному вигляді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8) Що і куди носили діти у горнятах – близнятах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9)Коли починалося навчання у дяківській школі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0) У суспільстві, де жив Тарас, діти не малювали ні у школі, ні вдома. Про що свідчить те, що Тарас малює скрізь,де можна(хата, стіни, піч)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1)Чи зберіглася хата батьків Тараса в Кирилівці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2)Під яким вуличним  прізвищем був записаний  батько Тараса та його сім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3)Коли помер  батько Тараса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4) Прізвище пана, кріпаком якого була сім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  Т.Шевченка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5)Де служив козачком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6) Де Тарас  ховав свої малюнки у Будищі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7). Що називається епітетом? Наведіть приклади з вірша  « Садок вишневий коло хати..»(не дивлячись у підручник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18)Вірш «За  сонцем хмаронька пливе…» написаний у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Хата батьків 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Arial"/>
              </a:rPr>
              <a:t>«Цікаві квадрати». У кожному рядку квадрата  треба закреслити всі букви, що повторюються більше одного разу. Із букв, що залишилися, скласти слово,воно і буде відповідати на поставлене питання.</a:t>
            </a:r>
            <a:br>
              <a:rPr sz="2000"/>
            </a:br>
            <a:r>
              <a:rPr b="1" i="1" lang="uk-UA" sz="2000" spc="-1" strike="noStrike">
                <a:solidFill>
                  <a:srgbClr val="006666"/>
                </a:solidFill>
                <a:latin typeface="Arial"/>
              </a:rPr>
              <a:t>Запитання  для першої команди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356000" y="2924280"/>
            <a:ext cx="417528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66"/>
                </a:solidFill>
                <a:latin typeface="Arial"/>
              </a:rPr>
              <a:t>Яке дівоче  прізвище  матері Тараса?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2492280"/>
          <a:ext cx="2797200" cy="2286000"/>
        </p:xfrm>
        <a:graphic>
          <a:graphicData uri="http://schemas.openxmlformats.org/drawingml/2006/table">
            <a:tbl>
              <a:tblPr/>
              <a:tblGrid>
                <a:gridCol w="559080"/>
                <a:gridCol w="560160"/>
                <a:gridCol w="558720"/>
                <a:gridCol w="560520"/>
                <a:gridCol w="55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Щ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Щ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питання для другої коман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76360" y="2997360"/>
            <a:ext cx="322740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66"/>
                </a:solidFill>
                <a:latin typeface="Arial"/>
              </a:rPr>
              <a:t>Як звали молодшого  брата Тараса?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3229200" cy="2286000"/>
        </p:xfrm>
        <a:graphic>
          <a:graphicData uri="http://schemas.openxmlformats.org/drawingml/2006/table">
            <a:tbl>
              <a:tblPr/>
              <a:tblGrid>
                <a:gridCol w="646200"/>
                <a:gridCol w="644400"/>
                <a:gridCol w="648000"/>
                <a:gridCol w="644400"/>
                <a:gridCol w="64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класти кросворд про життя і творчі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Т.Шевче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Індивідуальне завданн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06:54Z</dcterms:created>
  <dc:creator>Майа</dc:creator>
  <dc:description/>
  <dc:language>en-US</dc:language>
  <cp:lastModifiedBy>User</cp:lastModifiedBy>
  <dcterms:modified xsi:type="dcterms:W3CDTF">2017-12-10T14:53:20Z</dcterms:modified>
  <cp:revision>9</cp:revision>
  <dc:subject/>
  <dc:title>Урок № 5</dc:title>
</cp:coreProperties>
</file>