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5595-18A7-4E14-82D9-50531FA6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30C2-97C7-4E49-A0D8-3329D6B1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D9D-9600-4C9D-8D78-3946BC1B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928-BEAD-4D75-9769-407C275A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8653-6B13-4372-9AF2-F5C0B3FF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2E1D-B2B0-4C61-A5C5-103B56EF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A851-849B-4DED-A87A-FF1512EC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AB64-4C9E-4CCE-AC6D-84071F34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4685-990D-4179-8DA9-772E1669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9187-9C80-4ADD-BD3C-93870282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DC6B-A6BC-46E7-8656-EE8EED4E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0CC-6CFF-49C7-BFBA-214BEA76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D452-D14B-4317-A4AE-2A32F31A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EF99-8BF7-4F41-A461-759C650D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50C8-3811-45C1-B887-6B169330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2CE9-91D1-45D8-885B-F81FACF2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A5F8-8633-439F-A330-1847C0A3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EAAC-3E13-410F-9BA0-FA8742FD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4B5-AEA4-40C1-84AA-7FAA0817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02E-0A6C-4DE5-A6B1-655FCE32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75CA-0DA2-47C9-875C-D9E0E0B1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4EB-27FD-4AB8-B57B-C1FBD8D2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C46C-B500-4659-B45F-06E637FE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EB37-2DFE-4B86-9F0D-133EF166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8F72-698B-4B20-827B-A9B6AD57C6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B992-19AE-4A25-833F-42CA2919602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100" spc="-1" strike="noStrike">
                <a:solidFill>
                  <a:srgbClr val="0000ff"/>
                </a:solidFill>
                <a:latin typeface="Times New Roman"/>
              </a:rPr>
              <a:t>Урок-подорж</a:t>
            </a:r>
            <a:br>
              <a:rPr sz="5100"/>
            </a:br>
            <a:r>
              <a:rPr b="1" lang="uk-UA" sz="5100" spc="-1" strike="noStrike">
                <a:solidFill>
                  <a:srgbClr val="0000ff"/>
                </a:solidFill>
                <a:latin typeface="Times New Roman"/>
              </a:rPr>
              <a:t>“Моя мала батьківщина”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Times New Roman"/>
              </a:rPr>
              <a:t>Розв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uk-UA" sz="3600" spc="-1" strike="noStrike">
                <a:solidFill>
                  <a:srgbClr val="ffff00"/>
                </a:solidFill>
                <a:latin typeface="Times New Roman"/>
              </a:rPr>
              <a:t>язування рівнянь та задач за допомогою рівнянь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Times New Roman"/>
              </a:rPr>
              <a:t>6 клас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572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Національний заповідник “Батьківщина Тараса Шевченка” окраса Черкаського краю. Чиста гарна територія заповідника із зеленими насадженнями, яскравими квітами  радує око і місцевих жителів і гостей, які відвідують історичні місця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Picture 5" descr="P5190076"/>
          <p:cNvPicPr/>
          <p:nvPr/>
        </p:nvPicPr>
        <p:blipFill>
          <a:blip r:embed="rId1"/>
          <a:stretch/>
        </p:blipFill>
        <p:spPr>
          <a:xfrm>
            <a:off x="1981080" y="228600"/>
            <a:ext cx="501516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Задача 1.</a:t>
            </a:r>
            <a:br>
              <a:rPr sz="4000"/>
            </a:b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На одній із клумб на території заповідника у два рази більше кущів троянд, ніж на другій і на 25 менше, ніж на третій. Скільки кущів троянд на кожній клумбі, якщо разом їх на трьох клумбах 200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Picture 5" descr="макс 054"/>
          <p:cNvPicPr/>
          <p:nvPr/>
        </p:nvPicPr>
        <p:blipFill>
          <a:blip r:embed="rId1"/>
          <a:stretch/>
        </p:blipFill>
        <p:spPr>
          <a:xfrm>
            <a:off x="228600" y="15228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105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На території с. Шевченкового працюють три навчальні заклади: Шевченківський НВК, Шевченківський сільськогосподарський коледж і Шевченківська спеціалізована школа-інтерна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Picture 5" descr="P5190071"/>
          <p:cNvPicPr/>
          <p:nvPr/>
        </p:nvPicPr>
        <p:blipFill>
          <a:blip r:embed="rId1"/>
          <a:stretch/>
        </p:blipFill>
        <p:spPr>
          <a:xfrm>
            <a:off x="304920" y="1522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9160183"/>
          <p:cNvPicPr/>
          <p:nvPr/>
        </p:nvPicPr>
        <p:blipFill>
          <a:blip r:embed="rId2"/>
          <a:stretch/>
        </p:blipFill>
        <p:spPr>
          <a:xfrm>
            <a:off x="2514600" y="1447920"/>
            <a:ext cx="3149640" cy="23619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2" descr="IMG_8731"/>
          <p:cNvPicPr/>
          <p:nvPr/>
        </p:nvPicPr>
        <p:blipFill>
          <a:blip r:embed="rId3"/>
          <a:stretch/>
        </p:blipFill>
        <p:spPr>
          <a:xfrm>
            <a:off x="5486400" y="2514600"/>
            <a:ext cx="3197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971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Задача 2</a:t>
            </a:r>
            <a:br>
              <a:rPr sz="4000"/>
            </a:b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У трьох навчальних закладах навчається 858 учнів. У колежі навчається на 322 учнів більше, ніж у НВК і на 323 білше ніж у школі-інтернаті. Скільки учнів навчається у кожному навчальному закладі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Picture 5" descr="22222"/>
          <p:cNvPicPr/>
          <p:nvPr/>
        </p:nvPicPr>
        <p:blipFill>
          <a:blip r:embed="rId1"/>
          <a:stretch/>
        </p:blipFill>
        <p:spPr>
          <a:xfrm>
            <a:off x="0" y="0"/>
            <a:ext cx="1433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4953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Запрошуємо до річечки Івасів струмок, на берегах якого проходило дитинство Тараса. Струмок цей впадає у річку Вільшанка, а річка Вільшанка впадає в річку Рось, яка в свою чергу впадає у Дніпро. З маленьких струмочків  починаються великі ріки. Тому особливо їх треба оберігати від забруднень, висихань. На цій річечці в нашому селі е багато ставків: Тупчієвий, Громадський, Ковбин, Панський, Лісовий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Picture 6" descr="Изображение 1317"/>
          <p:cNvPicPr/>
          <p:nvPr/>
        </p:nvPicPr>
        <p:blipFill>
          <a:blip r:embed="rId1"/>
          <a:stretch/>
        </p:blipFill>
        <p:spPr>
          <a:xfrm>
            <a:off x="2057400" y="228600"/>
            <a:ext cx="447984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905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cc"/>
                </a:solidFill>
                <a:latin typeface="Times New Roman"/>
              </a:rPr>
              <a:t>Задача 3</a:t>
            </a:r>
            <a:br>
              <a:rPr sz="3600"/>
            </a:br>
            <a:r>
              <a:rPr b="1" lang="uk-UA" sz="3600" spc="-1" strike="noStrike">
                <a:solidFill>
                  <a:srgbClr val="ffffcc"/>
                </a:solidFill>
                <a:latin typeface="Times New Roman"/>
              </a:rPr>
              <a:t>Риба водиться там де чиста вода. У Громадський став  запустили 1350 мальків риби. Серед них  карасів удвічі більше ніж коропів. Яку кількість мальків кожного виду запустили до ставка?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Picture 5" descr="Изображение 664"/>
          <p:cNvPicPr/>
          <p:nvPr/>
        </p:nvPicPr>
        <p:blipFill>
          <a:blip r:embed="rId1"/>
          <a:stretch/>
        </p:blipFill>
        <p:spPr>
          <a:xfrm>
            <a:off x="3200400" y="413388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Times New Roman"/>
              </a:rPr>
              <a:t>Ми живемо в час Інтернету, коли про все на світі можна дізнатися з нього. Але живу подорож і хорошу і цікаву книгу ніщо не замінить. З книгою можна подорожувати по всіх країнах світу в будь-якому місці, навіть там, де немає  інтернету, електричного струму. Книга наш друг і порадник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Задача 4</a:t>
            </a:r>
            <a:br>
              <a:rPr sz="2800"/>
            </a:b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У нашій шкільній бібліотеці </a:t>
            </a:r>
            <a:br>
              <a:rPr sz="2800"/>
            </a:b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налічується 17000 книг.</a:t>
            </a:r>
            <a:br>
              <a:rPr sz="2800"/>
            </a:b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Книги бувають різного формату, тому і різна їх кількість на стелажах. Допоможемо бібліотекарю підрахувати кількість книг на кожному з трьох стелажів за схемою, яку вона склала: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І - ?</a:t>
            </a:r>
            <a:br>
              <a:rPr sz="2800"/>
            </a:b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ІІ – у два рази менше, ніж на І</a:t>
            </a:r>
            <a:br>
              <a:rPr sz="2800"/>
            </a:b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ІІІ –на 120 менше, ніж на І і ІІ разом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Разом книг на трьох стелажах 420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6" descr="chit18_"/>
          <p:cNvPicPr/>
          <p:nvPr/>
        </p:nvPicPr>
        <p:blipFill>
          <a:blip r:embed="rId1"/>
          <a:stretch/>
        </p:blipFill>
        <p:spPr>
          <a:xfrm>
            <a:off x="152280" y="457200"/>
            <a:ext cx="20574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cc"/>
                </a:solidFill>
                <a:latin typeface="Times New Roman"/>
              </a:rPr>
              <a:t>Домашнє завдання:</a:t>
            </a:r>
            <a:br>
              <a:rPr sz="4000"/>
            </a:br>
            <a:r>
              <a:rPr b="1" lang="uk-UA" sz="4000" spc="-1" strike="noStrike">
                <a:solidFill>
                  <a:srgbClr val="ffffcc"/>
                </a:solidFill>
                <a:latin typeface="Times New Roman"/>
              </a:rPr>
              <a:t>Створити авторську задачу, яка б розв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’</a:t>
            </a:r>
            <a:r>
              <a:rPr b="1" lang="uk-UA" sz="4000" spc="-1" strike="noStrike">
                <a:solidFill>
                  <a:srgbClr val="ffffcc"/>
                </a:solidFill>
                <a:latin typeface="Times New Roman"/>
              </a:rPr>
              <a:t>язувалась за допомогою рівняння.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На уроці я 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 дізнався...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 зрозумів...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 навчився...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 найбільший мій успіх 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 це...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 найбільші труднощі я відчув...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 я не вмів, а тепер умію...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 я змінив своє ставлення до...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 на наступному уроці я хочу...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айже для всіх вас Черкащина – це рідний край, де ви народилися, зробили свої перші кроки. Пройдуть роки, хтось із вас житиме у рідному селі чи місті, а когось доля може закинути далеко від батьківського порогу. Але рідний край завжди буде у вашому серці.</a:t>
            </a:r>
            <a:br>
              <a:rPr sz="3200"/>
            </a:b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А всіх вас поєднало тепер те, що ви навчаєтесь у одному з найкращих сіл України, на батьківщині генія України Тараса Шевченка в селі Шевченковому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20" descr="IMG_9005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ьогодні ми здійснимо подорож по рідному краю,а точніше по селі Шевченковому. Але це буде не просто екскурсійна подорож, а пізнавально-математична подорож. Ми спробуємо побачити наш край ще й з точки зору математика за допомогою рівнянь. А перед кожною мандрівкою треба трохи розім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ятись, щоб не була подорож важкою.</a:t>
            </a:r>
            <a:br>
              <a:rPr sz="3200"/>
            </a:b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 Отже розминк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99ff"/>
                </a:solidFill>
                <a:latin typeface="Times New Roman"/>
              </a:rPr>
              <a:t>1. Продовжити незакінчене речення: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 Рівняння – це …</a:t>
            </a: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  Корінь рівняння – це …</a:t>
            </a: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 Розв'язати рівняння 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     означає …</a:t>
            </a: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Назвати основні властивості рівняння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3. Розставити в правильному порядку послідовність розв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’</a:t>
            </a: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язування рівняння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-4(-x + 7) = x + 17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. 4х – х = 17 + 28</a:t>
            </a:r>
            <a:br>
              <a:rPr sz="4000"/>
            </a:b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2. х = 45 : 3</a:t>
            </a:r>
            <a:br>
              <a:rPr sz="4000"/>
            </a:b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3. Відповідь: 15</a:t>
            </a:r>
            <a:br>
              <a:rPr sz="4000"/>
            </a:b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4. х = 15</a:t>
            </a:r>
            <a:br>
              <a:rPr sz="4000"/>
            </a:b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5. 4х – 28 = х + 17</a:t>
            </a:r>
            <a:br>
              <a:rPr sz="4000"/>
            </a:b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6. 3х = 45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4. Знайди помилку: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1.    5х + 4 = 7х + 12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5х – 7х = 12 + 4</a:t>
            </a: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2.    -2х + 9 = 81 – 6х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-2х – 6х = - 81 – 9</a:t>
            </a: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3.    х + 11 = 5х + 5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х + 5х = 5 – 11</a:t>
            </a: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4 .   – 1,4 – 6,6х = 2,6 + 2,4х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6,6х – 2,4х = 2,6 + 1,4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9933"/>
                </a:solidFill>
                <a:latin typeface="Times New Roman"/>
              </a:rPr>
              <a:t>5. Логічна вправа</a:t>
            </a: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ff9933"/>
                </a:solidFill>
                <a:latin typeface="Times New Roman"/>
              </a:rPr>
              <a:t>Знайдіть пропущене слово:</a:t>
            </a: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ff9933"/>
                </a:solidFill>
                <a:latin typeface="Times New Roman"/>
              </a:rPr>
              <a:t>2х – 3 = 1   лютий</a:t>
            </a: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ff9933"/>
                </a:solidFill>
                <a:latin typeface="Times New Roman"/>
              </a:rPr>
              <a:t>7х – 4 = 9х – 12   квітень</a:t>
            </a: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ff9933"/>
                </a:solidFill>
                <a:latin typeface="Times New Roman"/>
              </a:rPr>
              <a:t>67 – 8х = 3   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М о л о д ц і !</a:t>
            </a:r>
            <a:br>
              <a:rPr sz="4000"/>
            </a:b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А тепер в подорож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5" descr="BD06662_"/>
          <p:cNvPicPr/>
          <p:nvPr/>
        </p:nvPicPr>
        <p:blipFill>
          <a:blip r:embed="rId1"/>
          <a:stretch/>
        </p:blipFill>
        <p:spPr>
          <a:xfrm>
            <a:off x="2666880" y="3352680"/>
            <a:ext cx="3200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4-21T19:43:3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