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279-87F6-4663-958F-E26BE737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E4F-F90C-493A-847D-C22DFD3F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EBF-E7E5-4A63-81A6-19026C7C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FF4-D88D-4CBA-899E-F238E9C1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C95-55B3-4D11-A10B-74DD8469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9D69-18C3-4FF3-8A3E-C15D5D6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358-4D22-4088-AFB3-854C072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E22-D7C8-4107-BC18-B0A8ED2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98F-9479-4B3A-9AA1-46F683A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6AE1-78B5-41F3-B580-612871DB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293-25F6-4752-BF7F-8B5AB28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449-3568-45AA-9246-FAAA9D1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7EE-CFCB-4AEF-9DDA-CC90DF5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CC5-09FC-40D0-A85C-423E9157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6FE-8E2E-4102-BDB2-35963B5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D38-BC7B-4A8C-B05A-5A92CF1E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491F-E6FA-4E21-B87F-FA0D1D5C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8D9-71D7-47F6-9365-177293E6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EBD-302B-4F31-85C8-47D4FB8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96E-DC4C-4495-89D2-D4FEDC1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EA6-3655-4320-9798-FD1FD801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0AB-1FFA-4077-80EE-2AEFE9A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C4F-08A5-4E1A-9EC7-D9B0CE9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674-922A-4480-923F-580BE76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AC1-BBE8-446B-8A64-16C4B12188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71E-B0AA-4830-A2B6-723A03A6639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tatic1.repo.aif.ru/1/8d/105467/db5b4754755199f30ce98de3b40e5f4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Century Gothic"/>
              </a:rPr>
              <a:t>Вечір старшокласників</a:t>
            </a:r>
            <a:br>
              <a:rPr sz="5700"/>
            </a:br>
            <a:r>
              <a:rPr b="0" lang="uk-UA" sz="5700" spc="-1" strike="noStrike">
                <a:solidFill>
                  <a:srgbClr val="ffffcc"/>
                </a:solidFill>
                <a:latin typeface="Century Gothic"/>
              </a:rPr>
              <a:t>Математика </a:t>
            </a:r>
            <a:br>
              <a:rPr sz="5700"/>
            </a:br>
            <a:r>
              <a:rPr b="0" lang="uk-UA" sz="5700" spc="-1" strike="noStrike">
                <a:solidFill>
                  <a:srgbClr val="ffffcc"/>
                </a:solidFill>
                <a:latin typeface="Century Gothic"/>
              </a:rPr>
              <a:t>і музика</a:t>
            </a:r>
            <a:endParaRPr b="0" lang="en-US" sz="57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слухай: 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зика навкруг,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на невидима в природі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 для незлічених мелодій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роджує найкращий звук.</a:t>
            </a: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ін під номером 1937+21 – співає “мі-бемоль” другої октави, а під номером 1953+29 – звучить, як “мі” малої октави. П’ять з них звучать акордом. Ці космічні об’єкти –інструменти виконують світову симфонію на думку Йоганна Кеплера. Про які космічні об’єкти іде мова? </a:t>
            </a:r>
            <a:endParaRPr b="0" lang="en-US" sz="32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УЛЬСАРИ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47" name="Picture 2" descr="Картинки по запросу пульсари"/>
          <p:cNvPicPr/>
          <p:nvPr/>
        </p:nvPicPr>
        <p:blipFill>
          <a:blip r:embed="rId1"/>
          <a:stretch/>
        </p:blipFill>
        <p:spPr>
          <a:xfrm>
            <a:off x="152280" y="3276720"/>
            <a:ext cx="6099120" cy="3430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Картинки по запросу пульсари"/>
          <p:cNvPicPr/>
          <p:nvPr/>
        </p:nvPicPr>
        <p:blipFill>
          <a:blip r:embed="rId2"/>
          <a:stretch/>
        </p:blipFill>
        <p:spPr>
          <a:xfrm>
            <a:off x="3429000" y="1143000"/>
            <a:ext cx="5622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 Його «до» першої октави робить 2n коливань за секунду, другої октави - 4n коливань за секунду, третьої октави – 8n коливань … .Про який музичний інструмент іде мова?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ОЯЛЬ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51" name="Picture 2" descr="Картинки по запросу рояль"/>
          <p:cNvPicPr/>
          <p:nvPr/>
        </p:nvPicPr>
        <p:blipFill>
          <a:blip r:embed="rId1"/>
          <a:stretch/>
        </p:blipFill>
        <p:spPr>
          <a:xfrm>
            <a:off x="2209680" y="1752480"/>
            <a:ext cx="41911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 Відомо, що своїм учням він викладав три головні предмети: математику, музику і вчення про переселення душ. На його думку вони склали єдину науку про космос а космічну гармонію. Хто цей учитель?</a:t>
            </a:r>
            <a:endParaRPr b="0" lang="en-US" sz="36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ІФАГОР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8" descr="Картинки по запросу піфагор"/>
          <p:cNvPicPr/>
          <p:nvPr/>
        </p:nvPicPr>
        <p:blipFill>
          <a:blip r:embed="rId1"/>
          <a:stretch/>
        </p:blipFill>
        <p:spPr>
          <a:xfrm>
            <a:off x="2514600" y="1981080"/>
            <a:ext cx="38098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Century Gothic"/>
              </a:rPr>
              <a:t> </a:t>
            </a:r>
            <a:br>
              <a:rPr sz="4400"/>
            </a:br>
            <a:r>
              <a:rPr b="0" lang="uk-U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. У сонаті три частини, але на відміну від норм того часу він написав першу частину не швидку, а повільну. Сам автор назвав її «Соната-фантазія», а от назві, під якою вона відома дав їй після смерті автора поет Людвіг Рельштаб.  Назвіть автора цієї сонати. </a:t>
            </a:r>
            <a:endParaRPr b="0" lang="en-US" sz="36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ЛЮДВІГ  ВАН  БЕТХОВЕН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60" name="Picture 2" descr="Картинки по запросу бетховен"/>
          <p:cNvPicPr/>
          <p:nvPr/>
        </p:nvPicPr>
        <p:blipFill>
          <a:blip r:embed="rId1"/>
          <a:stretch/>
        </p:blipFill>
        <p:spPr>
          <a:xfrm>
            <a:off x="3200400" y="2438280"/>
            <a:ext cx="2543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7. Розшифруйте прізвище , що складається з трьох складів: перший – число, другий – нота, третій – єгипетський бог сонця. 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 І – Ф А – Г О Р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63" name="Picture 2" descr="Картинки по запросу піфагор"/>
          <p:cNvPicPr/>
          <p:nvPr/>
        </p:nvPicPr>
        <p:blipFill>
          <a:blip r:embed="rId1"/>
          <a:stretch/>
        </p:blipFill>
        <p:spPr>
          <a:xfrm>
            <a:off x="2819520" y="1371600"/>
            <a:ext cx="312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9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Century Gothic"/>
              </a:rPr>
              <a:t>«</a:t>
            </a: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узика є радість душі, яка обчислює, сама того не усвідомлюючи», </a:t>
            </a:r>
            <a:br>
              <a:rPr sz="4400"/>
            </a:b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исав</a:t>
            </a: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імецький математик, фізик і філософ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Лейбніц Готфрід Вільгельм (1646-1716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33" name="Picture 2" descr="Картинки по запросу Лейбніц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8. Дослідження довели, що якщо в торговельних центрах програвати тиху музику, торговий оборот зростає на 40%. Музика повинна бути ніжною, спокійною. А що при цьому повинно бути відсутнім? 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ЛОВА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66" name="Picture 2" descr="Картинки по запросу торгівельний центр"/>
          <p:cNvPicPr/>
          <p:nvPr/>
        </p:nvPicPr>
        <p:blipFill>
          <a:blip r:embed="rId1"/>
          <a:stretch/>
        </p:blipFill>
        <p:spPr>
          <a:xfrm>
            <a:off x="1981080" y="2590920"/>
            <a:ext cx="45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9. Цей видатний учений тренував в собі уміння піднятися над проблемою, побачити її з незвичного ракурсу і знайти неординарний вихід. Коли він опинявся в глухому куті, то грав на скрипці і рішення раптово само появлялось в голові. </a:t>
            </a:r>
            <a:br>
              <a:rPr sz="3600"/>
            </a:br>
            <a:r>
              <a:rPr b="0" lang="uk-U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то він?</a:t>
            </a:r>
            <a:endParaRPr b="0" lang="en-US" sz="36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ЛЬБЕРТ ЕНШТЕЙН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69" name="Рисунок 2" descr="Любимый инструмент Эйнштей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295280"/>
            <a:ext cx="34416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. Древні греки вважали музику одним із розділів математики . Який розділ математики вони так називали? 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Century Gothic"/>
              </a:rPr>
              <a:t>ВІДНОШЕННЯ І ПРОПОРЦІЇ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2" name="Picture 2" descr="Картинки по запросу архітектура"/>
          <p:cNvPicPr/>
          <p:nvPr/>
        </p:nvPicPr>
        <p:blipFill>
          <a:blip r:embed="rId1"/>
          <a:stretch/>
        </p:blipFill>
        <p:spPr>
          <a:xfrm>
            <a:off x="1523880" y="1295280"/>
            <a:ext cx="563904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1. В давні часи їх у неї було від 12 до 25, а тепер - від 63 до 65. Про що іде мова? 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Century Gothic"/>
              </a:rPr>
              <a:t>БАНДУРА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5" name="Picture 2" descr="Картинки по запросу БАНДУРА"/>
          <p:cNvPicPr/>
          <p:nvPr/>
        </p:nvPicPr>
        <p:blipFill>
          <a:blip r:embed="rId1"/>
          <a:stretch/>
        </p:blipFill>
        <p:spPr>
          <a:xfrm>
            <a:off x="2895480" y="1371600"/>
            <a:ext cx="312444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2 . На цьому інструменті «ля» в різних октавах має частоту, яка змінюється  за принципом геометричної прогресії від</a:t>
            </a:r>
            <a:br>
              <a:rPr sz="4400"/>
            </a:b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27, 5Гц до3520 Гц. 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Century Gothic"/>
              </a:rPr>
              <a:t>РОЯЛЬ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78" name="Picture 2" descr="Картинки по запросу рояль"/>
          <p:cNvPicPr/>
          <p:nvPr/>
        </p:nvPicPr>
        <p:blipFill>
          <a:blip r:embed="rId1"/>
          <a:stretch/>
        </p:blipFill>
        <p:spPr>
          <a:xfrm>
            <a:off x="685800" y="19810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09320"/>
            <a:ext cx="57913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Чи не може музика бути описаною, як математика почуттів, а математика - як музика розуму? Так, наприклад, музикант відчуває музику, а математик - розуміє музику. Музика — це мрія математика …» — ці слова належать англійському математику Сільвестру Джеймсу (1814-1897)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35" name="Picture 2" descr="Картинки по запросу сільвестр джеймс математик"/>
          <p:cNvPicPr/>
          <p:nvPr/>
        </p:nvPicPr>
        <p:blipFill>
          <a:blip r:embed="rId1"/>
          <a:stretch/>
        </p:blipFill>
        <p:spPr>
          <a:xfrm>
            <a:off x="6600960" y="0"/>
            <a:ext cx="2543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 величезного музичного розмаїття людина інтуїтивно вибирає лише те, що узгоджується з її внутрішнім ритмом, а він у кожного різний. У давньогрецького поета Архілоха ми знаходимо слова: «Пізнай, який ритм володіє людьми».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фесор X. Фольц провів дуже оригінальне дослідження, проаналізувавши музичний ритм творів класиків. Виявилось, що у Чайковського теми змінювались з періодичністю в три секунди, у Бетховена — в п'ять, у Моцарта — в сім. Потім Фольц зіставив музичний ритм і пам'ять на музичний твір з біологічними ритмами окремих людей — частотою пульсу, диханням тощо і дійшов висновку, що в нас є щось подібне до камертона, який озивається на певну музику: подобається лише те, що відповідає нашій внутрішній гармонії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Усе більше мистецтво стає науковим, а наука — художньою; розлучившись біля підніжжя, вони зустрінуться коли-небудь на вершині». Флобер</a:t>
            </a:r>
            <a:r>
              <a:rPr b="0" lang="uk-UA" sz="4400" spc="-1" strike="noStrike">
                <a:solidFill>
                  <a:srgbClr val="ffffcc"/>
                </a:solidFill>
                <a:latin typeface="Century Gothic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Свою музику»</a:t>
            </a:r>
            <a:br>
              <a:rPr sz="4400"/>
            </a:b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належить знайти кожному — </a:t>
            </a:r>
            <a:br>
              <a:rPr sz="4400"/>
            </a:br>
            <a:r>
              <a:rPr b="1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 тиші, роздумах, у зосередженні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5181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Математика має свої «останні квартети Бетховена», які існують тільки для знавців, але в ній існують і свої «шубертові наспіви», доступні безпосередньо всім», — так вважав німецький математик Хассе Гельмут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37" name="Picture 2" descr="Картинки по запросу Хассе Хельмут."/>
          <p:cNvPicPr/>
          <p:nvPr/>
        </p:nvPicPr>
        <p:blipFill>
          <a:blip r:embed="rId1"/>
          <a:stretch/>
        </p:blipFill>
        <p:spPr>
          <a:xfrm>
            <a:off x="5791320" y="304920"/>
            <a:ext cx="30859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Century Gothic"/>
              </a:rPr>
              <a:t>КОНКУРС ЗНАВЦІВ МАТЕМАТИКИ І МУЗИКИ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На цьому інструменті «до» знаходиться на половині, «ре» - на третині, «Мі» - на чверті. </a:t>
            </a:r>
            <a:br>
              <a:rPr sz="4400"/>
            </a:br>
            <a:r>
              <a:rPr b="0" lang="uk-U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 який музичний інструмент іде мова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ПІЛКА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41" name="Picture 2" descr="Картинки по запросу сопілка"/>
          <p:cNvPicPr/>
          <p:nvPr/>
        </p:nvPicPr>
        <p:blipFill>
          <a:blip r:embed="rId1"/>
          <a:stretch/>
        </p:blipFill>
        <p:spPr>
          <a:xfrm>
            <a:off x="2057400" y="2438280"/>
            <a:ext cx="5175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В його основі лежить рівнобедрений трикутник зі сторонами, що складають «золоту пропорцію», а профіль описується логарифмічною спіраллю. За основу побудови приймається модуль, що дорівнює товщині його стінки в ударній частині. Є ціла наука про них, яка називається «Компанологія».</a:t>
            </a:r>
            <a:endParaRPr b="0" lang="en-US" sz="3200" spc="-1" strike="noStrike">
              <a:solidFill>
                <a:srgbClr val="ffffc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Century Gothic"/>
              </a:rPr>
              <a:t>ДЗВОНИ</a:t>
            </a:r>
            <a:endParaRPr b="0" lang="en-US" sz="4400" spc="-1" strike="noStrike">
              <a:solidFill>
                <a:srgbClr val="ffffcc"/>
              </a:solidFill>
              <a:latin typeface="Century Gothic"/>
            </a:endParaRPr>
          </a:p>
        </p:txBody>
      </p:sp>
      <p:pic>
        <p:nvPicPr>
          <p:cNvPr id="144" name="Picture 2" descr="Картинки по запросу дзвони"/>
          <p:cNvPicPr/>
          <p:nvPr/>
        </p:nvPicPr>
        <p:blipFill>
          <a:blip r:embed="rId1"/>
          <a:stretch/>
        </p:blipFill>
        <p:spPr>
          <a:xfrm>
            <a:off x="1143000" y="175248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20T14:49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