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4AC-A7F6-47DA-81E0-4615B00C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B05-C0BD-44DE-A701-40149C49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F4D-C5EE-4402-BBEC-B52BEA33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19E-0D1F-4744-B25A-09BE66BB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D92A-D89A-47B5-8689-E57C5AEE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4679-B8C0-4271-9519-984F17C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0FFF-3C94-401D-83AD-9A47E568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C2F7-0AE7-4DB5-9393-121D40BF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DCF9-4827-406F-9A56-D3769E2A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B975-F3E1-4347-9C29-EEDF400E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CFB2-2FEA-480C-BABA-17B718F9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2AA-AF67-4AAC-A442-A9912B67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D360-8CFD-4291-937D-B9F76635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C499-4C27-438F-A81B-71DA7350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6173-EED0-4EA2-9063-5EC0FB73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843F-1516-49B2-AF1E-98A697BD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5EC0-71CA-4743-BF58-517BF2F8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62D-1E6C-4223-8102-1754950D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519-3EFB-4188-8BA3-C14EFADD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082-3E6B-4F61-AF32-79A8E10E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CAD-5C7D-4F7D-A175-B376B6EC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8EF-4BCE-44BB-AF35-8FAE49BF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8AD-6AA8-4D52-BB70-8EC2708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B35-C60C-48BE-8CC0-895AE4E5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FB13-C98B-4110-8C88-CF3A944495F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EBDF-819B-4FF0-98E3-1E18B0DE89F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457200"/>
            <a:ext cx="8244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МІРКУЄМО   -       </a:t>
            </a:r>
            <a:r>
              <a:rPr b="0" lang="uk-UA" sz="4400" spc="-1" strike="noStrike">
                <a:solidFill>
                  <a:srgbClr val="ff00ff"/>
                </a:solidFill>
                <a:latin typeface="Verdana"/>
              </a:rPr>
              <a:t>Ш В И Д К О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ВІДПОВІДАЄМО – </a:t>
            </a:r>
            <a:r>
              <a:rPr b="0" lang="uk-UA" sz="4400" spc="-1" strike="noStrike">
                <a:solidFill>
                  <a:srgbClr val="ff00ff"/>
                </a:solidFill>
                <a:latin typeface="Verdana"/>
              </a:rPr>
              <a:t>Т О Ч Н О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ЛІЧИМО –            </a:t>
            </a:r>
            <a:r>
              <a:rPr b="0" lang="uk-UA" sz="4400" spc="-1" strike="noStrike">
                <a:solidFill>
                  <a:srgbClr val="ff00ff"/>
                </a:solidFill>
                <a:latin typeface="Verdana"/>
              </a:rPr>
              <a:t>ПРАВТЛЬНО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ПИШЕМО –            </a:t>
            </a:r>
            <a:r>
              <a:rPr b="0" lang="uk-UA" sz="4400" spc="-1" strike="noStrike">
                <a:solidFill>
                  <a:srgbClr val="ff00ff"/>
                </a:solidFill>
                <a:latin typeface="Verdana"/>
              </a:rPr>
              <a:t>Г А Р Н О!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6000" y="38088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pperplate Gothic Light"/>
              </a:rPr>
              <a:t>ДЕВІЗ УРОКУ: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pperplate Gothic Light"/>
              <a:ea typeface="Copperplate 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ЗАДАЧ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1) 4  +  8  = 12 (пт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2) 25   +  12 = 37 (пт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ідповідь: стало  37 пташ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ЗАДАЧ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25  +  (  4 + 8  ) = 37 (пт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ідповідь: стало  37 пташ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ЗАДАЧ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1) 25 + 4 = 29 (пт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2) 29  + 8 = 37 (пт. 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(25  + 4  ) +  8 = 37 (пт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ідповідь: стало  37 пташ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ff"/>
                </a:solidFill>
                <a:latin typeface="Verdana"/>
              </a:rPr>
              <a:t>О</a:t>
            </a:r>
            <a:r>
              <a:rPr b="0" lang="uk-UA" sz="5400" spc="-1" strike="noStrike">
                <a:solidFill>
                  <a:srgbClr val="ffcc00"/>
                </a:solidFill>
                <a:latin typeface="Verdana"/>
              </a:rPr>
              <a:t>З</a:t>
            </a:r>
            <a:r>
              <a:rPr b="0" lang="uk-UA" sz="5400" spc="-1" strike="noStrike">
                <a:solidFill>
                  <a:srgbClr val="0000ff"/>
                </a:solidFill>
                <a:latin typeface="Verdana"/>
              </a:rPr>
              <a:t>Д</a:t>
            </a:r>
            <a:r>
              <a:rPr b="0" lang="uk-UA" sz="5400" spc="-1" strike="noStrike">
                <a:solidFill>
                  <a:srgbClr val="ff00ff"/>
                </a:solidFill>
                <a:latin typeface="Verdana"/>
              </a:rPr>
              <a:t>О</a:t>
            </a:r>
            <a:r>
              <a:rPr b="0" lang="uk-UA" sz="5400" spc="-1" strike="noStrike">
                <a:solidFill>
                  <a:srgbClr val="ffcc00"/>
                </a:solidFill>
                <a:latin typeface="Verdana"/>
              </a:rPr>
              <a:t>Р</a:t>
            </a:r>
            <a:r>
              <a:rPr b="0" lang="uk-UA" sz="5400" spc="-1" strike="noStrike">
                <a:solidFill>
                  <a:srgbClr val="ff00ff"/>
                </a:solidFill>
                <a:latin typeface="Verdana"/>
              </a:rPr>
              <a:t>О</a:t>
            </a:r>
            <a:r>
              <a:rPr b="0" lang="uk-UA" sz="5400" spc="-1" strike="noStrike">
                <a:solidFill>
                  <a:srgbClr val="0000ff"/>
                </a:solidFill>
                <a:latin typeface="Verdana"/>
              </a:rPr>
              <a:t>В</a:t>
            </a:r>
            <a:r>
              <a:rPr b="0" lang="uk-UA" sz="5400" spc="-1" strike="noStrike">
                <a:solidFill>
                  <a:srgbClr val="ffcc00"/>
                </a:solidFill>
                <a:latin typeface="Verdana"/>
              </a:rPr>
              <a:t>Ч</a:t>
            </a:r>
            <a:r>
              <a:rPr b="0" lang="uk-UA" sz="5400" spc="-1" strike="noStrike">
                <a:solidFill>
                  <a:srgbClr val="ff00ff"/>
                </a:solidFill>
                <a:latin typeface="Verdana"/>
              </a:rPr>
              <a:t>А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847880"/>
            <a:ext cx="7772400" cy="4552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1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3399ff"/>
                </a:solidFill>
                <a:latin typeface="Verdana"/>
              </a:rPr>
              <a:t>РІВНЯНН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І варіант                    ІІ варіан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Х + 17 = 19                19 – х = 1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352680" y="4191120"/>
            <a:ext cx="221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3399ff"/>
                </a:solidFill>
                <a:latin typeface="Verdana"/>
              </a:rPr>
              <a:t>РІВНЯНН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І варіант                    ІІ варіан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Х + 17 = 19                19 – х = 1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Х = 19 – 17                 Х = 19 – 1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Х = 2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Х = 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2 + 17 = 19                 19 – 2 = 1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19 = 19                        17 = 1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Я + Я = 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-2057400" y="2284560"/>
            <a:ext cx="12477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uk-UA" sz="4800" spc="-1" strike="noStrike">
                <a:solidFill>
                  <a:srgbClr val="000000"/>
                </a:solidFill>
                <a:latin typeface="Verdana"/>
              </a:rPr>
              <a:t>23 кг +  … кг = 53 кг                         45 к + 8 к . = … к.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4800" spc="-1" strike="noStrike">
                <a:solidFill>
                  <a:srgbClr val="000000"/>
                </a:solidFill>
                <a:latin typeface="Verdana"/>
              </a:rPr>
              <a:t>2 дм – 13 см = … см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ГЕОМЕТРИЧН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308240"/>
            <a:ext cx="77724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00cc"/>
                </a:solidFill>
                <a:latin typeface="Verdana"/>
              </a:rPr>
              <a:t>МІКРОФОН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Verdana"/>
              </a:rPr>
              <a:t>Сьогодні я дізнався …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Verdana"/>
              </a:rPr>
              <a:t>Я навчився</a:t>
            </a: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Verdana"/>
              </a:rPr>
              <a:t>Я намагався.</a:t>
            </a: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 …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Verdana"/>
              </a:rPr>
              <a:t>Найкраще мені вдалося</a:t>
            </a: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 …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ff"/>
                </a:solidFill>
                <a:latin typeface="Verdana"/>
              </a:rPr>
              <a:t>Тепер я знаю</a:t>
            </a: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 …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Я вмію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596880"/>
            <a:ext cx="80391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680" y="1371600"/>
            <a:ext cx="75153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 а т е м а т и к а </a:t>
            </a:r>
            <a:endParaRPr b="1" lang="en-US" sz="66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6699"/>
                </a:solidFill>
                <a:latin typeface="Verdana"/>
              </a:rPr>
              <a:t>1 ГОД – 20 ХВ = 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cc33"/>
                </a:solidFill>
                <a:latin typeface="Verdana"/>
              </a:rPr>
              <a:t>П О Ї З 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“</a:t>
            </a: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залізний кінь”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9900ff"/>
                </a:solidFill>
                <a:latin typeface="Verdana"/>
              </a:rPr>
              <a:t>ОЦІНИ</a:t>
            </a:r>
            <a:r>
              <a:rPr b="0" lang="uk-UA" sz="4400" spc="-1" strike="noStrike">
                <a:solidFill>
                  <a:srgbClr val="9900ff"/>
                </a:solidFill>
                <a:latin typeface="Verdana"/>
              </a:rPr>
              <a:t> </a:t>
            </a:r>
            <a:r>
              <a:rPr b="0" lang="uk-UA" sz="6000" spc="-1" strike="noStrike">
                <a:solidFill>
                  <a:srgbClr val="9900ff"/>
                </a:solidFill>
                <a:latin typeface="Verdana"/>
              </a:rPr>
              <a:t>СЕБЕ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486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Verdana"/>
              </a:rPr>
              <a:t>Я молодець!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00"/>
                </a:solidFill>
                <a:latin typeface="Verdana"/>
              </a:rPr>
              <a:t>Можна було б краще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00"/>
                </a:solidFill>
                <a:latin typeface="Verdana"/>
              </a:rPr>
              <a:t>Поки не виходить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505320"/>
            <a:ext cx="914400" cy="9144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600200"/>
            <a:ext cx="144792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200400"/>
            <a:ext cx="15238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2680" y="5066640"/>
            <a:ext cx="1077840" cy="915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886200"/>
            <a:ext cx="7621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2286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7524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ff"/>
                </a:solidFill>
                <a:latin typeface="Verdana"/>
              </a:rPr>
              <a:t>КАЛІГРАФІЧНА ХВИЛИН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63560" y="1528920"/>
          <a:ext cx="3341880" cy="39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528920"/>
                    <a:ext cx="3341880" cy="39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419720" y="2057400"/>
            <a:ext cx="3814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00"/>
                </a:solidFill>
                <a:latin typeface="Verdana"/>
              </a:rPr>
              <a:t>ТЕМА УРОКУ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6600cc"/>
                </a:solidFill>
                <a:latin typeface="Verdana"/>
              </a:rPr>
              <a:t>СКЛАДАННЯ І РОЗВ</a:t>
            </a:r>
            <a:r>
              <a:rPr b="0" lang="en-US" sz="5400" spc="-1" strike="noStrike">
                <a:solidFill>
                  <a:srgbClr val="6600cc"/>
                </a:solidFill>
                <a:latin typeface="Verdana"/>
              </a:rPr>
              <a:t>’</a:t>
            </a:r>
            <a:r>
              <a:rPr b="0" lang="uk-UA" sz="5400" spc="-1" strike="noStrike">
                <a:solidFill>
                  <a:srgbClr val="6600cc"/>
                </a:solidFill>
                <a:latin typeface="Verdana"/>
              </a:rPr>
              <a:t>ЯЗУВАННЯ СКЛАДЕНИХ ЗАДАЧ</a:t>
            </a:r>
            <a:r>
              <a:rPr b="0" lang="uk-UA" sz="5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221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ЗАДАЧН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Verdana"/>
              </a:rPr>
              <a:t>ЇХАЛО </a:t>
            </a: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 -   </a:t>
            </a:r>
            <a:r>
              <a:rPr b="0" lang="uk-UA" sz="3200" spc="-1" strike="noStrike">
                <a:solidFill>
                  <a:srgbClr val="009900"/>
                </a:solidFill>
                <a:latin typeface="Verdana"/>
              </a:rPr>
              <a:t>22 діт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Verdana"/>
              </a:rPr>
              <a:t>ЗІЙШЛО</a:t>
            </a: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uk-UA" sz="3200" spc="-1" strike="noStrike">
                <a:solidFill>
                  <a:srgbClr val="009900"/>
                </a:solidFill>
                <a:latin typeface="Verdana"/>
              </a:rPr>
              <a:t>10</a:t>
            </a: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uk-UA" sz="3200" spc="-1" strike="noStrike">
                <a:solidFill>
                  <a:srgbClr val="009900"/>
                </a:solidFill>
                <a:latin typeface="Verdana"/>
              </a:rPr>
              <a:t>і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Verdana"/>
              </a:rPr>
              <a:t>ЗАЛИШИЛОСЬ</a:t>
            </a: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 - </a:t>
            </a:r>
            <a:r>
              <a:rPr b="0" lang="uk-UA" sz="3200" spc="-1" strike="noStrike">
                <a:solidFill>
                  <a:srgbClr val="0099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048200" y="2286000"/>
            <a:ext cx="1366920" cy="2057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267600" y="2286000"/>
            <a:ext cx="1366560" cy="2057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162920" y="4995720"/>
            <a:ext cx="17618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4-10T18:57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