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5261-0276-4970-9842-8A6F3E39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701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28880" y="3935880"/>
            <a:ext cx="701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CF6-EA49-41E1-9B36-0D0F0B01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384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28880" y="393588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3840" y="393588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EC05-95AE-4C6E-84E6-52704142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00920" y="157176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2960" y="157176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28880" y="393588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00920" y="393588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2960" y="393588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2A84-0205-4210-A18E-AF1C4BD5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E9ED-1E84-46A6-9EFD-3B27D63C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6F4E-52DB-43D3-9AB6-6DFA96D8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2E2D-F916-4547-9488-DCE803B4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342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23840" y="1571760"/>
            <a:ext cx="342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7040-B2C2-4A27-8FAE-C96DB0B7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DCBB-FEF6-47A9-B819-99B17490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356760"/>
            <a:ext cx="8143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7878-5BD8-47EA-B38A-E205CA97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23840" y="1571760"/>
            <a:ext cx="342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28880" y="393588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69EF-8BCF-46EA-9F95-DDEA21F6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2AFB-068F-40CA-A71B-4A6F6007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342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2384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23840" y="393588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842D-92F9-488E-8BA8-858706A0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384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28880" y="3935880"/>
            <a:ext cx="701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E51A-4E84-4D9D-9E37-C3D1A9BE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701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28880" y="3935880"/>
            <a:ext cx="701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5308-EE3E-41A2-AFB3-A8F7C352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2384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28880" y="393588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23840" y="393588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CFE6-41EC-41F0-9572-708F446C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00920" y="157176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2960" y="157176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28880" y="393588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00920" y="393588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2960" y="3935880"/>
            <a:ext cx="225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2036-EB46-4222-980E-0136E126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A188-DD8D-4F27-8D47-43BA6207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342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3840" y="1571760"/>
            <a:ext cx="342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8FE9-8F0A-4F3A-B4F5-8DD28242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C5E8-7E84-435F-88B4-E02CFB08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356760"/>
            <a:ext cx="8143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BB48-DABB-475C-948C-623B2BF5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3840" y="1571760"/>
            <a:ext cx="342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28880" y="393588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F27F-C0FD-49ED-8119-FC621A32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342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384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3840" y="393588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1B40-6857-4618-8FFA-1EA7C6D7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3840" y="1571760"/>
            <a:ext cx="342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28880" y="3935880"/>
            <a:ext cx="701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92E-9CC7-4752-8795-1B7D80C1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FF62-F3F1-4DA0-8459-459EF95BA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413F-4326-4807-80F9-AD4E3AB1C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uk.wikipedia.org/wiki/&#1056;&#1077;&#1085;&#1090;&#1072;&#1073;&#1077;&#1083;&#1100;&#1085;&#1110;&#1089;&#1090;&#1100;" TargetMode="Externa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08000" y="764640"/>
            <a:ext cx="543564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1f497d"/>
                </a:solidFill>
                <a:latin typeface="Times New Roman"/>
              </a:rPr>
              <a:t>АУТСОРСИНГ, ЙОГО ПЕРЕВАГИ І НЕДОЛІКИ. АУТСОРСИНГ ІНФОРМАЦІЙНИХ ТЕХНОЛОГІЙ </a:t>
            </a:r>
            <a:br>
              <a:rPr sz="3600"/>
            </a:br>
            <a:r>
              <a:rPr b="0" lang="uk-UA" sz="3600" spc="-1" strike="noStrike">
                <a:solidFill>
                  <a:srgbClr val="1f497d"/>
                </a:solidFill>
                <a:latin typeface="Times New Roman"/>
              </a:rPr>
              <a:t>(ІТ-АУТСОРСИНГ). </a:t>
            </a:r>
            <a:br>
              <a:rPr sz="3600"/>
            </a:br>
            <a:r>
              <a:rPr b="0" lang="uk-UA" sz="3600" spc="-1" strike="noStrike">
                <a:solidFill>
                  <a:srgbClr val="1f497d"/>
                </a:solidFill>
                <a:latin typeface="Times New Roman"/>
              </a:rPr>
              <a:t>КРАЇНИ-ЛІДЕРИ НА СВІТОВОМУ РИНКУ </a:t>
            </a:r>
            <a:br>
              <a:rPr sz="3600"/>
            </a:br>
            <a:r>
              <a:rPr b="0" lang="uk-UA" sz="3600" spc="-1" strike="noStrike">
                <a:solidFill>
                  <a:srgbClr val="1f497d"/>
                </a:solidFill>
                <a:latin typeface="Times New Roman"/>
              </a:rPr>
              <a:t>КОМП ҆҆ ЮТЕРНОГО ПРОГРАМУВАННЯ</a:t>
            </a:r>
            <a:br>
              <a:rPr sz="3600"/>
            </a:b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72080" y="3860280"/>
            <a:ext cx="4471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Arial"/>
              </a:rPr>
              <a:t>Як ви розумієте поняття «стартап»? 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06" name="Текст 2" descr=""/>
          <p:cNvPicPr/>
          <p:nvPr/>
        </p:nvPicPr>
        <p:blipFill>
          <a:blip r:embed="rId2"/>
          <a:stretch/>
        </p:blipFill>
        <p:spPr>
          <a:xfrm>
            <a:off x="3276720" y="2349360"/>
            <a:ext cx="3328920" cy="33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Arial"/>
              </a:rPr>
              <a:t>Прийом «Формуємо поняття»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1f497d"/>
                </a:solidFill>
                <a:uFillTx/>
                <a:latin typeface="Arial"/>
              </a:rPr>
              <a:t>	</a:t>
            </a:r>
            <a:r>
              <a:rPr b="1" i="1" lang="uk-UA" sz="3200" spc="-1" strike="noStrike" u="sng">
                <a:solidFill>
                  <a:srgbClr val="1f497d"/>
                </a:solidFill>
                <a:uFillTx/>
                <a:latin typeface="Arial"/>
              </a:rPr>
              <a:t>Аутсорсинг</a:t>
            </a: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 – (у перекладі з англ. означає </a:t>
            </a:r>
            <a:r>
              <a:rPr b="0" i="1" lang="uk-UA" sz="3200" spc="-1" strike="noStrike">
                <a:solidFill>
                  <a:srgbClr val="1f497d"/>
                </a:solidFill>
                <a:latin typeface="Arial"/>
              </a:rPr>
              <a:t>використання чужого ресурсу</a:t>
            </a: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) це передача однією компанією на підставі договору певних бізнес-процесів або непрофільних функцій на обслуговування інших компанії, яка спеціалізується у відповідній галуз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Основний принцип аутсорсингу: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f497d"/>
                </a:solidFill>
                <a:latin typeface="Arial"/>
              </a:rPr>
              <a:t>«Залишаю за своєю фірмою тільки те,</a:t>
            </a:r>
            <a:r>
              <a:rPr b="0" i="1" lang="en-US" sz="4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1f497d"/>
                </a:solidFill>
                <a:latin typeface="Arial"/>
              </a:rPr>
              <a:t>що можу зробити краще від інших. Зовнішнім компаніям віддаю те, що вони</a:t>
            </a:r>
            <a:r>
              <a:rPr b="0" i="1" lang="en-US" sz="4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1f497d"/>
                </a:solidFill>
                <a:latin typeface="Arial"/>
              </a:rPr>
              <a:t>можуть зробити краще від мене»</a:t>
            </a:r>
            <a:r>
              <a:rPr b="0" lang="uk-UA" sz="40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19159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2060"/>
                </a:solidFill>
                <a:latin typeface="Arial"/>
              </a:rPr>
              <a:t>Що це таке аутсорсинг на простому прикладі</a:t>
            </a:r>
            <a:endParaRPr b="1" lang="en-US" sz="6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476000" y="333360"/>
            <a:ext cx="7467480" cy="57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«Texas Instruments»</a:t>
            </a: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 спочатку хотіла заощадити на використанні трудових ресурсів. Однак коли відкрився перший індійський дослідний центр - з'ясувалося, що за допомогою місцевих кадрів можна значно підвищити кваліфікацію старих співробітників. Оновлення штату талановитими фахівцями призвело до справжнього буму: Індія стала перетворюватися в економічного тигра, а компанія вирішила питання нестачі компетентних кадр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403280" y="188640"/>
            <a:ext cx="7540560" cy="59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1f497d"/>
                </a:solidFill>
                <a:latin typeface="Arial"/>
              </a:rPr>
              <a:t>«Procter &amp; Gamble»</a:t>
            </a: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 у багатьох на слуху завдяки саме аутсорсингу. Свого часу компанія добре оцінила зростання прибутковості від передачі частини виробничих функцій іншим країнам, що в підсумку вилилося в розробку нових продуктів. Продуктивність збільшилася на 60%, а сумарний дохід - на 10 млрд долар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Arial"/>
              </a:rPr>
              <a:t>Види аутсорсингу: залежно від сфери діяльності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556000" y="1557360"/>
            <a:ext cx="5761080" cy="5133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556000" y="1557360"/>
            <a:ext cx="57610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ПЕРЕВАГИ АУТСОРСИНГУ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97d"/>
                </a:solidFill>
                <a:latin typeface="Arial"/>
              </a:rPr>
              <a:t>1) забезпечення безперебійності роботи бізнесу: бізнес-процес передається на аутсорсинг не конкретній людині, а компанії, яка несе відповідальність за дотримання договірних зобов’язань перед клієнт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1f497d"/>
                </a:solidFill>
                <a:latin typeface="Arial"/>
              </a:rPr>
              <a:t>2) можливість повної концентрації на основному виді діяльності компанії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97d"/>
                </a:solidFill>
                <a:latin typeface="Arial"/>
              </a:rPr>
              <a:t>3) мінімізація власних ризиків у результаті виконання завдань професіонал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97d"/>
                </a:solidFill>
                <a:latin typeface="Arial"/>
              </a:rPr>
              <a:t>4) зменшення витрат компанії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97d"/>
                </a:solidFill>
                <a:latin typeface="Arial"/>
              </a:rPr>
              <a:t>5) використання спеціалізованого професійного обладнання та технологій фірми-аутсорсер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f497d"/>
                </a:solidFill>
                <a:latin typeface="Arial"/>
              </a:rPr>
              <a:t>6) моментальний доступ до кваліфікованих кадрів фірми-аутсорс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7) швидкі терміни виконання: фірма-замовник отримує швидкий результат</a:t>
            </a:r>
            <a:r>
              <a:rPr b="0" lang="uk-UA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роботи, не втручаючись у її перебі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АУТСОРСИНГ ІНФОРМАЦІЙНИХ ТЕХНОЛОГІЙ У СВІТІ 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8000" y="2133720"/>
            <a:ext cx="70358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Як вам уже відомо, одним з основних напрямів розвитку сучасного світу є інформатизація. Застосування інформаційних технологій (ІТ) спрямоване на отримання, обробку,</a:t>
            </a:r>
            <a:r>
              <a:rPr b="0" lang="uk-UA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зберігання і передачу інформації, обсяг</a:t>
            </a:r>
            <a:r>
              <a:rPr b="0" lang="uk-UA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якої постійно зростає. Сфера інформаційних технологій (ІТ-сфера) включає</a:t>
            </a: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розробку апаратного й програмного забезпечення та надання широкого спектру послуг з їх установки, об’єднання</a:t>
            </a:r>
            <a:r>
              <a:rPr b="0" lang="uk-UA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в системи, обслуговування, а також</a:t>
            </a:r>
            <a:r>
              <a:rPr b="0" lang="uk-UA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супутніх освітніх, консультаційних і</a:t>
            </a:r>
            <a:r>
              <a:rPr b="0" lang="uk-UA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телекомунікаційних послуг. На світовому ринку ІТ-послуг явним лідером є</a:t>
            </a:r>
            <a:r>
              <a:rPr b="0" lang="uk-UA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Північноамериканський регіон (</a:t>
            </a:r>
            <a:r>
              <a:rPr b="0" i="1" lang="ru-RU" sz="2000" spc="-1" strike="noStrike">
                <a:solidFill>
                  <a:srgbClr val="1f497d"/>
                </a:solidFill>
                <a:latin typeface="Arial"/>
              </a:rPr>
              <a:t>США,Канада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), який суттєво випереджає</a:t>
            </a:r>
            <a:r>
              <a:rPr b="0" lang="uk-UA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Азійсько-Тихоокеанський та Європейський регіони</a:t>
            </a:r>
            <a:r>
              <a:rPr b="0" lang="uk-UA" sz="2000" spc="-1" strike="noStrike">
                <a:solidFill>
                  <a:srgbClr val="1f49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195640" y="333360"/>
            <a:ext cx="633708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692360" y="475920"/>
            <a:ext cx="723096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обрий ранок!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 нас чекає гарний день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ачу, всі веселі і здорові, 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о уроку всі готов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Похожее изображение"/>
          <p:cNvPicPr/>
          <p:nvPr/>
        </p:nvPicPr>
        <p:blipFill>
          <a:blip r:embed="rId2"/>
          <a:stretch/>
        </p:blipFill>
        <p:spPr>
          <a:xfrm>
            <a:off x="3708360" y="278136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76000" y="259920"/>
            <a:ext cx="7467480" cy="58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Найбільш перспективним напрямом у наданні ІТ-послуг став аутсорсинг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інформаційних технологій (ІТ-аутсорсинг). На нього припадає понад 2/3 усіх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контрактів, що укладаються на світовому ринку аутсорсингу взагалі. До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ІТ-аутсорсингу вдається дедалі більше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компаній, оскільки в їхній діяльності сфера застосування інформаційних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технологій постійно розширюється.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Клієнтами ІТ-аутсорсерів у всьому світі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є транснаціональні промислові корпорації, великі банки, державні установи, малий і середній бізнес. Основними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сферами глобального ІТ-аутсорсингу є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фінансові послуги (майже четвертина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контрактів), енергетика та різні галузі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матеріального виробництва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627280" y="115920"/>
            <a:ext cx="604836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692000" y="188640"/>
            <a:ext cx="7251480" cy="59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Найбільшими у світі</a:t>
            </a: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постачальниками послуг ІТ-аутсорсингу є компанії, зареєстровані у </a:t>
            </a:r>
            <a:r>
              <a:rPr b="0" i="1" lang="uk-UA" sz="2800" spc="-1" strike="noStrike">
                <a:solidFill>
                  <a:srgbClr val="1f497d"/>
                </a:solidFill>
                <a:latin typeface="Arial"/>
              </a:rPr>
              <a:t>США </a:t>
            </a: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1f497d"/>
                </a:solidFill>
                <a:latin typeface="Arial"/>
              </a:rPr>
              <a:t>IBM</a:t>
            </a:r>
            <a:r>
              <a:rPr b="0" i="1" lang="uk-UA" sz="2800" spc="-1" strike="noStrike">
                <a:solidFill>
                  <a:srgbClr val="1f497d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1f497d"/>
                </a:solidFill>
                <a:latin typeface="Arial"/>
              </a:rPr>
              <a:t>Dell</a:t>
            </a:r>
            <a:r>
              <a:rPr b="0" i="1" lang="uk-UA" sz="28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i="1" lang="en-GB" sz="2800" spc="-1" strike="noStrike">
                <a:solidFill>
                  <a:srgbClr val="1f497d"/>
                </a:solidFill>
                <a:latin typeface="Arial"/>
              </a:rPr>
              <a:t>Cognizant</a:t>
            </a:r>
            <a:r>
              <a:rPr b="0" i="1" lang="uk-UA" sz="28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i="1" lang="en-GB" sz="2800" spc="-1" strike="noStrike">
                <a:solidFill>
                  <a:srgbClr val="1f497d"/>
                </a:solidFill>
                <a:latin typeface="Arial"/>
              </a:rPr>
              <a:t>CSC </a:t>
            </a: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та ін.), </a:t>
            </a:r>
            <a:r>
              <a:rPr b="0" i="1" lang="uk-UA" sz="2800" spc="-1" strike="noStrike">
                <a:solidFill>
                  <a:srgbClr val="1f497d"/>
                </a:solidFill>
                <a:latin typeface="Arial"/>
              </a:rPr>
              <a:t>Канаді </a:t>
            </a: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(</a:t>
            </a:r>
            <a:r>
              <a:rPr b="0" i="1" lang="en-GB" sz="2800" spc="-1" strike="noStrike">
                <a:solidFill>
                  <a:srgbClr val="1f497d"/>
                </a:solidFill>
                <a:latin typeface="Arial"/>
              </a:rPr>
              <a:t>CGI</a:t>
            </a: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), </a:t>
            </a:r>
            <a:r>
              <a:rPr b="0" i="1" lang="uk-UA" sz="2800" spc="-1" strike="noStrike">
                <a:solidFill>
                  <a:srgbClr val="1f497d"/>
                </a:solidFill>
                <a:latin typeface="Arial"/>
              </a:rPr>
              <a:t>Ірландії </a:t>
            </a: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(</a:t>
            </a:r>
            <a:r>
              <a:rPr b="0" i="1" lang="en-GB" sz="2800" spc="-1" strike="noStrike">
                <a:solidFill>
                  <a:srgbClr val="1f497d"/>
                </a:solidFill>
                <a:latin typeface="Arial"/>
              </a:rPr>
              <a:t>Accenture</a:t>
            </a: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), </a:t>
            </a:r>
            <a:r>
              <a:rPr b="0" i="1" lang="uk-UA" sz="2800" spc="-1" strike="noStrike">
                <a:solidFill>
                  <a:srgbClr val="1f497d"/>
                </a:solidFill>
                <a:latin typeface="Arial"/>
              </a:rPr>
              <a:t>Франції</a:t>
            </a: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 (</a:t>
            </a:r>
            <a:r>
              <a:rPr b="0" i="1" lang="en-GB" sz="2800" spc="-1" strike="noStrike">
                <a:solidFill>
                  <a:srgbClr val="1f497d"/>
                </a:solidFill>
                <a:latin typeface="Arial"/>
              </a:rPr>
              <a:t>Capgemini</a:t>
            </a: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) та ін.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Водночас</a:t>
            </a:r>
            <a:r>
              <a:rPr b="0" lang="en-GB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майже</a:t>
            </a:r>
            <a:r>
              <a:rPr b="0" lang="en-GB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в</a:t>
            </a: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кожній</a:t>
            </a:r>
            <a:r>
              <a:rPr b="0" lang="en-GB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четвертій</a:t>
            </a:r>
            <a:r>
              <a:rPr b="0" lang="en-GB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найбільшій</a:t>
            </a:r>
            <a:r>
              <a:rPr b="0" lang="en-GB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угоді</a:t>
            </a:r>
            <a:r>
              <a:rPr b="0" lang="en-GB" sz="28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укладеній</a:t>
            </a:r>
            <a:r>
              <a:rPr b="0" lang="en-GB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на</a:t>
            </a:r>
            <a:r>
              <a:rPr b="0" lang="en-GB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світовому</a:t>
            </a:r>
            <a:r>
              <a:rPr b="0" lang="en-GB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ринку</a:t>
            </a:r>
            <a:r>
              <a:rPr b="0" lang="en-GB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аутсорсингових</a:t>
            </a:r>
            <a:r>
              <a:rPr b="0" lang="en-GB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ІТ</a:t>
            </a:r>
            <a:r>
              <a:rPr b="0" lang="en-GB" sz="2800" spc="-1" strike="noStrike">
                <a:solidFill>
                  <a:srgbClr val="1f497d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послуг</a:t>
            </a:r>
            <a:r>
              <a:rPr b="0" lang="en-GB" sz="28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виконавцями</a:t>
            </a:r>
            <a:r>
              <a:rPr b="0" lang="en-GB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є</a:t>
            </a: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спеціалісти</a:t>
            </a:r>
            <a:r>
              <a:rPr b="0" lang="en-GB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з</a:t>
            </a:r>
            <a:r>
              <a:rPr b="0" lang="en-GB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1f497d"/>
                </a:solidFill>
                <a:latin typeface="Arial"/>
              </a:rPr>
              <a:t>Індії</a:t>
            </a:r>
            <a:r>
              <a:rPr b="0" lang="en-GB" sz="2800" spc="-1" strike="noStrike">
                <a:solidFill>
                  <a:srgbClr val="1f497d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Ця країна тривалий час очолює рейтинг привабливості</a:t>
            </a: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країн з ІТ-аутсорсин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411280" y="189000"/>
            <a:ext cx="6193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619280" y="259920"/>
            <a:ext cx="7324560" cy="58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Серед десяти найбільших центрів</a:t>
            </a: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надання ауторсингових послуг у сві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у 2016 р. було 6 індійських міст (</a:t>
            </a:r>
            <a:r>
              <a:rPr b="0" i="1" lang="ru-RU" sz="2800" spc="-1" strike="noStrike">
                <a:solidFill>
                  <a:srgbClr val="1f497d"/>
                </a:solidFill>
                <a:latin typeface="Arial"/>
              </a:rPr>
              <a:t>Бангалор, Мумбай, Делі, Ченнай, Хайдарабад, Пуна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). Значні позиції на світовому</a:t>
            </a:r>
            <a:r>
              <a:rPr b="0" i="1" lang="uk-UA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ринку ІТ-аутсорсингу посідають також</a:t>
            </a:r>
            <a:r>
              <a:rPr b="0" i="1" lang="uk-UA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1f497d"/>
                </a:solidFill>
                <a:latin typeface="Arial"/>
              </a:rPr>
              <a:t>Китай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і країни Південно-Східної Азі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Різко зростають обсяги діяльності ІТ-аутсорсерів</a:t>
            </a: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у країнах Центральної та</a:t>
            </a: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Східної Європи, Латинської Аме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26920" y="6216120"/>
            <a:ext cx="70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трати на інформаційні та комунікаційні технології в 2005 р. у відсотках до основного виробника — США ($1,096,112,600,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85520" y="356760"/>
            <a:ext cx="7962840" cy="16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Arial"/>
              </a:rPr>
              <a:t>Валеохвилинка </a:t>
            </a:r>
            <a:br>
              <a:rPr sz="4400"/>
            </a:br>
            <a:r>
              <a:rPr b="1" lang="uk-UA" sz="4400" spc="-1" strike="noStrike">
                <a:solidFill>
                  <a:srgbClr val="002060"/>
                </a:solidFill>
                <a:latin typeface="Arial"/>
              </a:rPr>
              <a:t>«Супер дихання»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63280" y="2133720"/>
            <a:ext cx="6335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ть дихальної вправи полягає в тому, щоб зробити вдих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затримати дихання, видихнути – робивши чотири кро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Картинки по запросу позитив"/>
          <p:cNvPicPr/>
          <p:nvPr/>
        </p:nvPicPr>
        <p:blipFill>
          <a:blip r:embed="rId2"/>
          <a:stretch/>
        </p:blipFill>
        <p:spPr>
          <a:xfrm>
            <a:off x="2340000" y="3357720"/>
            <a:ext cx="576108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РОЗВИТОК ІТ-АУТСОРСИНГУ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В</a:t>
            </a:r>
            <a:r>
              <a:rPr b="1" lang="uk-UA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УКРАЇНІ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Протягом останніх десятиріч</a:t>
            </a: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розширюється ринок IT-аутсорсингу</a:t>
            </a: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в Україні. Якщо у 2003 р. обсяг ринку становив 110 млн дол. США, то</a:t>
            </a: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у 2016 р. цей показник перевищив</a:t>
            </a: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3 млрд дол. За валютними надходженнями в загальному обсязі українського</a:t>
            </a: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експорту ІТ-послуги посідають третє місце після аграрної та металургійної</a:t>
            </a: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продукці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Картинки по запросу інфографіка аутсорсинг"/>
          <p:cNvPicPr/>
          <p:nvPr/>
        </p:nvPicPr>
        <p:blipFill>
          <a:blip r:embed="rId2"/>
          <a:stretch/>
        </p:blipFill>
        <p:spPr>
          <a:xfrm>
            <a:off x="1943280" y="0"/>
            <a:ext cx="72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411280" y="1557360"/>
            <a:ext cx="651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Сол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Черв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Кис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С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Солод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Жов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Вис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Гірке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3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3456000" cy="230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92360" y="260280"/>
            <a:ext cx="61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1f497d"/>
                </a:solidFill>
                <a:latin typeface="Arial"/>
              </a:rPr>
              <a:t>Якнайшвидш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92000" y="188640"/>
            <a:ext cx="7251480" cy="59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За даними Асоціації IT України, наша країна посідає четверте місце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у світі за кількістю сертифікованих ІТ-спеціалістів (після 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США, Індії, Росії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Це свідчить про наявність величезного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отенціалу зростання галузі. В Україні налічують понад 100 тис. «айтішників», і кожен з них генерує близько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30 тис. дол. США за рік. Низькі розцінки на послуги та велика кількість високопрофесійних працівників є головною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еревагою України.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У глобальному рейтингу країн за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індексом аутсорсингової привабливості Україна у 2016 р. перебувала на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24 місці. За обсягом IT-аутсорсингу вона займає провідне місце серед країн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Центральної та Східної Європи, де її основними конкурентами є 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Польща, Румунія, Білорусь, Угорщина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та 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Чехія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763280" y="260280"/>
            <a:ext cx="72723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Сьогодні в Україні працює більше тисячі ІТ-компаній, понад 100 науково-дослідних центрів і понад 2000 стартапів.</a:t>
            </a:r>
            <a:r>
              <a:rPr b="0" lang="uk-UA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Серед них багато невеликих фірм, що надають широкий спектр послуг для</a:t>
            </a:r>
            <a:r>
              <a:rPr b="0" lang="uk-UA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підприємств малого та середнього бізнесу. 13 компаній з України входять у</a:t>
            </a:r>
            <a:r>
              <a:rPr b="0" lang="uk-UA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100 кращих постачальників послуг аутсорсингу у світі (2017 р.). Це і міжнародні компанії з великими представництвами в Україні, і місцеві ІТ-проекти:</a:t>
            </a:r>
            <a:r>
              <a:rPr b="0" lang="uk-UA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1f497d"/>
                </a:solidFill>
                <a:latin typeface="Arial"/>
              </a:rPr>
              <a:t>ELEKS</a:t>
            </a:r>
            <a:r>
              <a:rPr b="0" i="1" lang="ru-RU" sz="20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i="1" lang="en-GB" sz="2000" spc="-1" strike="noStrike">
                <a:solidFill>
                  <a:srgbClr val="1f497d"/>
                </a:solidFill>
                <a:latin typeface="Arial"/>
              </a:rPr>
              <a:t>N</a:t>
            </a:r>
            <a:r>
              <a:rPr b="0" i="1" lang="ru-RU" sz="2000" spc="-1" strike="noStrike">
                <a:solidFill>
                  <a:srgbClr val="1f497d"/>
                </a:solidFill>
                <a:latin typeface="Arial"/>
              </a:rPr>
              <a:t>-</a:t>
            </a:r>
            <a:r>
              <a:rPr b="0" i="1" lang="en-GB" sz="2000" spc="-1" strike="noStrike">
                <a:solidFill>
                  <a:srgbClr val="1f497d"/>
                </a:solidFill>
                <a:latin typeface="Arial"/>
              </a:rPr>
              <a:t>iX</a:t>
            </a:r>
            <a:r>
              <a:rPr b="0" i="1" lang="ru-RU" sz="20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i="1" lang="en-GB" sz="2000" spc="-1" strike="noStrike">
                <a:solidFill>
                  <a:srgbClr val="1f497d"/>
                </a:solidFill>
                <a:latin typeface="Arial"/>
              </a:rPr>
              <a:t>SoftServe</a:t>
            </a:r>
            <a:r>
              <a:rPr b="0" i="1" lang="ru-RU" sz="20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i="1" lang="en-GB" sz="2000" spc="-1" strike="noStrike">
                <a:solidFill>
                  <a:srgbClr val="1f497d"/>
                </a:solidFill>
                <a:latin typeface="Arial"/>
              </a:rPr>
              <a:t>Miratech</a:t>
            </a:r>
            <a:r>
              <a:rPr b="0" i="1" lang="ru-RU" sz="20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i="1" lang="en-GB" sz="2000" spc="-1" strike="noStrike">
                <a:solidFill>
                  <a:srgbClr val="1f497d"/>
                </a:solidFill>
                <a:latin typeface="Arial"/>
              </a:rPr>
              <a:t>Sigma Software</a:t>
            </a:r>
            <a:r>
              <a:rPr b="0" i="1" lang="ru-RU" sz="20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i="1" lang="en-GB" sz="2000" spc="-1" strike="noStrike">
                <a:solidFill>
                  <a:srgbClr val="1f497d"/>
                </a:solidFill>
                <a:latin typeface="Arial"/>
              </a:rPr>
              <a:t>Softengi</a:t>
            </a:r>
            <a:r>
              <a:rPr b="0" i="1" lang="ru-RU" sz="20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i="1" lang="en-GB" sz="2000" spc="-1" strike="noStrike">
                <a:solidFill>
                  <a:srgbClr val="1f497d"/>
                </a:solidFill>
                <a:latin typeface="Arial"/>
              </a:rPr>
              <a:t>Program</a:t>
            </a:r>
            <a:r>
              <a:rPr b="0" i="1" lang="ru-RU" sz="2000" spc="-1" strike="noStrike">
                <a:solidFill>
                  <a:srgbClr val="1f497d"/>
                </a:solidFill>
                <a:latin typeface="Arial"/>
              </a:rPr>
              <a:t>-</a:t>
            </a:r>
            <a:r>
              <a:rPr b="0" i="1" lang="en-GB" sz="2000" spc="-1" strike="noStrike">
                <a:solidFill>
                  <a:srgbClr val="1f497d"/>
                </a:solidFill>
                <a:latin typeface="Arial"/>
              </a:rPr>
              <a:t>Ace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Найбільшими замовниками для України є США (45 % у загальному обсязі</a:t>
            </a:r>
            <a:r>
              <a:rPr b="0" lang="uk-UA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замовлень), </a:t>
            </a:r>
            <a:r>
              <a:rPr b="0" i="1" lang="ru-RU" sz="2000" spc="-1" strike="noStrike">
                <a:solidFill>
                  <a:srgbClr val="1f497d"/>
                </a:solidFill>
                <a:latin typeface="Arial"/>
              </a:rPr>
              <a:t>Велика Британія, Канада, Австралія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.</a:t>
            </a:r>
            <a:r>
              <a:rPr b="0" lang="uk-UA" sz="2000" spc="-1" strike="noStrike">
                <a:solidFill>
                  <a:srgbClr val="1f497d"/>
                </a:solidFill>
                <a:latin typeface="Arial"/>
              </a:rPr>
              <a:t> ІТ-компанії, які займаються аутсорсингом, є в усіх регіонах Украї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         </a:t>
            </a:r>
            <a:r>
              <a:rPr b="0" lang="uk-UA" sz="2000" spc="-1" strike="noStrike">
                <a:solidFill>
                  <a:srgbClr val="1f497d"/>
                </a:solidFill>
                <a:latin typeface="Arial"/>
              </a:rPr>
              <a:t>Найбільше великих компаній — у </a:t>
            </a:r>
            <a:r>
              <a:rPr b="0" i="1" lang="uk-UA" sz="2000" spc="-1" strike="noStrike">
                <a:solidFill>
                  <a:srgbClr val="1f497d"/>
                </a:solidFill>
                <a:latin typeface="Arial"/>
              </a:rPr>
              <a:t>Києві, Харкові, Львові, Дніпрі </a:t>
            </a:r>
            <a:r>
              <a:rPr b="0" lang="uk-UA" sz="2000" spc="-1" strike="noStrike">
                <a:solidFill>
                  <a:srgbClr val="1f497d"/>
                </a:solidFill>
                <a:latin typeface="Arial"/>
              </a:rPr>
              <a:t>та </a:t>
            </a:r>
            <a:r>
              <a:rPr b="0" i="1" lang="uk-UA" sz="2000" spc="-1" strike="noStrike">
                <a:solidFill>
                  <a:srgbClr val="1f497d"/>
                </a:solidFill>
                <a:latin typeface="Arial"/>
              </a:rPr>
              <a:t>Одесі</a:t>
            </a:r>
            <a:r>
              <a:rPr b="0" lang="uk-UA" sz="2000" spc="-1" strike="noStrike">
                <a:solidFill>
                  <a:srgbClr val="1f497d"/>
                </a:solidFill>
                <a:latin typeface="Arial"/>
              </a:rPr>
              <a:t>, менше — у </a:t>
            </a:r>
            <a:r>
              <a:rPr b="0" i="1" lang="uk-UA" sz="2000" spc="-1" strike="noStrike">
                <a:solidFill>
                  <a:srgbClr val="1f497d"/>
                </a:solidFill>
                <a:latin typeface="Arial"/>
              </a:rPr>
              <a:t>Вінниці, Івано-Франківську, Черкасах, Запоріжжі</a:t>
            </a:r>
            <a:r>
              <a:rPr b="0" lang="uk-UA" sz="2000" spc="-1" strike="noStrike">
                <a:solidFill>
                  <a:srgbClr val="1f49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Поширеними в Україні є послуги</a:t>
            </a:r>
            <a:r>
              <a:rPr b="0" lang="uk-UA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фрілансу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2060"/>
                </a:solidFill>
                <a:latin typeface="Arial"/>
              </a:rPr>
              <a:t>Фрілансер </a:t>
            </a:r>
            <a:r>
              <a:rPr b="1" lang="uk-UA" sz="2400" spc="-1" strike="noStrike">
                <a:solidFill>
                  <a:srgbClr val="002060"/>
                </a:solidFill>
                <a:latin typeface="Arial"/>
              </a:rPr>
              <a:t>(з англ. — </a:t>
            </a:r>
            <a:r>
              <a:rPr b="1" i="1" lang="uk-UA" sz="2400" spc="-1" strike="noStrike">
                <a:solidFill>
                  <a:srgbClr val="002060"/>
                </a:solidFill>
                <a:latin typeface="Arial"/>
              </a:rPr>
              <a:t>вільний митець</a:t>
            </a:r>
            <a:r>
              <a:rPr b="1" lang="uk-UA" sz="2400" spc="-1" strike="noStrike">
                <a:solidFill>
                  <a:srgbClr val="002060"/>
                </a:solidFill>
                <a:latin typeface="Arial"/>
              </a:rPr>
              <a:t>) —вільнонайманець, який сам шукає собі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оекти, може одночасно працювати на</a:t>
            </a:r>
            <a:r>
              <a:rPr b="1" lang="uk-UA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ілька фірм.</a:t>
            </a:r>
            <a:br>
              <a:rPr sz="2400"/>
            </a:br>
            <a:endParaRPr b="1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f81bd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4f81bd"/>
                </a:solidFill>
                <a:latin typeface="Arial"/>
              </a:rPr>
              <a:t>Це робота працівників поза</a:t>
            </a:r>
            <a:r>
              <a:rPr b="0" lang="uk-UA" sz="32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4f81bd"/>
                </a:solidFill>
                <a:latin typeface="Arial"/>
              </a:rPr>
              <a:t>компанією без укладання з ними довго</a:t>
            </a:r>
            <a:r>
              <a:rPr b="0" lang="uk-UA" sz="32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4f81bd"/>
                </a:solidFill>
                <a:latin typeface="Arial"/>
              </a:rPr>
              <a:t>строкових договорів. Україна — серед</a:t>
            </a:r>
            <a:r>
              <a:rPr b="0" lang="uk-UA" sz="32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4f81bd"/>
                </a:solidFill>
                <a:latin typeface="Arial"/>
              </a:rPr>
              <a:t>лідерів у Європі за розробкою програмного забезпечення на засадах фрілан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Arial"/>
              </a:rPr>
              <a:t>Поясніть сутність такої позиції 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4f81bd"/>
                </a:solidFill>
                <a:latin typeface="Arial"/>
              </a:rPr>
              <a:t>Дуже успішний студент за обраним напрямком. Протягом усього терміну навчання навмисно працював в аутсорсингових компаніях за різними напрямками, хоча більш успішною у фінансовому плані та з професійної точки зору була б діяльність за обраною професією. Намагався виконувати роботу під час канікул у різних країнах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Arial"/>
              </a:rPr>
              <a:t>Прийом «Доповни таблицю» 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928880" y="1571760"/>
          <a:ext cx="7014960" cy="3327120"/>
        </p:xfrm>
        <a:graphic>
          <a:graphicData uri="http://schemas.openxmlformats.org/drawingml/2006/table">
            <a:tbl>
              <a:tblPr/>
              <a:tblGrid>
                <a:gridCol w="3508200"/>
                <a:gridCol w="3506760"/>
              </a:tblGrid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доліки аутсорсинг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доліки аутсорсинг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785880" y="357120"/>
          <a:ext cx="8157960" cy="6240240"/>
        </p:xfrm>
        <a:graphic>
          <a:graphicData uri="http://schemas.openxmlformats.org/drawingml/2006/table">
            <a:tbl>
              <a:tblPr/>
              <a:tblGrid>
                <a:gridCol w="4079880"/>
                <a:gridCol w="4078080"/>
              </a:tblGrid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доліки аутсорсинг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доліки аутсорсинг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зростання </a:t>
                      </a: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рентабельності</a:t>
                      </a: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бізнесу</a:t>
                      </a:r>
                      <a:r>
                        <a:rPr b="0" lang="en-US" sz="20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концентрація всіх зусиль на основному бізнес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залучення чужого досвід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надійність та стабільні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гнучкість масштабів бізнесу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сить загроза невиконання конфіденцій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юдський чин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деяких випадках оперативність виконання дій з обслуговування інфраструктури порівняна з наявністю у замовника власного персонал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ртість аутсорсингу часто може бути вищою за вартість ведення обліку внутрішніми працівник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гроза банкрутства аутсорсингової компанії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Arial"/>
              </a:rPr>
              <a:t>Прийом «Плюс - мінус»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Які переваги для спеціалістів роботи на аутсортингову компанію? Які недолі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Які переваги для підприємств у разі залучення спеціалістів на аутсорсинговій основі? Які недолі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Які перевагт країн у разі постачання спеціалістів на аутсортинговій основі і інші країни світу? Які недолі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Arial"/>
              </a:rPr>
              <a:t>Прийом «Незакінчене речення»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Аутсорснг стає значним напрямком 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У світовому масштабі найбільші обсяги аутсорсингу в галузі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Країнами-постачальниками аутсорсингу є переважно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Найбільшими центрами використання аутсорсингових послуг є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Лідерами на ринку програмного забезпечення залишаються …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Картинки по запросу оцінки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Arial"/>
              </a:rPr>
              <a:t>ДОМАШНЄ ЗАВДАННЯ 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Опрацювати параграф підруч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Підготуйте виступ про глобальні проблеми людства за такими темам: проблема війни і миру, проблема тероризму, екологічна проблема, сировинна й енергетична проблема, демографічна та продовольча проблеми, проблема подолання відсталості країн, що розвивають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Arial"/>
              </a:rPr>
              <a:t>Формула уроку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1f497d"/>
                </a:solidFill>
                <a:latin typeface="Arial"/>
              </a:rPr>
              <a:t>(У+О)*(В+С)*Р=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Картинки по запросу позитив"/>
          <p:cNvPicPr/>
          <p:nvPr/>
        </p:nvPicPr>
        <p:blipFill>
          <a:blip r:embed="rId2"/>
          <a:stretch/>
        </p:blipFill>
        <p:spPr>
          <a:xfrm>
            <a:off x="2627280" y="3068640"/>
            <a:ext cx="585648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Похожее изображение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55640" y="694440"/>
            <a:ext cx="8064360" cy="416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4608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ед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лись мудрець довідався, що згорів сусідній кедровий ліс, одразу покликав своїх учні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ьогодні вирушаймо на згарище і будемо садити там кедри, - сказав ві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Хіба ви не знаєте, що кедри виростають аж за дві тисячі років? – здивовано переглянулись учн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к, і саме тому ми вирушаємо просто зараз не можна гаяти ані хвили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того, щоб чогось досягнути, потрібно набратися терпіння та довгий період часу працювати, потрібно набратися терпіння та довгий період часу без очевидних результатів. Хіба варто гаяти б хвилину на шляху до досягнення власної мет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Р.Кушні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Arial"/>
              </a:rPr>
              <a:t>Прийом «Бесіда» 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Які види фінансових послуг здійснюют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Яким є місце України н світовому ринку фінансових послуг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Які країни світу значну частку ВВП формують за рахунок фінансових послуг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У чому різниця між кредитом та інвестицією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У чому сутність офшорних скандалі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Які країни спеціалізуються на офшорних послугах? Що це їм дає? У чому ризики для їхніх клієнт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Arial"/>
              </a:rPr>
              <a:t>Мотивація навчальної та пізнавальної діяльності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Нещодавно на ринку професій поміж абітурієнтів популярними були економісти та юриспруденція. За останні роки бум спричинили ІТ-напрями. На жаль, одним з головних аргументів на користь такого вибору є бажання виїхати за кордон або працювати на іноземну компанію. Затребуваність наших ІТ-спеціалістів за кордоном залишається високою. А що ж рідна країна?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Arial"/>
              </a:rPr>
              <a:t>Прийом «Карта знань» 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97" name="" descr="Картинки по запросу карта знань інформаційні технології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Arial"/>
              </a:rPr>
              <a:t>Прийом «Бесіда»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28880" y="1571760"/>
            <a:ext cx="701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f497d"/>
                </a:solidFill>
                <a:latin typeface="Arial"/>
              </a:rPr>
              <a:t>Що таке програмне забезпече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780000" y="3284640"/>
            <a:ext cx="33112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Arial"/>
              </a:rPr>
              <a:t>Транснаціональні корпорації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95640" y="1268280"/>
            <a:ext cx="6337080" cy="5432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1552320" cy="1552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95280" y="3141720"/>
            <a:ext cx="1563840" cy="15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4T06:23:31Z</dcterms:created>
  <dc:creator>Comp</dc:creator>
  <dc:description/>
  <dc:language>en-US</dc:language>
  <cp:lastModifiedBy>user</cp:lastModifiedBy>
  <dcterms:modified xsi:type="dcterms:W3CDTF">2018-02-04T20:56:53Z</dcterms:modified>
  <cp:revision>24</cp:revision>
  <dc:subject/>
  <dc:title>Слайд 1</dc:title>
</cp:coreProperties>
</file>