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EE4-A559-4077-BDE7-49F4943D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383-2532-40C9-BA95-A0223E7B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BAF-8827-436C-BD84-C347F817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E6A-FA82-41DA-878D-90D881DC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935-6E13-491A-AD22-6688573F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6AA-1405-4693-BB05-C687778A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AD6-F75F-43D9-93B5-84C966A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642-E242-41A4-8F17-0D0179D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326-8C38-4CB3-B5F5-064186EB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B0C-B55E-4242-9011-BE10BB0C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A55-C749-4EA6-909F-A588C4C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EE6-C687-4672-A563-16877BF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E691-5CCB-436D-990C-AD6CCA3C398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F07B-1144-4EF6-AEEB-91E7D57ECA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511-DA0E-4398-B104-6C4E0898C54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2362320" y="6613560"/>
            <a:ext cx="49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6 www.brainybetty.com;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22D-CE8E-456F-8A5A-39DE4FA655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3280" y="3284280"/>
            <a:ext cx="4284720" cy="2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ook Antiqua"/>
              </a:rPr>
              <a:t>ТОЛЕРАНТНЕ СТАВЛЕННЯ  ДО ВІЛ-ПОЗИТИВНИХ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147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Віл-інфіковані – рівні з іншими людьми. На це наголошує загальна Декларація прав людини.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таття 7. Усі люди рівні перед законом і мають право, без будь-якої різниці, на рівний їхній захист законом. Усі люди мають право на рівний захист від  якої б то не було дискримінації, що порушує цю Декларацію, і від якого б то не було підбурювання до такої дискримінації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ОНЯТТЯ  ДИСКРИМІНАЦІ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Дискримінація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– це будь-яка відмінність, виключення, обмеження або перевага, що заперечує або зменшує рівне здійснення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67344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ОЛЕРАНТНІСТЬ – ЦЕ ЗДАТНІСТЬ ПОВАЖАТИ ПОГЛЯДИ І УПОДОБАННЯ ІНШИХ ЛЮДЕЙ, НЕЗАЛЕЖНО ВІД ТОГО, ЧИ ЗБІГАЮТЬСЯ ВОНИ З ТВОЇ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2210040" cy="206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64000" y="2421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932360" y="4797360"/>
            <a:ext cx="2543040" cy="179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258920" y="4869000"/>
            <a:ext cx="273348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732720" y="24922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Червона стрічка – символ боротьби зі СНІДом. Це символ нашого співчуття, підтримки і надії на майбутнє без  СНІ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2438280" cy="179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42920" y="4508640"/>
            <a:ext cx="2514600" cy="181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1685880" cy="271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372360" y="19890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219640" y="4653000"/>
            <a:ext cx="27147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1 ГРУДНЯ – Всесвітній день порозуміння з ВІЛ-інфікованими та хворими на СНІ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267660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372360" y="3645000"/>
            <a:ext cx="2552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ffffff"/>
                </a:solidFill>
                <a:uFillTx/>
                <a:latin typeface="Arial"/>
              </a:rPr>
              <a:t>ПАМ*ЯТКА</a:t>
            </a:r>
            <a:r>
              <a:rPr b="0" i="1" lang="uk-UA" sz="40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1" i="1" lang="uk-UA" sz="4000" spc="-1" strike="noStrike" u="sng">
                <a:solidFill>
                  <a:srgbClr val="ffffff"/>
                </a:solidFill>
                <a:uFillTx/>
                <a:latin typeface="Arial"/>
              </a:rPr>
              <a:t>ПОРА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и розумна люд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Не порушуй прав інш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Не дискримінуй тих, хто живе з ВІ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и цінуєш своє життя та не хочеш позбавити себе майбутнь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Але ніхто з нас не застрахов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Якщо у твого товариша ВІЛ – залишайся його другом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Адже, ВІЛ-інфекція не передається через спілкування, дружбу, обій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ЛЮДИНА МАЄ ПРАВО ЖИТИ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0" y="4365360"/>
            <a:ext cx="3898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Arial"/>
              </a:rPr>
              <a:t>ДЯКУЮ ЗА УВАГУ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44:35Z</dcterms:created>
  <dc:creator>qwerty</dc:creator>
  <dc:description/>
  <dc:language>en-US</dc:language>
  <cp:lastModifiedBy>LilyaPC</cp:lastModifiedBy>
  <dcterms:modified xsi:type="dcterms:W3CDTF">2015-04-05T11:06:52Z</dcterms:modified>
  <cp:revision>5</cp:revision>
  <dc:subject/>
  <dc:title>African American Series</dc:title>
</cp:coreProperties>
</file>