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652320" y="769680"/>
            <a:ext cx="5548320" cy="29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52320" y="4001760"/>
            <a:ext cx="554832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29732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DejaVu Serif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7"/>
          </p:nvPr>
        </p:nvSpPr>
        <p:spPr>
          <a:xfrm>
            <a:off x="3881160" y="-360"/>
            <a:ext cx="29732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marL="216000"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440"/>
            <a:ext cx="29732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marL="216000"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1160" y="8686440"/>
            <a:ext cx="29732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marL="216000"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C2C2CC-60B4-4033-A205-1A021A15A25E}" type="slidenum">
              <a:rPr b="0" lang="ru-RU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465200" y="770040"/>
            <a:ext cx="3925800" cy="2943000"/>
          </a:xfrm>
          <a:prstGeom prst="rect">
            <a:avLst/>
          </a:prstGeom>
          <a:ln w="0">
            <a:noFill/>
          </a:ln>
        </p:spPr>
      </p:sp>
      <p:sp>
        <p:nvSpPr>
          <p:cNvPr id="123" name=""/>
          <p:cNvSpPr/>
          <p:nvPr/>
        </p:nvSpPr>
        <p:spPr>
          <a:xfrm>
            <a:off x="65232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465200" y="770040"/>
            <a:ext cx="3925800" cy="2943000"/>
          </a:xfrm>
          <a:prstGeom prst="rect">
            <a:avLst/>
          </a:prstGeom>
          <a:ln w="0">
            <a:noFill/>
          </a:ln>
        </p:spPr>
      </p:sp>
      <p:sp>
        <p:nvSpPr>
          <p:cNvPr id="137" name=""/>
          <p:cNvSpPr/>
          <p:nvPr/>
        </p:nvSpPr>
        <p:spPr>
          <a:xfrm>
            <a:off x="65232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465200" y="770040"/>
            <a:ext cx="3925800" cy="2943000"/>
          </a:xfrm>
          <a:prstGeom prst="rect">
            <a:avLst/>
          </a:prstGeom>
          <a:ln w="0">
            <a:noFill/>
          </a:ln>
        </p:spPr>
      </p:sp>
      <p:sp>
        <p:nvSpPr>
          <p:cNvPr id="139" name=""/>
          <p:cNvSpPr/>
          <p:nvPr/>
        </p:nvSpPr>
        <p:spPr>
          <a:xfrm>
            <a:off x="65232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465200" y="770040"/>
            <a:ext cx="3925800" cy="2943000"/>
          </a:xfrm>
          <a:prstGeom prst="rect">
            <a:avLst/>
          </a:prstGeom>
          <a:ln w="0">
            <a:noFill/>
          </a:ln>
        </p:spPr>
      </p:sp>
      <p:sp>
        <p:nvSpPr>
          <p:cNvPr id="141" name=""/>
          <p:cNvSpPr/>
          <p:nvPr/>
        </p:nvSpPr>
        <p:spPr>
          <a:xfrm>
            <a:off x="65232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465200" y="770040"/>
            <a:ext cx="3925800" cy="2943000"/>
          </a:xfrm>
          <a:prstGeom prst="rect">
            <a:avLst/>
          </a:prstGeom>
          <a:ln w="0">
            <a:noFill/>
          </a:ln>
        </p:spPr>
      </p:sp>
      <p:sp>
        <p:nvSpPr>
          <p:cNvPr id="125" name=""/>
          <p:cNvSpPr/>
          <p:nvPr/>
        </p:nvSpPr>
        <p:spPr>
          <a:xfrm>
            <a:off x="65232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465200" y="770040"/>
            <a:ext cx="3925800" cy="2943000"/>
          </a:xfrm>
          <a:prstGeom prst="rect">
            <a:avLst/>
          </a:prstGeom>
          <a:ln w="0">
            <a:noFill/>
          </a:ln>
        </p:spPr>
      </p:sp>
      <p:sp>
        <p:nvSpPr>
          <p:cNvPr id="127" name=""/>
          <p:cNvSpPr/>
          <p:nvPr/>
        </p:nvSpPr>
        <p:spPr>
          <a:xfrm>
            <a:off x="65232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465200" y="770040"/>
            <a:ext cx="3925800" cy="2943000"/>
          </a:xfrm>
          <a:prstGeom prst="rect">
            <a:avLst/>
          </a:prstGeom>
          <a:ln w="0">
            <a:noFill/>
          </a:ln>
        </p:spPr>
      </p:sp>
      <p:sp>
        <p:nvSpPr>
          <p:cNvPr id="129" name=""/>
          <p:cNvSpPr/>
          <p:nvPr/>
        </p:nvSpPr>
        <p:spPr>
          <a:xfrm>
            <a:off x="65232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465200" y="770040"/>
            <a:ext cx="3925800" cy="2943000"/>
          </a:xfrm>
          <a:prstGeom prst="rect">
            <a:avLst/>
          </a:prstGeom>
          <a:ln w="0">
            <a:noFill/>
          </a:ln>
        </p:spPr>
      </p:sp>
      <p:sp>
        <p:nvSpPr>
          <p:cNvPr id="131" name=""/>
          <p:cNvSpPr/>
          <p:nvPr/>
        </p:nvSpPr>
        <p:spPr>
          <a:xfrm>
            <a:off x="65232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465200" y="770040"/>
            <a:ext cx="3925800" cy="2943000"/>
          </a:xfrm>
          <a:prstGeom prst="rect">
            <a:avLst/>
          </a:prstGeom>
          <a:ln w="0">
            <a:noFill/>
          </a:ln>
        </p:spPr>
      </p:sp>
      <p:sp>
        <p:nvSpPr>
          <p:cNvPr id="133" name=""/>
          <p:cNvSpPr/>
          <p:nvPr/>
        </p:nvSpPr>
        <p:spPr>
          <a:xfrm>
            <a:off x="65232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465200" y="770040"/>
            <a:ext cx="3925800" cy="2943000"/>
          </a:xfrm>
          <a:prstGeom prst="rect">
            <a:avLst/>
          </a:prstGeom>
          <a:ln w="0">
            <a:noFill/>
          </a:ln>
        </p:spPr>
      </p:sp>
      <p:sp>
        <p:nvSpPr>
          <p:cNvPr id="135" name=""/>
          <p:cNvSpPr/>
          <p:nvPr/>
        </p:nvSpPr>
        <p:spPr>
          <a:xfrm>
            <a:off x="65232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B19F-0EF4-484F-B0DF-7A60671DC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55320" y="260280"/>
            <a:ext cx="483084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54200"/>
            <a:ext cx="822636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422960"/>
            <a:ext cx="822636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5575-07BC-4845-A576-0B9167CB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55320" y="260280"/>
            <a:ext cx="483084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54200"/>
            <a:ext cx="401436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54200"/>
            <a:ext cx="401436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422960"/>
            <a:ext cx="401436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4422960"/>
            <a:ext cx="401436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6AF4-E465-481B-B620-E5320D0F5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55320" y="260280"/>
            <a:ext cx="483084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54200"/>
            <a:ext cx="2648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54200"/>
            <a:ext cx="2648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54200"/>
            <a:ext cx="2648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422960"/>
            <a:ext cx="2648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4422960"/>
            <a:ext cx="2648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4422960"/>
            <a:ext cx="2648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ADA8-9FC2-428A-A25D-799E8C60C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B28F-201B-4FC2-8252-49A4F1384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55320" y="260280"/>
            <a:ext cx="483084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654200"/>
            <a:ext cx="822636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3019-5D81-4EFB-8E59-01C95449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55320" y="260280"/>
            <a:ext cx="483084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54200"/>
            <a:ext cx="822636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D5255-C228-42AF-97A5-75D6E93A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55320" y="260280"/>
            <a:ext cx="483084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54200"/>
            <a:ext cx="401436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2440" y="1654200"/>
            <a:ext cx="401436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3F9F-713E-4D5E-9205-85F4AFBB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55320" y="260280"/>
            <a:ext cx="483084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715B-3F99-4265-B487-1C6F08BE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155320" y="260280"/>
            <a:ext cx="48308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DEFD-DE0E-40A7-8A67-06CD33B2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55320" y="260280"/>
            <a:ext cx="483084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54200"/>
            <a:ext cx="401436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2440" y="1654200"/>
            <a:ext cx="401436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422960"/>
            <a:ext cx="401436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E5EE-6118-46B5-B4BC-F24012E4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55320" y="260280"/>
            <a:ext cx="483084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54200"/>
            <a:ext cx="822636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EA41-C105-4BB8-A32C-AB8C725B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55320" y="260280"/>
            <a:ext cx="483084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54200"/>
            <a:ext cx="401436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440" y="1654200"/>
            <a:ext cx="401436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2440" y="4422960"/>
            <a:ext cx="401436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578C-0E2D-40D0-8AF4-0301EF33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55320" y="260280"/>
            <a:ext cx="483084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54200"/>
            <a:ext cx="401436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440" y="1654200"/>
            <a:ext cx="401436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422960"/>
            <a:ext cx="822636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3ABA-0B98-4570-90A2-3890B36A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55320" y="260280"/>
            <a:ext cx="483084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54200"/>
            <a:ext cx="822636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422960"/>
            <a:ext cx="822636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8D18-B079-4373-96F3-D7ECF96F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55320" y="260280"/>
            <a:ext cx="483084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54200"/>
            <a:ext cx="401436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2440" y="1654200"/>
            <a:ext cx="401436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422960"/>
            <a:ext cx="401436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2440" y="4422960"/>
            <a:ext cx="401436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EFAE-5B81-48F9-98EF-8723E319C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55320" y="260280"/>
            <a:ext cx="483084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54200"/>
            <a:ext cx="2648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8200" y="1654200"/>
            <a:ext cx="2648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9560" y="1654200"/>
            <a:ext cx="2648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422960"/>
            <a:ext cx="2648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8200" y="4422960"/>
            <a:ext cx="2648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9560" y="4422960"/>
            <a:ext cx="2648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4738-6FEC-4D8C-974F-0EE573AD7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55320" y="260280"/>
            <a:ext cx="483084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54200"/>
            <a:ext cx="822636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FB88-B164-4C68-B4FC-ACFEA174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55320" y="260280"/>
            <a:ext cx="483084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54200"/>
            <a:ext cx="401436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54200"/>
            <a:ext cx="401436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256B-28CD-46E7-89D1-362F2F02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55320" y="260280"/>
            <a:ext cx="483084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F917-0D63-4225-9A2A-44B64716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55320" y="260280"/>
            <a:ext cx="48308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9320-74E9-42B2-AF6C-95B67B28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55320" y="260280"/>
            <a:ext cx="483084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54200"/>
            <a:ext cx="401436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54200"/>
            <a:ext cx="401436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422960"/>
            <a:ext cx="401436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FA09-E1C6-4BC4-86BE-22B82DED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55320" y="260280"/>
            <a:ext cx="483084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54200"/>
            <a:ext cx="401436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54200"/>
            <a:ext cx="401436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4422960"/>
            <a:ext cx="401436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7CD5-34C2-467B-977F-35AF536E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55320" y="260280"/>
            <a:ext cx="483084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54200"/>
            <a:ext cx="401436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54200"/>
            <a:ext cx="401436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422960"/>
            <a:ext cx="822636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BFE8-2C95-4404-BED7-B879628F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5688BE-15C9-4993-94E6-98F463712C4E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55320" y="260280"/>
            <a:ext cx="483084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654200"/>
            <a:ext cx="822636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marL="216000"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marL="216000"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marL="216000"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D5A2C-891A-4C2A-AB76-8F763BB24496}" type="slidenum">
              <a:rPr b="0" lang="ru-RU" sz="1400" spc="-1" strike="noStrike">
                <a:solidFill>
                  <a:srgbClr val="ffffff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19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-8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 complim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ay as more compliments as possible to a girl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581280" y="2271600"/>
            <a:ext cx="1981440" cy="23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780000" y="256536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he adventures of Tom Sawyer” by Mark Twai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700360" y="2333520"/>
            <a:ext cx="3495600" cy="45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20720" y="1728720"/>
            <a:ext cx="784872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eam 1                                         Team 2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orm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Hobby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avourite subject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Motto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4040" y="216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e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mpetition of captai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Name as many words as you can which begin  from the letter ‘’B’’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256360" y="2952720"/>
            <a:ext cx="381636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aking up the word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Make up as many words as you can from the next letters in 2 minutes</a:t>
            </a:r>
            <a:r>
              <a:rPr b="0" lang="uk-UA" sz="29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I,P,K,O,L,B,E,P,A,N,T,R,V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03280" y="3137040"/>
            <a:ext cx="8062920" cy="34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95640" y="256536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63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7066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overb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Give the Ukrainian equivalents to the following English proverbs and saying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36720" y="2808360"/>
            <a:ext cx="727236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780000" y="256536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 po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ind your half of the heart and read the poem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348000" y="285264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25T07:07:40Z</dcterms:created>
  <dc:creator>АИ</dc:creator>
  <dc:description/>
  <dc:language>en-US</dc:language>
  <cp:lastModifiedBy>АИ</cp:lastModifiedBy>
  <dcterms:modified xsi:type="dcterms:W3CDTF">2018-01-29T17:27:22Z</dcterms:modified>
  <cp:revision>4</cp:revision>
  <dc:subject/>
  <dc:title>Слайд 1</dc:title>
</cp:coreProperties>
</file>