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53D-7509-4196-9F77-0DDF8603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D9F-0257-4155-B138-8233A97A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4AB-5807-44F4-8FAF-B8414D1C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DD6-6B6B-4D6F-890B-ACBCF927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C77C-3041-456C-B701-5C76D3FE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ECA9-BE22-4F22-9F29-FFD7CEA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661-61B3-4FCF-A6C6-A511A08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B8A8-D408-40BC-A3D7-336F03AD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FA74-97D3-4F3A-BC06-2AD8A804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FAB-EA23-47DC-A057-24B6A91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8AAA-E4CE-40C9-B304-0EE5A35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8EE-039C-43E2-B769-98C9E018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4529-AD3B-4E24-A443-55C6DF62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ACDA-EE22-4F12-9EBF-16342C0E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BD2-F7EA-46BC-88BC-5C99E47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E17F-3075-4D9A-B2AE-569D173D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0B0F-6BCC-451E-B676-34A764EC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0C5-7E1D-4C7E-B73C-3CCCD6A0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912-0F41-4897-9C33-BDBDF37D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B3A-C81D-4F77-96A1-A8FC2B88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D45-764B-444C-B464-D680D6F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989-9BE9-45FB-A689-6DE6289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8A8-6361-457F-A0DE-1A193015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7F4-B710-44F8-BCB6-69CF4EF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1BA-1071-4A58-A9E9-044A5C45A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DB8E-7665-438B-996B-08D8B008C0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205092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9" descr=""/>
          <p:cNvPicPr/>
          <p:nvPr/>
        </p:nvPicPr>
        <p:blipFill>
          <a:blip r:embed="rId2"/>
          <a:stretch/>
        </p:blipFill>
        <p:spPr>
          <a:xfrm>
            <a:off x="1116000" y="0"/>
            <a:ext cx="6985080" cy="5148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4"/>
          <a:stretch/>
        </p:blipFill>
        <p:spPr>
          <a:xfrm>
            <a:off x="802944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7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Оцініть свою роботу за «шкалою успіху»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b050"/>
                </a:solidFill>
                <a:uFillTx/>
                <a:latin typeface="Arial"/>
              </a:rPr>
              <a:t>Я  ЗНАЮ</a:t>
            </a:r>
            <a:r>
              <a:rPr b="0" lang="uk-UA" sz="3200" spc="-1" strike="noStrike">
                <a:solidFill>
                  <a:srgbClr val="00b050"/>
                </a:solidFill>
                <a:latin typeface="Arial"/>
              </a:rPr>
              <a:t> ………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c000"/>
                </a:solidFill>
                <a:uFillTx/>
                <a:latin typeface="Arial"/>
              </a:rPr>
              <a:t>Я  ВМІЮ</a:t>
            </a:r>
            <a:r>
              <a:rPr b="0" lang="uk-UA" sz="3200" spc="-1" strike="noStrike">
                <a:solidFill>
                  <a:srgbClr val="ffc000"/>
                </a:solidFill>
                <a:latin typeface="Arial"/>
              </a:rPr>
              <a:t> ………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7030a0"/>
                </a:solidFill>
                <a:uFillTx/>
                <a:latin typeface="Arial"/>
              </a:rPr>
              <a:t>Я  ЦІНУЮ</a:t>
            </a:r>
            <a:r>
              <a:rPr b="0" lang="uk-UA" sz="3200" spc="-1" strike="noStrike">
                <a:solidFill>
                  <a:srgbClr val="7030a0"/>
                </a:solidFill>
                <a:latin typeface="Arial"/>
              </a:rPr>
              <a:t> ……..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69236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Надії не полишай, серцем не охолоняй.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Arial"/>
              </a:rPr>
              <a:t>Гра “Склади речення”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363636"/>
                </a:solidFill>
                <a:latin typeface="Arial"/>
              </a:rPr>
              <a:t>Літо, сім</a:t>
            </a:r>
            <a:r>
              <a:rPr b="1" lang="en-US" sz="4800" spc="-1" strike="noStrike">
                <a:solidFill>
                  <a:srgbClr val="363636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363636"/>
                </a:solidFill>
                <a:latin typeface="Arial"/>
              </a:rPr>
              <a:t>я, ліс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500040" y="328608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36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63636"/>
                </a:solidFill>
                <a:latin typeface="Arial"/>
              </a:rPr>
              <a:t>Село, бабуся, яблу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571680" y="4857840"/>
            <a:ext cx="807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636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63636"/>
                </a:solidFill>
                <a:latin typeface="Arial"/>
              </a:rPr>
              <a:t>Школа, твір, Україн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971640" y="0"/>
            <a:ext cx="481788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8"/>
          <p:cNvSpPr txBox="1"/>
          <p:nvPr/>
        </p:nvSpPr>
        <p:spPr>
          <a:xfrm rot="5400000">
            <a:off x="-2601360" y="3042360"/>
            <a:ext cx="604836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ОНВАЛІЯ</a:t>
            </a:r>
            <a:endParaRPr b="0" lang="en-US" sz="4000" spc="1" strike="noStrike">
              <a:ln w="9360">
                <a:solidFill>
                  <a:srgbClr val="00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4" name="WordArt 13"/>
          <p:cNvSpPr txBox="1"/>
          <p:nvPr/>
        </p:nvSpPr>
        <p:spPr>
          <a:xfrm>
            <a:off x="5940360" y="189000"/>
            <a:ext cx="32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ли Лесі виповнилося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3 років,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WordArt 14"/>
          <p:cNvSpPr txBox="1"/>
          <p:nvPr/>
        </p:nvSpPr>
        <p:spPr>
          <a:xfrm>
            <a:off x="6300720" y="1197000"/>
            <a:ext cx="2371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журналі " Зоря"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 м. Львові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WordArt 15"/>
          <p:cNvSpPr txBox="1"/>
          <p:nvPr/>
        </p:nvSpPr>
        <p:spPr>
          <a:xfrm>
            <a:off x="6012000" y="2349360"/>
            <a:ext cx="28954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уло опубліковано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її вірш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" name="WordArt 16"/>
          <p:cNvSpPr txBox="1"/>
          <p:nvPr/>
        </p:nvSpPr>
        <p:spPr>
          <a:xfrm>
            <a:off x="5796000" y="3933720"/>
            <a:ext cx="3203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з того часу пішли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всьому світу прекрасні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етичні рядки, підписані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дим ім'ям 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17"/>
          <p:cNvSpPr txBox="1"/>
          <p:nvPr/>
        </p:nvSpPr>
        <p:spPr>
          <a:xfrm>
            <a:off x="6012000" y="5877000"/>
            <a:ext cx="28810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країнка</a:t>
            </a:r>
            <a:endParaRPr b="0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29" name="WordArt 18"/>
          <p:cNvSpPr txBox="1"/>
          <p:nvPr/>
        </p:nvSpPr>
        <p:spPr>
          <a:xfrm>
            <a:off x="5940360" y="3357720"/>
            <a:ext cx="309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Конвалія".</a:t>
            </a:r>
            <a:endParaRPr b="0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929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Гра «Поділіть і прочитайте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356840"/>
            <a:ext cx="9144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363636"/>
                </a:solidFill>
                <a:latin typeface="Arial"/>
              </a:rPr>
              <a:t>«КрасоУкраїни,Поділля!»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63636"/>
                </a:solidFill>
                <a:latin typeface="Arial"/>
              </a:rPr>
              <a:t>«Снігморозомпоморозив…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63636"/>
                </a:solidFill>
                <a:latin typeface="Arial"/>
              </a:rPr>
              <a:t>«Вишенькичерешеньки»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363636"/>
                </a:solidFill>
                <a:latin typeface="Arial"/>
              </a:rPr>
              <a:t>«Назеленомугорбочку», «Мамо,ідевжезима»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http://mixailova.ru/wp-content/uploads/2016/03/vesna.jpeg"/>
          <p:cNvPicPr/>
          <p:nvPr/>
        </p:nvPicPr>
        <p:blipFill>
          <a:blip r:embed="rId1"/>
          <a:stretch/>
        </p:blipFill>
        <p:spPr>
          <a:xfrm>
            <a:off x="1500120" y="0"/>
            <a:ext cx="628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2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Творче завдання в групах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143000"/>
            <a:ext cx="8501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ласти і записати продовження вірш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4800" spc="-1" strike="noStrike">
                <a:solidFill>
                  <a:srgbClr val="00b050"/>
                </a:solidFill>
                <a:latin typeface="Arial"/>
              </a:rPr>
              <a:t>«Весна, весна, до нас прийшла..</a:t>
            </a:r>
            <a:r>
              <a:rPr b="1" lang="uk-UA" sz="4800" spc="-1" strike="noStrike">
                <a:solidFill>
                  <a:srgbClr val="00b050"/>
                </a:solidFill>
                <a:latin typeface="Arial"/>
              </a:rPr>
              <a:t>»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1" descr="C:\Users\Misha\Desktop\TryptyhIvanovoi1.jpg"/>
          <p:cNvPicPr/>
          <p:nvPr/>
        </p:nvPicPr>
        <p:blipFill>
          <a:blip r:embed="rId1"/>
          <a:stretch/>
        </p:blipFill>
        <p:spPr>
          <a:xfrm>
            <a:off x="1571760" y="52560"/>
            <a:ext cx="6072120" cy="67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Продовжіть речення 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2060"/>
                </a:solidFill>
                <a:latin typeface="Arial"/>
              </a:rPr>
              <a:t>Коли  я читаю вірш Лесі Українки «Давня весна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-Я бачу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- Я чую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Arial"/>
              </a:rPr>
              <a:t>- Я відчуваю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5:18:46Z</dcterms:created>
  <dc:creator>User</dc:creator>
  <dc:description/>
  <dc:language>en-US</dc:language>
  <cp:lastModifiedBy>Admin</cp:lastModifiedBy>
  <dcterms:modified xsi:type="dcterms:W3CDTF">2018-02-08T06:59:13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6000000000001024140</vt:lpwstr>
  </property>
</Properties>
</file>