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DFE-BA1D-4F9D-93F7-9805EEE2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42F-B90A-4D8D-A6B6-9422AE0C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11E-3D0E-4704-A361-16F546AB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B8C-D5D3-43C7-B15C-979D1C8B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08CE-57C4-4381-9640-5C0C2683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E4D1-6E6D-48FE-8507-7A319A7F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40A9-4965-4651-A177-72EA629F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82CF-AC80-4A28-B3A5-6FDA8BE9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DDA0-0B9C-4332-B058-6C6B77F2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3E12-5A50-4362-8531-EC075B52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08CC-2B07-4391-8299-2585007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475-8D11-4632-A658-740964DA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2B9E-8C66-4E12-B8BD-1B9E647E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5EE7-2BC0-4A5B-9BD9-675EE62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45DA-D300-4A04-953A-B773F5B6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6570-0AAA-4880-8E2A-BC0D821A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950B-60A8-4DF3-9C3B-FF865D7B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C273-1452-49DD-8E98-FB3D060D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9100-8E00-4060-AF6E-F3CCE31D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21D4-81C1-4C27-B9F9-1E540B8F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5C96-37C2-405F-B626-28BA6421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260F-CA60-4BD1-8B0B-FE7CA5C9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3DF-4AC4-4A07-BEFE-5AF69821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33FA-6650-4D29-9027-1CF527D1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50C8-E40B-475B-BA60-D98DA2EF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C024-9F3E-41CB-837F-20F51DA0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9FB3-BCEC-4926-907A-CEBB3D70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6B5E-33F0-4093-924E-574589FA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E573-E618-4609-B12F-786358D9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8330B-F6CF-4FBA-838A-437B2090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445C-087A-44C8-B522-513904E4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42EF-8140-4D4F-A9A5-55297E63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2B25E-D265-47A6-95CF-529E6EE7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1CB-8904-47CC-8BF3-5E56D2CD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79524-4CB6-40D5-B3AA-740BEE14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7344-8EC4-4043-A145-B50E66D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D405-1454-4809-88CE-EAD4CC8C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2825-F7BD-44CD-A73F-D40C75C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01EE9-7105-4C1F-9148-15AF0109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AC7F-754A-4A90-947C-70BD402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A656-549D-4E01-9AB7-8A55302E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C286-D348-48B7-9086-D6CCF4F0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7A5CE-EFAB-4BD5-B01E-F13B509D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21E8D-C0B1-40E2-9231-357F5542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13D-9164-4C2D-ADE4-24F31375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3FA2A-5EE3-4521-ABA9-7D1479C1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1EAE0-A6C6-4785-ACA4-2B6BB012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08BC-C698-42C6-9A5E-F23E763C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0B21-A5A5-4A9B-A985-9400EDC0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4E591-0CCE-4428-B361-F58AABF3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8BC6A-0366-447B-B5B5-72021499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FA903-88F5-47FD-B4F8-C61A3424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94B64-8056-4F95-920F-B67D18F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F45F4-12C8-4D39-A422-5DF6C2EE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F3E0-8A5B-4367-AEE5-4C87D425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D66-E99B-4B9C-B5CF-BDC00F56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E6A3-102A-4997-941F-78F287FF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B9CEA-B683-41E6-9982-907E1FCB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32995-D5D5-42C7-A9F1-B4A5B047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F9D90-CE5F-491E-9974-769945BD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22301-D2C6-47CC-A329-8D0177B0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2516B-C4C2-404A-8FC9-0EABCEC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CAC65-7AC0-4AE0-88AA-5C8C5F1E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CFD74-9CD5-4DC0-A727-979FDC9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3E76F-5D72-4B45-8F89-876FDE04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9C5A5-D36E-4B04-B2D3-BD6E202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B01-3E7A-4342-986A-EE71AFAC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5A46-6C0F-4AD6-88B5-06E786CF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5940-F288-453F-B0F6-961B1B02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FC437-D7B8-43DB-8943-70CEE6E3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604D7-E6D3-417C-9DC1-E20B7230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450E6-704C-48C3-A384-AA4F06BC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FE6DD-7343-412B-A303-C3E97B61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A3E3E-3862-489A-8852-7E84C694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8E7C-551A-4D4F-9482-AFA7F496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73008-4427-4A81-9B4B-B71C9F9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65705-EB1F-4706-A6D6-9CCFC93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2AC-E918-4A24-9AD2-45F8A17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77CF6-70F8-429D-B94A-D07E0FEE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40724-7217-47D9-AC53-288A5D8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BEE4A-9B90-43E0-BD05-BBB9E804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7E347-E7F3-4378-B452-42BDAE3A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D27BD-9A05-4AAD-91E5-0328BFCF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21B-4FB1-4F96-B5D3-850035AA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2B5C-8EFF-47B9-B70D-E44A6F9EA6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4367-2FFF-49B4-8C87-A1738D2BE3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447-B12B-479D-BBA2-582218D3FA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ABAE-CD21-4DF8-8A28-0EE5649F3D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1365-374F-46C1-A9DD-DC43CBFC09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A0DC-A64E-47D7-ABAB-27C31E133D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AD96-0976-4BA1-8A2C-A666B6325D1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943840" cy="52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</a:t>
            </a:r>
            <a:r>
              <a:rPr b="0" lang="uk-UA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ієслова I і II </a:t>
            </a:r>
            <a:r>
              <a:rPr b="0" lang="uk-UA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ієвідмін.</a:t>
            </a:r>
            <a:br>
              <a:rPr sz="5400"/>
            </a:br>
            <a:r>
              <a:rPr b="0" lang="uk-UA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Букви</a:t>
            </a:r>
            <a:r>
              <a:rPr b="0" lang="uk-UA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е, и в особових</a:t>
            </a:r>
            <a:br>
              <a:rPr sz="5400"/>
            </a:br>
            <a:r>
              <a:rPr b="0" lang="uk-UA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закінченнях дієслів </a:t>
            </a:r>
            <a:br>
              <a:rPr sz="5400"/>
            </a:br>
            <a:r>
              <a:rPr b="0" lang="uk-UA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I і II дієвідмін.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84000" y="5300640"/>
            <a:ext cx="81435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ам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тай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єслова </a:t>
            </a: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оти, боротися, полоти, хотіти, іржати, сопіти, гудіти, ревіти, сипат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ежать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 I дієвідмі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дієвідміна               II дієвідмі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уть (-ють)                       - ать (-ять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и-читають              сидіти-сидя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іх особових закінченнях дієслі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(є)                               и (ї)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єш , читаєте            сидиш, сидите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C:\Users\Admin\Desktop\-16-1024.jpg"/>
          <p:cNvPicPr/>
          <p:nvPr/>
        </p:nvPicPr>
        <p:blipFill>
          <a:blip r:embed="rId1"/>
          <a:stretch/>
        </p:blipFill>
        <p:spPr>
          <a:xfrm>
            <a:off x="971640" y="260280"/>
            <a:ext cx="79628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3" descr="C:\Users\Admin\Desktop\-18-638.jpg"/>
          <p:cNvPicPr/>
          <p:nvPr/>
        </p:nvPicPr>
        <p:blipFill>
          <a:blip r:embed="rId1"/>
          <a:stretch/>
        </p:blipFill>
        <p:spPr>
          <a:xfrm>
            <a:off x="1533600" y="1719360"/>
            <a:ext cx="6076800" cy="3419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Admin\Desktop\-18-638.jpg"/>
          <p:cNvPicPr/>
          <p:nvPr/>
        </p:nvPicPr>
        <p:blipFill>
          <a:blip r:embed="rId2"/>
          <a:stretch/>
        </p:blipFill>
        <p:spPr>
          <a:xfrm>
            <a:off x="1042920" y="260280"/>
            <a:ext cx="7921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Picture 2" descr="C:\Users\Admin\Desktop\slide-16.jpg"/>
          <p:cNvPicPr/>
          <p:nvPr/>
        </p:nvPicPr>
        <p:blipFill>
          <a:blip r:embed="rId1"/>
          <a:stretch/>
        </p:blipFill>
        <p:spPr>
          <a:xfrm>
            <a:off x="900000" y="33336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C:\Users\Admin\Desktop\-19-638.jpg"/>
          <p:cNvPicPr/>
          <p:nvPr/>
        </p:nvPicPr>
        <p:blipFill>
          <a:blip r:embed="rId1"/>
          <a:stretch/>
        </p:blipFill>
        <p:spPr>
          <a:xfrm>
            <a:off x="1116000" y="260280"/>
            <a:ext cx="7777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2" descr="C:\Users\Admin\Desktop\-21-1024.jpg"/>
          <p:cNvPicPr/>
          <p:nvPr/>
        </p:nvPicPr>
        <p:blipFill>
          <a:blip r:embed="rId1"/>
          <a:stretch/>
        </p:blipFill>
        <p:spPr>
          <a:xfrm>
            <a:off x="1042920" y="260280"/>
            <a:ext cx="79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Picture 2" descr="C:\Users\Admin\Desktop\slide-21.jpg"/>
          <p:cNvPicPr/>
          <p:nvPr/>
        </p:nvPicPr>
        <p:blipFill>
          <a:blip r:embed="rId1"/>
          <a:stretch/>
        </p:blipFill>
        <p:spPr>
          <a:xfrm>
            <a:off x="900000" y="189000"/>
            <a:ext cx="813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             </a:t>
            </a:r>
            <a:br>
              <a:rPr sz="3900"/>
            </a:b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         </a:t>
            </a: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Відремонтуй слова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овчете, лежить, кажеш, свариш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рієте, аплодуєте, ловете, чекаєт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лиш, сиплеш, пишеш, клеїш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             </a:t>
            </a:r>
            <a:br>
              <a:rPr sz="3900"/>
            </a:b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         </a:t>
            </a: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Відремонтуй слова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Мовч</a:t>
            </a:r>
            <a:r>
              <a:rPr b="0" lang="uk-UA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ить, кажеш, свариш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рієте, аплодуєте,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в</a:t>
            </a:r>
            <a:r>
              <a:rPr b="0" lang="uk-UA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каєт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Пол</a:t>
            </a:r>
            <a:r>
              <a:rPr b="0" lang="uk-UA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плеш, пишеш, клеїш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дієвідміна               II дієвідмі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уть (-ють)                       - ать (-ять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и-читають              сидіти-сидя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8" name="Picture 2" descr="C:\Users\Admin\Desktop\-28-1024.jpg"/>
          <p:cNvPicPr/>
          <p:nvPr/>
        </p:nvPicPr>
        <p:blipFill>
          <a:blip r:embed="rId1"/>
          <a:stretch/>
        </p:blipFill>
        <p:spPr>
          <a:xfrm>
            <a:off x="971640" y="115920"/>
            <a:ext cx="8064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C:\Users\Admin\Desktop\-29-1024.jpg"/>
          <p:cNvPicPr/>
          <p:nvPr/>
        </p:nvPicPr>
        <p:blipFill>
          <a:blip r:embed="rId1"/>
          <a:stretch/>
        </p:blipFill>
        <p:spPr>
          <a:xfrm>
            <a:off x="1116000" y="333360"/>
            <a:ext cx="78184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2" descr="C:\Users\Admin\Desktop\-31-1024.jpg"/>
          <p:cNvPicPr/>
          <p:nvPr/>
        </p:nvPicPr>
        <p:blipFill>
          <a:blip r:embed="rId1"/>
          <a:stretch/>
        </p:blipFill>
        <p:spPr>
          <a:xfrm>
            <a:off x="971640" y="260280"/>
            <a:ext cx="8172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2" descr="C:\Users\Admin\Desktop\-33-1024.jpg"/>
          <p:cNvPicPr/>
          <p:nvPr/>
        </p:nvPicPr>
        <p:blipFill>
          <a:blip r:embed="rId1"/>
          <a:stretch/>
        </p:blipFill>
        <p:spPr>
          <a:xfrm>
            <a:off x="1042920" y="189000"/>
            <a:ext cx="78915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6" name="Picture 2" descr="C:\Users\Admin\Desktop\slide-29.jpg"/>
          <p:cNvPicPr/>
          <p:nvPr/>
        </p:nvPicPr>
        <p:blipFill>
          <a:blip r:embed="rId1"/>
          <a:stretch/>
        </p:blipFill>
        <p:spPr>
          <a:xfrm>
            <a:off x="1187280" y="260280"/>
            <a:ext cx="777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Picture 2" descr="C:\Users\Admin\Desktop\-32-1024.jpg"/>
          <p:cNvPicPr/>
          <p:nvPr/>
        </p:nvPicPr>
        <p:blipFill>
          <a:blip r:embed="rId1"/>
          <a:stretch/>
        </p:blipFill>
        <p:spPr>
          <a:xfrm>
            <a:off x="1252440" y="260280"/>
            <a:ext cx="7712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0" name="Picture 2" descr="C:\Users\Admin\Desktop\-34-1024 (1).jpg"/>
          <p:cNvPicPr/>
          <p:nvPr/>
        </p:nvPicPr>
        <p:blipFill>
          <a:blip r:embed="rId1"/>
          <a:stretch/>
        </p:blipFill>
        <p:spPr>
          <a:xfrm>
            <a:off x="1116000" y="333360"/>
            <a:ext cx="78184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            </a:t>
            </a: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Фразеологічна хвилинк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зі (не валятися)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виходити) з голов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ігу взимку (не випросити) 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мерзле (горіти)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носа (не підточити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            </a:t>
            </a:r>
            <a:r>
              <a:rPr b="1" lang="uk-UA" sz="3900" spc="-1" strike="noStrike">
                <a:solidFill>
                  <a:srgbClr val="572314"/>
                </a:solidFill>
                <a:latin typeface="Corbel"/>
              </a:rPr>
              <a:t>Фразеологічна хвилинк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зі не валя</a:t>
            </a: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ся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ход</a:t>
            </a: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 з голов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ігу взимку не випрос</a:t>
            </a: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 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мерзле гор</a:t>
            </a: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носа не підточ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Домашнє завд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ити §12 с.40-41, виконати вправу 115,*записати 5 прислі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в, визначити в дієсловах вид, час, дієвідміну, число, особу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C:\Users\Admin\Desktop\-4-638.jpg"/>
          <p:cNvPicPr/>
          <p:nvPr/>
        </p:nvPicPr>
        <p:blipFill>
          <a:blip r:embed="rId1"/>
          <a:stretch/>
        </p:blipFill>
        <p:spPr>
          <a:xfrm>
            <a:off x="971640" y="333360"/>
            <a:ext cx="7993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3" descr="C:\Users\Admin\Desktop\-11-638.jpg"/>
          <p:cNvPicPr/>
          <p:nvPr/>
        </p:nvPicPr>
        <p:blipFill>
          <a:blip r:embed="rId1"/>
          <a:stretch/>
        </p:blipFill>
        <p:spPr>
          <a:xfrm>
            <a:off x="1116000" y="333360"/>
            <a:ext cx="7777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4" descr="C:\Users\Admin\Desktop\-8-638.jpg"/>
          <p:cNvPicPr/>
          <p:nvPr/>
        </p:nvPicPr>
        <p:blipFill>
          <a:blip r:embed="rId1"/>
          <a:stretch/>
        </p:blipFill>
        <p:spPr>
          <a:xfrm>
            <a:off x="684360" y="33336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4" descr="C:\Users\Admin\Desktop\slide-13.jpg"/>
          <p:cNvPicPr/>
          <p:nvPr/>
        </p:nvPicPr>
        <p:blipFill>
          <a:blip r:embed="rId1"/>
          <a:stretch/>
        </p:blipFill>
        <p:spPr>
          <a:xfrm>
            <a:off x="1187280" y="260280"/>
            <a:ext cx="7956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2" descr="C:\Users\Admin\Desktop\slide-6.jpg"/>
          <p:cNvPicPr/>
          <p:nvPr/>
        </p:nvPicPr>
        <p:blipFill>
          <a:blip r:embed="rId1"/>
          <a:stretch/>
        </p:blipFill>
        <p:spPr>
          <a:xfrm>
            <a:off x="1258920" y="333360"/>
            <a:ext cx="7634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2" descr="C:\Users\Admin\Desktop\-5-638.jpg"/>
          <p:cNvPicPr/>
          <p:nvPr/>
        </p:nvPicPr>
        <p:blipFill>
          <a:blip r:embed="rId1"/>
          <a:stretch/>
        </p:blipFill>
        <p:spPr>
          <a:xfrm>
            <a:off x="1258920" y="260280"/>
            <a:ext cx="7885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2" descr="C:\Users\Admin\Desktop\-10-1024.jpg"/>
          <p:cNvPicPr/>
          <p:nvPr/>
        </p:nvPicPr>
        <p:blipFill>
          <a:blip r:embed="rId1"/>
          <a:stretch/>
        </p:blipFill>
        <p:spPr>
          <a:xfrm>
            <a:off x="971640" y="333360"/>
            <a:ext cx="7962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8:06:29Z</dcterms:created>
  <dc:creator>Инна</dc:creator>
  <dc:description/>
  <dc:language>en-US</dc:language>
  <cp:lastModifiedBy>RePack by SPecialiST</cp:lastModifiedBy>
  <dcterms:modified xsi:type="dcterms:W3CDTF">2017-11-07T19:38:32Z</dcterms:modified>
  <cp:revision>26</cp:revision>
  <dc:subject/>
  <dc:title>Народні символи України</dc:title>
</cp:coreProperties>
</file>