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0E4-B0B8-4801-A930-C03B3F07BF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91E-75FF-470A-AA0D-3CBF2C72B5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7F5-0F44-4626-A21D-4FFDC0FE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C0D-E9A1-4434-A958-2480FFB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2BA-9AB8-4931-8915-BFAC01C6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36C-6F9E-4E8B-BC0D-FB96C0F7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B54-E5B4-4DD4-A87E-7911BF43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1ED-2D11-4DB0-8A0A-9CB24F9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4D2-8129-42D4-91A6-DA2C2AB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39F-89B6-431B-ABD2-3B949C9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E68-FAED-4E88-A91D-AC8BA69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435-BABD-4D00-A2AA-98EF137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A76-4B15-49C6-882A-ECF911F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084-7FC6-4999-A130-88C2C6E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A65-40FB-4E3A-8066-D613B7577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715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0066"/>
                </a:solidFill>
                <a:latin typeface="Calibri"/>
              </a:rPr>
              <a:t>Погода взимку.Спостереження </a:t>
            </a:r>
            <a:br>
              <a:rPr sz="4900"/>
            </a:br>
            <a:r>
              <a:rPr b="1" lang="uk-UA" sz="4900" spc="-1" strike="noStrike">
                <a:solidFill>
                  <a:srgbClr val="ff0066"/>
                </a:solidFill>
                <a:latin typeface="Calibri"/>
              </a:rPr>
              <a:t>за погодою рідного краю.</a:t>
            </a:r>
            <a:br>
              <a:rPr sz="4900"/>
            </a:br>
            <a:r>
              <a:rPr b="1" lang="uk-UA" sz="4900" spc="-1" strike="noStrike">
                <a:solidFill>
                  <a:srgbClr val="ff0066"/>
                </a:solidFill>
                <a:latin typeface="Calibri"/>
              </a:rPr>
              <a:t>Будь обережним!Безпечні і небезпечні ситуації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13880" y="4071600"/>
            <a:ext cx="72867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Інтегрований урок:         природознавство + основи здоров’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61960" y="142920"/>
            <a:ext cx="8020080" cy="4870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108000" y="5013360"/>
            <a:ext cx="89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Calibri"/>
              </a:rPr>
              <a:t>Сонце взимку знаходиться _____________ над землею і не нагріває її так як в інші пори р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-360" y="5516640"/>
            <a:ext cx="9131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3152"/>
                </a:solidFill>
                <a:latin typeface="Calibri"/>
              </a:rPr>
              <a:t>Рано темніє, бо дні _____________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3152"/>
                </a:solidFill>
                <a:latin typeface="Calibri"/>
              </a:rPr>
              <a:t>а ночі 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8143560" cy="5375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5654520"/>
            <a:ext cx="9144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Небо часто вкрите ____________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580536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Замерзають __________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79520" y="357120"/>
            <a:ext cx="816444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55760" y="285840"/>
            <a:ext cx="8232480" cy="537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пади випадають у вигляді 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42920" y="571680"/>
            <a:ext cx="85010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2 група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Складіть розповідь за малюнк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4" descr="83e07243bf9e6f35646295928a51d74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57120" y="928800"/>
            <a:ext cx="8429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3 група 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Розгадайте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кросвор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christm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1643040" y="2071800"/>
          <a:ext cx="6262560" cy="2716200"/>
        </p:xfrm>
        <a:graphic>
          <a:graphicData uri="http://schemas.openxmlformats.org/drawingml/2006/table">
            <a:tbl>
              <a:tblPr/>
              <a:tblGrid>
                <a:gridCol w="463680"/>
                <a:gridCol w="473040"/>
                <a:gridCol w="452520"/>
                <a:gridCol w="473040"/>
                <a:gridCol w="474480"/>
                <a:gridCol w="451080"/>
                <a:gridCol w="452160"/>
                <a:gridCol w="451080"/>
                <a:gridCol w="450720"/>
                <a:gridCol w="453960"/>
                <a:gridCol w="452520"/>
                <a:gridCol w="450720"/>
                <a:gridCol w="452520"/>
                <a:gridCol w="311040"/>
              </a:tblGrid>
              <a:tr h="543240">
                <a:tc rowSpan="4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5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christm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1357200" y="2071800"/>
          <a:ext cx="6548400" cy="2716200"/>
        </p:xfrm>
        <a:graphic>
          <a:graphicData uri="http://schemas.openxmlformats.org/drawingml/2006/table">
            <a:tbl>
              <a:tblPr/>
              <a:tblGrid>
                <a:gridCol w="463680"/>
                <a:gridCol w="473040"/>
                <a:gridCol w="452520"/>
                <a:gridCol w="473040"/>
                <a:gridCol w="474480"/>
                <a:gridCol w="451080"/>
                <a:gridCol w="452520"/>
                <a:gridCol w="450720"/>
                <a:gridCol w="450720"/>
                <a:gridCol w="453960"/>
                <a:gridCol w="452520"/>
                <a:gridCol w="451080"/>
                <a:gridCol w="452160"/>
                <a:gridCol w="596880"/>
              </a:tblGrid>
              <a:tr h="543240">
                <a:tc rowSpan="4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5"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1571760"/>
            <a:ext cx="85438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Раптом в лісі посвітліло,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тало всюди чисто й біло.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А тепла чогось нема.                      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Це прийшла до нас …( Зима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71680" y="500040"/>
            <a:ext cx="82152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4 група 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означ знаком«+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огоду, яка буває взимк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christm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285840" y="857160"/>
            <a:ext cx="8429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□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и змінюються на відлиг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скраво світить, але не гріє Сонце,           сильні моро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гілках дерев і кущів утворюється ін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іває теплий вітер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дуть грозові д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бо вкрите низькими сірими хм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дає пухкий лапатий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скраво світить і сильно гріє Со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творюється ранковий тум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□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ме сильний вітер, хуртов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357120" y="357120"/>
            <a:ext cx="87868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5 група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Arial"/>
              </a:rPr>
              <a:t>З’єднай лініями назви зимових місяців і явища природи,які з ними пов’язан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christm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142920" y="128592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ень ◊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◊     Морозний      місяць. Що яскравіше сонце, т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холодніший ден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ічень    ◊             ◊     Бувають хуртовини.  Холодна пого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мінюється відлиг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тий    ◊             ◊     Починається морозами й випаданням сніг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500040" y="1143000"/>
            <a:ext cx="83581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6група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оєднайте частини приказо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ро зим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428760" y="28584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8" descr="christm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2880" y="36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768600"/>
            <a:ext cx="914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имку сонце світить,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омарів носок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це на літо, зим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а не гріє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ю деньок,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а мор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70c0"/>
                </a:solidFill>
                <a:latin typeface="Calibri"/>
              </a:rPr>
              <a:t>Тест «Перевір себ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80288"/>
                </a:solidFill>
                <a:latin typeface="Calibri"/>
              </a:rPr>
              <a:t>Які два твердження неправильні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00ff"/>
                </a:solidFill>
                <a:latin typeface="Calibri"/>
              </a:rPr>
              <a:t>А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22 грудня – найкоротший день і найдовша ніч у роц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00ff"/>
                </a:solidFill>
                <a:latin typeface="Calibri"/>
              </a:rPr>
              <a:t>Б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Грудень – найхолодніший місяць ро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00ff"/>
                </a:solidFill>
                <a:latin typeface="Calibri"/>
              </a:rPr>
              <a:t>В</a:t>
            </a:r>
            <a:r>
              <a:rPr b="1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У морозні дні сніг мокрий і важ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00ff"/>
                </a:solidFill>
                <a:latin typeface="Calibri"/>
              </a:rPr>
              <a:t>Г</a:t>
            </a:r>
            <a:r>
              <a:rPr b="1" lang="uk-UA" sz="30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ніг рипить, бо ламаються сніжин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00ff"/>
                </a:solidFill>
                <a:latin typeface="Calibri"/>
              </a:rPr>
              <a:t>Д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Температура повітря взимку стає все нижчо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У січні земля врешті-решт укривається суцільною сніговою ковдро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Содержимое 3" descr="christmas2.jpg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28760" y="114300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равила поведінк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взимк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Групи складаю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повідомлення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42920" y="285840"/>
            <a:ext cx="900108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Завдання для груп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1 гру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удьте обережні на ль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2 гру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що ви провалилися під кри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3 гру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 зменшити ризик травм під ча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желеди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3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142920" y="928800"/>
            <a:ext cx="8858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4 гру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терігайтесь буруль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5 гру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ша допомога при обморожен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6 груп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вила поведінки біля новорічно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ли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54061"/>
                </a:solidFill>
                <a:latin typeface="Calibri"/>
              </a:rPr>
              <a:t>Хвилинка спостережен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1928880"/>
            <a:ext cx="8834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Пригадайте, що таке пог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Давайте з’ясуємо, яка сьогодні по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Яка температура повіт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Яке неб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Чи є сьогодні опа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    • </a:t>
            </a:r>
            <a:r>
              <a:rPr b="0" lang="uk-UA" sz="3200" spc="-1" strike="noStrike">
                <a:solidFill>
                  <a:srgbClr val="7030a0"/>
                </a:solidFill>
                <a:latin typeface="Calibri"/>
              </a:rPr>
              <a:t>- Чи є сьогодні віт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11280" y="47242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66"/>
                </a:solidFill>
                <a:latin typeface="Calibri"/>
              </a:rPr>
              <a:t>Чарівниця-зима дякує вам за активну плідну працю. Молодці</a:t>
            </a:r>
            <a:r>
              <a:rPr b="0" lang="ru-RU" sz="4800" spc="-1" strike="noStrike">
                <a:solidFill>
                  <a:srgbClr val="ff0066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b0f0"/>
                </a:solidFill>
                <a:latin typeface="Calibri"/>
              </a:rPr>
              <a:t>Асоціативний ку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38000" y="3300120"/>
            <a:ext cx="2243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00"/>
                </a:solidFill>
                <a:latin typeface="Calibri"/>
              </a:rPr>
              <a:t>Зим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917960" y="55548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Лиж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04640" y="44528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Санч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004840" y="5554800"/>
            <a:ext cx="24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Снігов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032520" y="445284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Ковз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372360" y="191916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Буруль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714920" y="1447920"/>
            <a:ext cx="186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Лю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804000" y="321300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Ві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385920" y="3213000"/>
            <a:ext cx="199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2428920" y="1447920"/>
            <a:ext cx="213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Сув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0" y="196704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Завірю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6"/>
          <p:cNvCxnSpPr/>
          <p:nvPr/>
        </p:nvCxnSpPr>
        <p:spPr>
          <a:xfrm flipH="1" flipV="1">
            <a:off x="3209040" y="22046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1" name="Прямая со стрелкой 18"/>
          <p:cNvCxnSpPr/>
          <p:nvPr/>
        </p:nvCxnSpPr>
        <p:spPr>
          <a:xfrm flipV="1">
            <a:off x="4642920" y="2204640"/>
            <a:ext cx="5058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2" name="Прямая со стрелкой 22"/>
          <p:cNvCxnSpPr/>
          <p:nvPr/>
        </p:nvCxnSpPr>
        <p:spPr>
          <a:xfrm flipV="1">
            <a:off x="5206680" y="2748960"/>
            <a:ext cx="1453320" cy="68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3" name="Прямая со стрелкой 24"/>
          <p:cNvCxnSpPr/>
          <p:nvPr/>
        </p:nvCxnSpPr>
        <p:spPr>
          <a:xfrm>
            <a:off x="5640480" y="3628800"/>
            <a:ext cx="115740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Прямая со стрелкой 26"/>
          <p:cNvCxnSpPr/>
          <p:nvPr/>
        </p:nvCxnSpPr>
        <p:spPr>
          <a:xfrm>
            <a:off x="5640480" y="4043160"/>
            <a:ext cx="1380240" cy="68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5" name="Прямая со стрелкой 28"/>
          <p:cNvCxnSpPr/>
          <p:nvPr/>
        </p:nvCxnSpPr>
        <p:spPr>
          <a:xfrm>
            <a:off x="4917600" y="4312800"/>
            <a:ext cx="578520" cy="1420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6" name="Прямая со стрелкой 5119"/>
          <p:cNvCxnSpPr/>
          <p:nvPr/>
        </p:nvCxnSpPr>
        <p:spPr>
          <a:xfrm flipH="1">
            <a:off x="3209040" y="4312800"/>
            <a:ext cx="786600" cy="1420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Прямая со стрелкой 5133"/>
          <p:cNvCxnSpPr/>
          <p:nvPr/>
        </p:nvCxnSpPr>
        <p:spPr>
          <a:xfrm flipH="1">
            <a:off x="1627920" y="4043160"/>
            <a:ext cx="1791720" cy="68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8" name="Прямая со стрелкой 5135"/>
          <p:cNvCxnSpPr/>
          <p:nvPr/>
        </p:nvCxnSpPr>
        <p:spPr>
          <a:xfrm flipH="1">
            <a:off x="2268000" y="3715920"/>
            <a:ext cx="115200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9" name="Прямая со стрелкой 5137"/>
          <p:cNvCxnSpPr/>
          <p:nvPr/>
        </p:nvCxnSpPr>
        <p:spPr>
          <a:xfrm flipH="1" flipV="1">
            <a:off x="2004120" y="2748960"/>
            <a:ext cx="1599480" cy="68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0000"/>
                </a:solidFill>
                <a:latin typeface="Calibri"/>
              </a:rPr>
              <a:t>Зимові місяці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43080" y="1785960"/>
            <a:ext cx="5572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8000" spc="-1" strike="noStrike">
                <a:solidFill>
                  <a:srgbClr val="000000"/>
                </a:solidFill>
                <a:latin typeface="Calibri"/>
              </a:rPr>
              <a:t>грудень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8000" spc="-1" strike="noStrike">
                <a:solidFill>
                  <a:srgbClr val="000000"/>
                </a:solidFill>
                <a:latin typeface="Calibri"/>
              </a:rPr>
              <a:t>січень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8000" spc="-1" strike="noStrike">
                <a:solidFill>
                  <a:srgbClr val="000000"/>
                </a:solidFill>
                <a:latin typeface="Calibri"/>
              </a:rPr>
              <a:t>люти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571680" y="500040"/>
            <a:ext cx="8143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 народі грудень називали – мостовик, стужайло, вітровик, зимник, лютовій, хмур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родні назви січня – сніжень, сніговик, льодовик, щипун, тріску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images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642960" y="1571760"/>
            <a:ext cx="771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Arial"/>
              </a:rPr>
              <a:t>Робота в груп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images.jpe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214200" y="1500120"/>
            <a:ext cx="8929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uk-UA" sz="8000" spc="-1" strike="noStrike">
                <a:solidFill>
                  <a:srgbClr val="c00000"/>
                </a:solidFill>
                <a:latin typeface="Arial"/>
              </a:rPr>
              <a:t>1 група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"/>
              </a:rPr>
              <a:t>Доповніть реченн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9:46:10Z</dcterms:created>
  <dc:creator>HP</dc:creator>
  <dc:description/>
  <dc:language>en-US</dc:language>
  <cp:lastModifiedBy>Root</cp:lastModifiedBy>
  <dcterms:modified xsi:type="dcterms:W3CDTF">2018-01-14T20:57:36Z</dcterms:modified>
  <cp:revision>6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4e000000000001024140</vt:lpwstr>
  </property>
</Properties>
</file>