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71E-5C07-451F-8963-96B222C7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BC8-B67F-4329-AAFF-329577DD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F62-B5D7-49D6-BCCC-1BAF9012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E8A-F9ED-4CBF-9D49-11318A58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0A1-9417-4355-AC3B-813FAEAA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D75-65CE-49E1-9E59-08C14422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8F3-D32D-446C-A5BA-2A948C15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08B-3194-4D92-9A62-19D28643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CDB-F7DF-4FD3-87A4-676C151C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790-7E18-4086-94C6-58030ED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0E8-5A9F-45E8-99E9-3C5372D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B62-66DD-4AFA-91F3-512F6EBB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CC9E-828C-4E2B-9CD7-982D4EF84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3;&#1088;&#1077;&#1094;&#1100;&#1082;&#1072;_&#1084;&#1086;&#1074;&#1072;" TargetMode="External"/><Relationship Id="rId2" Type="http://schemas.openxmlformats.org/officeDocument/2006/relationships/hyperlink" Target="http://uk.wikipedia.org/wiki/&#1058;&#1077;&#1088;&#1084;&#1110;&#1085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2;&#1077;&#1073;&#1089;&#1090;&#1077;&#1088;_&#1053;&#1086;&#1081;" TargetMode="External"/><Relationship Id="rId2" Type="http://schemas.openxmlformats.org/officeDocument/2006/relationships/hyperlink" Target="http://uk.wikipedia.org/wiki/1841" TargetMode="External"/><Relationship Id="rId3" Type="http://schemas.openxmlformats.org/officeDocument/2006/relationships/hyperlink" Target="http://uk.wikipedia.org/wiki/&#1057;&#1064;&#1040;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30;&#1084;&#1084;&#1110;&#1075;&#1088;&#1072;&#1085;&#1090;&#1080;" TargetMode="External"/><Relationship Id="rId2" Type="http://schemas.openxmlformats.org/officeDocument/2006/relationships/hyperlink" Target="http://uk.wikipedia.org/wiki/&#1041;&#1110;&#1078;&#1077;&#1085;&#1094;&#1110;" TargetMode="External"/><Relationship Id="rId3" Type="http://schemas.openxmlformats.org/officeDocument/2006/relationships/hyperlink" Target="http://uk.wikipedia.org/wiki/&#1058;&#1088;&#1091;&#1076;&#1086;&#1074;&#1110;_&#1084;&#1110;&#1075;&#1088;&#1072;&#1085;&#1090;&#1080;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4436640"/>
            <a:ext cx="723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80808"/>
                </a:solidFill>
                <a:latin typeface="Arial"/>
              </a:rPr>
              <a:t>Підготув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80808"/>
                </a:solidFill>
                <a:latin typeface="Arial"/>
              </a:rPr>
              <a:t>Соціальний 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80808"/>
                </a:solidFill>
                <a:latin typeface="Arial"/>
              </a:rPr>
              <a:t>Бердихівського НВК “ЗОШ І-ІІІ ст – ДНЗ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80808"/>
                </a:solidFill>
                <a:latin typeface="Arial"/>
              </a:rPr>
              <a:t>ГРИЦАН ОЛЕКСАНДРА МИХАЙЛ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00000" y="907920"/>
            <a:ext cx="75106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ПРОФІЛАКТИКА ПРОЯВІВ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КСЕНОФОБІЇ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"/>
              </a:rPr>
              <a:t>В УЧНІВСЬКОМУ СЕРЕДОВИЩІ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8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3.Чи вважаєте Ви, що є «гірші» і «кращі»  народи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)так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Б)скоріше так ніж ні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)скоріше ні ніж так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)ні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)важко відпові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4.Чи згодні Ви, що було б краще, якби люди брали шлюб лише з представниками своєї національності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)так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Б)скоріше так ніж ні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)скоріше ні ніж так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)ні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)важко відпові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5.Чи згодні Ви, що почувати себе у безпеці можна лише якщо більшість оточуючих людей є твоєї національності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)так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Б)скоріше так ніж ні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)скоріше ні ніж так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)ні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)важко відпові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6.Чи вважаєте Ви,  що кожна людина має право самостійного вибору віросповідання?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А)так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Б)скоріше так ніж ні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)скоріше ні ніж так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Г)ні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)важко відпові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7.Чи згодні Ви, що представники кожної національності повинні жити в своїй країні (росіяни у Росії, молдавани у Молдавії, євреї в Ізраїлі, тощо)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А)так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Б)скоріше так ніж ні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)скоріше ні ніж так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Г)ні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)важко відпові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8.Чи згодні Ви, що проникнення в Україну інших культур та інших мов може зашкодити українській культурі та українській мові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А)так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Б)скоріше так ніж ні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)скоріше ні ніж так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Г)ні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)важко відпові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аша стать:  чоловік;  жі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няття з елементами тренінгу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“Ми та інші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виток соціальної чутливості і соціального інтере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уміння принципу ділення суспільства на груп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ідомлення різноманіття груп в суспільстві і відмінностей між ни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ідомлення групової ідентич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42680" y="0"/>
            <a:ext cx="604836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кладові кола соціальних  фобій</a:t>
            </a:r>
            <a:r>
              <a:rPr b="0" lang="uk-UA" sz="2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32000" y="98100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419040" indent="-3826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ff0000"/>
                </a:solidFill>
                <a:latin typeface="Arial"/>
              </a:rPr>
              <a:t>Мігрантофобі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упередження щодо біженців, вимушених переселенців , осіб , які шукають притулк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ff0000"/>
                </a:solidFill>
                <a:latin typeface="Arial"/>
              </a:rPr>
              <a:t>Гандікапіз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фобія й упередження щодо індивідів з фізичними обмеженнями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ff0000"/>
                </a:solidFill>
                <a:latin typeface="Arial"/>
              </a:rPr>
              <a:t>Ейджиз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упередження і дискримінація , викликані віком людин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ff0000"/>
                </a:solidFill>
                <a:latin typeface="Arial"/>
              </a:rPr>
              <a:t>Сексиз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упередженість і дискримінація на основі статевої приналежності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4" descr="82211112011-medved.jpg"/>
          <p:cNvPicPr/>
          <p:nvPr/>
        </p:nvPicPr>
        <p:blipFill>
          <a:blip r:embed="rId1"/>
          <a:stretch/>
        </p:blipFill>
        <p:spPr>
          <a:xfrm>
            <a:off x="285840" y="1143000"/>
            <a:ext cx="3975120" cy="50515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им чином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, у масовій свідомості населення України продовжує зберігатися значний рівень національної межованості та  ізольованост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більш толерантно мешканці ставляться до етнічних росіян та українців. Щодо американців та євреїв, слід констатувати значну  ізольованість в свідомості населення Півдня України від цих національних груп. Відверті ксенофобські настрої населення регіону виявляє до представників неєвропейської раси, культурно віддалених етносів - арабів, азіатів, циганів, чеченців, а також до мігрантів та біженц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ким чином, ксенофобія—це  сила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що руйнує наше суспільств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1170000" y="1603440"/>
            <a:ext cx="67975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Organization Chart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Rectangle 46"/>
          <p:cNvSpPr/>
          <p:nvPr/>
        </p:nvSpPr>
        <p:spPr>
          <a:xfrm>
            <a:off x="250920" y="2063160"/>
            <a:ext cx="85690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від 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грецьких слі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ξένος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ксенос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, що означає «чужинець», «незнайомець», 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φόβος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фобос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, що означає «страх») — неоднозначний 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термін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котрий позначає певний стан людини, що виявляється у нав'язливому страху стосовно чужинців чи просто чогось незнайомого,  чужоземного  або страх перед чужоземцями та ненависть до н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КСЕНОФОБІ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перше зустрічається у словнику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Вебстера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,  виданого  у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1841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р. у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США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словнику Вебстера ксенофобія - це «страх або ненависть до незнайомців, чи іноземц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бо до того, що дивно або чуже».  Літературне значення слова передбачає, що ксенофоби - це люди, які не люблять усіх чужинців,  їх «інакшість». Такі визначення показують, що головним об'єктом ксенофобії завжди були незнайомці або чужинці (xenos - сторонні, іноземці). Причини тут прості: історично так складалося, що поява чужаків, як правило, не віщувало нічого доброго. У гіршому випадку вони претендували на поля і пасовища, на майно, на дружин. У кращому випадку - впроваджувалися в суспільство, приносячи з собою зміни. Хороші чи погані, глобальні чи незначні - це інше питання, але чужинці представляли реальну загрозу сформованому образу жит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3680" y="374760"/>
            <a:ext cx="346716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’єктами ксенофобії можуть бути як конкретні групи – представники чужої релігії, раси, нації, держави тощо, так і всі «чужі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4060800" y="374760"/>
            <a:ext cx="481644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6836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Види ксенофоб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uk-UA" sz="2600" spc="-1" strike="noStrike">
                <a:solidFill>
                  <a:srgbClr val="c00000"/>
                </a:solidFill>
                <a:latin typeface="Arial"/>
              </a:rPr>
              <a:t>Расові та етнічні фобії (етнофобії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значають упередження і дискримінацію по відношенню до осіб іншої раси  чи етнічної гру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600" spc="-1" strike="noStrike">
                <a:solidFill>
                  <a:srgbClr val="c00000"/>
                </a:solidFill>
                <a:latin typeface="Arial"/>
              </a:rPr>
              <a:t>Релігійні фобії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d0d0d"/>
                </a:solidFill>
                <a:latin typeface="Arial"/>
              </a:rPr>
              <a:t>Визначають страх і упередження щодо прихильників різних релігійних конфесій ( наприклад , ісламофобія , кодофобія,фобія перед неорелігіями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uk-UA" sz="2600" spc="-1" strike="noStrike">
                <a:solidFill>
                  <a:srgbClr val="c00000"/>
                </a:solidFill>
                <a:latin typeface="Arial"/>
              </a:rPr>
              <a:t>Фобії щодо гру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d0d0d"/>
                </a:solidFill>
                <a:latin typeface="Arial"/>
              </a:rPr>
              <a:t>Відрізняються за соціальним , культурним , матеріальним і фізичним ознаками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ФОРМИ КСЕНОФОБ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ша спрямована на групу в середині суспільства, що вважається чужою та шкідливою для суспільства, наприклад,  нові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іммігра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іженц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рудові мігра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євреї, цигани, гомосексуаліс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'єктом  другої форми ксенофобії є головним чином культурні елементи, що вважаються чужими. Усі культури підпадають під чужоземний вплив, але культурна ксенофобія є часто вузьконаправленою на певні прояви такого впливу, наприклад, поширення нетрадиційної для даної країни релі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Сучасна ксенофобія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в Украї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асто  маскується під боротьбу з українофобіє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 Вимоги україномовних громадян про задоволення їхніх національно-культурних потреб (кіно, книжки та преса українською) здобувають назву «утискання прав інших» та «ксенофобі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незалежній Україні найнижчий рівень ксенофобії був у перші роки після проголошення незалежності, з  середини 1990-х цей показник почав зростати і зараз рівень нетерпимості до іноземців та національних меншин є найвищий за останні 15 років. Найтолерантнішою групою в Україні є моло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люди до 30 ро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На Вашу думку, «ксенофобія» — це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негативне явище, яке не має права на існування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)вияв патріотизму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)Ви не знаєте, що таке «ксенофобі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) важко відповіс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.Чи погодилися б Ви жити в одній кімнаті  з представником іншої культури (наприклад з китайцем (китаянкою), молдаванином (молдаванко), тощо)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так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)скоріше так ніж ні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)скоріше ні ніж та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) ні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)важко відповіст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)Ваш варіа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4T07:18:47Z</dcterms:created>
  <dc:creator>Admin</dc:creator>
  <dc:description/>
  <dc:language>en-US</dc:language>
  <cp:lastModifiedBy>Comp</cp:lastModifiedBy>
  <dcterms:modified xsi:type="dcterms:W3CDTF">2015-11-23T07:28:35Z</dcterms:modified>
  <cp:revision>8</cp:revision>
  <dc:subject/>
  <dc:title>Слайд 1</dc:title>
</cp:coreProperties>
</file>