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6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14.png" ContentType="image/png"/>
  <Override PartName="/ppt/media/image24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4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86B-1787-48E3-82A3-7EF7AC2A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BBF-01A1-457B-A008-92FC1CFD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E37-5977-4271-B991-9C0C2E24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45D-ED2A-4936-AC56-F3CE8C15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65F-59F7-455E-AA0C-6825F6B7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1D4-096F-4146-9CA3-D4FE65F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C60-D3A3-4812-A81A-AD05546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35D-93DB-4E41-AFBD-0E0DBA16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289-E0DE-4049-BA37-3F013182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F8A-0593-4206-84D0-FA8D1CDC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1AF-48E5-4F7D-8906-420B4F3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766-C4C2-4B53-95D2-84A61AD9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5e762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E30C-A5F9-4B0E-A3DA-5C1C32319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gi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817560" y="665280"/>
            <a:ext cx="7667640" cy="944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4038480" y="434340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рщенко Світлана Миколаї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лотоніська спеціальна загальноосвітня школа-ін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:\миколаївна\цифри\depositphotos_1447574-stock-photo-old-wooden-clock.jpg"/>
          <p:cNvPicPr/>
          <p:nvPr/>
        </p:nvPicPr>
        <p:blipFill>
          <a:blip r:embed="rId2"/>
          <a:stretch/>
        </p:blipFill>
        <p:spPr>
          <a:xfrm>
            <a:off x="838080" y="1905120"/>
            <a:ext cx="2911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11" descr=""/>
          <p:cNvPicPr/>
          <p:nvPr/>
        </p:nvPicPr>
        <p:blipFill>
          <a:blip r:embed="rId1"/>
          <a:stretch/>
        </p:blipFill>
        <p:spPr>
          <a:xfrm>
            <a:off x="981000" y="433440"/>
            <a:ext cx="2463840" cy="29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940920" y="365400"/>
            <a:ext cx="504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інець і початок зими!»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– Ось таку загадку поставили мені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рози і заметілі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І снігу на дворі, доволі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 нас в гості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ходить зима…  і її лише прибу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 місяц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gruden"/>
          <p:cNvPicPr/>
          <p:nvPr/>
        </p:nvPicPr>
        <p:blipFill>
          <a:blip r:embed="rId2"/>
          <a:stretch/>
        </p:blipFill>
        <p:spPr>
          <a:xfrm>
            <a:off x="3581280" y="2895480"/>
            <a:ext cx="459108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Работаю!"/>
          <p:cNvPicPr/>
          <p:nvPr/>
        </p:nvPicPr>
        <p:blipFill>
          <a:blip r:embed="rId3"/>
          <a:stretch/>
        </p:blipFill>
        <p:spPr>
          <a:xfrm>
            <a:off x="1066680" y="4800600"/>
            <a:ext cx="20383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 rot="20405400">
            <a:off x="1980720" y="2192040"/>
            <a:ext cx="6332760" cy="22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  Я  К  У  Ю     З А     У  В  А  Г  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писок використаної літерату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tangle 4" descr=""/>
          <p:cNvPicPr/>
          <p:nvPr/>
        </p:nvPicPr>
        <p:blipFill>
          <a:blip r:embed="rId1"/>
          <a:stretch/>
        </p:blipFill>
        <p:spPr>
          <a:xfrm>
            <a:off x="969840" y="2322360"/>
            <a:ext cx="7809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5">
            <a:hlinkClick r:id="rId2" action="ppaction://hlinksldjump"/>
          </p:cNvPr>
          <p:cNvSpPr/>
          <p:nvPr/>
        </p:nvSpPr>
        <p:spPr>
          <a:xfrm>
            <a:off x="6019920" y="1219320"/>
            <a:ext cx="609480" cy="5331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>
            <a:hlinkClick r:id="rId3" action="ppaction://hlinksldjump"/>
          </p:cNvPr>
          <p:cNvSpPr/>
          <p:nvPr/>
        </p:nvSpPr>
        <p:spPr>
          <a:xfrm>
            <a:off x="7086600" y="1981080"/>
            <a:ext cx="609480" cy="53352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>
            <a:hlinkClick r:id="rId4" action="ppaction://hlinksldjump"/>
          </p:cNvPr>
          <p:cNvSpPr/>
          <p:nvPr/>
        </p:nvSpPr>
        <p:spPr>
          <a:xfrm>
            <a:off x="7467480" y="3352680"/>
            <a:ext cx="609840" cy="53352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5" action="ppaction://hlinksldjump"/>
          </p:cNvPr>
          <p:cNvSpPr/>
          <p:nvPr/>
        </p:nvSpPr>
        <p:spPr>
          <a:xfrm>
            <a:off x="6629400" y="5029200"/>
            <a:ext cx="609480" cy="53352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6" action="ppaction://hlinksldjump"/>
          </p:cNvPr>
          <p:cNvSpPr/>
          <p:nvPr/>
        </p:nvSpPr>
        <p:spPr>
          <a:xfrm>
            <a:off x="3276720" y="5410080"/>
            <a:ext cx="609480" cy="53352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>
            <a:hlinkClick r:id="rId7" action="ppaction://hlinksldjump"/>
          </p:cNvPr>
          <p:cNvSpPr/>
          <p:nvPr/>
        </p:nvSpPr>
        <p:spPr>
          <a:xfrm>
            <a:off x="1143000" y="3733920"/>
            <a:ext cx="609480" cy="5331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>
            <a:hlinkClick r:id="rId8" action="ppaction://hlinksldjump"/>
          </p:cNvPr>
          <p:cNvSpPr/>
          <p:nvPr/>
        </p:nvSpPr>
        <p:spPr>
          <a:xfrm>
            <a:off x="1752480" y="1447920"/>
            <a:ext cx="609840" cy="5331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>
            <a:hlinkClick r:id="rId9" action="ppaction://hlinksldjump"/>
          </p:cNvPr>
          <p:cNvSpPr/>
          <p:nvPr/>
        </p:nvSpPr>
        <p:spPr>
          <a:xfrm>
            <a:off x="4191120" y="762120"/>
            <a:ext cx="609480" cy="5331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7" descr=""/>
          <p:cNvPicPr/>
          <p:nvPr/>
        </p:nvPicPr>
        <p:blipFill>
          <a:blip r:embed="rId10"/>
          <a:stretch/>
        </p:blipFill>
        <p:spPr>
          <a:xfrm>
            <a:off x="5815080" y="-12600"/>
            <a:ext cx="1792080" cy="2139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" descr=""/>
          <p:cNvPicPr/>
          <p:nvPr/>
        </p:nvPicPr>
        <p:blipFill>
          <a:blip r:embed="rId11"/>
          <a:stretch/>
        </p:blipFill>
        <p:spPr>
          <a:xfrm>
            <a:off x="6991200" y="841320"/>
            <a:ext cx="1792440" cy="21398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9" descr=""/>
          <p:cNvPicPr/>
          <p:nvPr/>
        </p:nvPicPr>
        <p:blipFill>
          <a:blip r:embed="rId12"/>
          <a:stretch/>
        </p:blipFill>
        <p:spPr>
          <a:xfrm>
            <a:off x="7564320" y="2571840"/>
            <a:ext cx="1792440" cy="21398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0" descr=""/>
          <p:cNvPicPr/>
          <p:nvPr/>
        </p:nvPicPr>
        <p:blipFill>
          <a:blip r:embed="rId13"/>
          <a:stretch/>
        </p:blipFill>
        <p:spPr>
          <a:xfrm>
            <a:off x="6986520" y="4041720"/>
            <a:ext cx="1792440" cy="2139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14"/>
          <a:stretch/>
        </p:blipFill>
        <p:spPr>
          <a:xfrm>
            <a:off x="5541840" y="5211720"/>
            <a:ext cx="1792440" cy="21398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15"/>
          <a:stretch/>
        </p:blipFill>
        <p:spPr>
          <a:xfrm>
            <a:off x="3560760" y="5578560"/>
            <a:ext cx="1792440" cy="21384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16"/>
          <a:stretch/>
        </p:blipFill>
        <p:spPr>
          <a:xfrm>
            <a:off x="1274760" y="5389560"/>
            <a:ext cx="1792440" cy="21384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17"/>
          <a:stretch/>
        </p:blipFill>
        <p:spPr>
          <a:xfrm>
            <a:off x="-176040" y="4237200"/>
            <a:ext cx="1792080" cy="21398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18"/>
          <a:stretch/>
        </p:blipFill>
        <p:spPr>
          <a:xfrm>
            <a:off x="-590400" y="2365200"/>
            <a:ext cx="1790640" cy="21402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9"/>
          <a:stretch/>
        </p:blipFill>
        <p:spPr>
          <a:xfrm>
            <a:off x="-493560" y="792000"/>
            <a:ext cx="2358720" cy="21402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20"/>
          <a:stretch/>
        </p:blipFill>
        <p:spPr>
          <a:xfrm>
            <a:off x="1023840" y="-324000"/>
            <a:ext cx="2305080" cy="21402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21"/>
          <a:stretch/>
        </p:blipFill>
        <p:spPr>
          <a:xfrm>
            <a:off x="3376440" y="-469800"/>
            <a:ext cx="2359080" cy="213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Работаю!"/>
          <p:cNvPicPr/>
          <p:nvPr/>
        </p:nvPicPr>
        <p:blipFill>
          <a:blip r:embed="rId22"/>
          <a:stretch/>
        </p:blipFill>
        <p:spPr>
          <a:xfrm>
            <a:off x="7467480" y="5562720"/>
            <a:ext cx="1295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5" descr=""/>
          <p:cNvPicPr/>
          <p:nvPr/>
        </p:nvPicPr>
        <p:blipFill>
          <a:blip r:embed="rId1"/>
          <a:stretch/>
        </p:blipFill>
        <p:spPr>
          <a:xfrm>
            <a:off x="1341360" y="1189080"/>
            <a:ext cx="1505160" cy="488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січень"/>
          <p:cNvPicPr/>
          <p:nvPr/>
        </p:nvPicPr>
        <p:blipFill>
          <a:blip r:embed="rId2"/>
          <a:stretch/>
        </p:blipFill>
        <p:spPr>
          <a:xfrm>
            <a:off x="5410080" y="152280"/>
            <a:ext cx="2705400" cy="1803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52280" y="228600"/>
            <a:ext cx="54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нікулах гуляли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же дружно відпочивали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 скоро братися за навчання – бо зима зично, 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іншує: ось-ось закінчиться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971800" y="2362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. Вранці ми із добрим ділом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вітали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867280" y="3276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онеді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Работаю!"/>
          <p:cNvPicPr/>
          <p:nvPr/>
        </p:nvPicPr>
        <p:blipFill>
          <a:blip r:embed="rId3"/>
          <a:stretch/>
        </p:blipFill>
        <p:spPr>
          <a:xfrm>
            <a:off x="4191120" y="4648320"/>
            <a:ext cx="2571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7" descr=""/>
          <p:cNvPicPr/>
          <p:nvPr/>
        </p:nvPicPr>
        <p:blipFill>
          <a:blip r:embed="rId1"/>
          <a:stretch/>
        </p:blipFill>
        <p:spPr>
          <a:xfrm>
            <a:off x="1352520" y="1530360"/>
            <a:ext cx="1787400" cy="3859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600200" y="45360"/>
            <a:ext cx="30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дцять вісім дні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коротший серед інших місяц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нів у нього в високосний лиш прибу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 звемо ми йог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lutiu"/>
          <p:cNvPicPr/>
          <p:nvPr/>
        </p:nvPicPr>
        <p:blipFill>
          <a:blip r:embed="rId2"/>
          <a:stretch/>
        </p:blipFill>
        <p:spPr>
          <a:xfrm>
            <a:off x="4876920" y="2286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4267080" y="3107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ccff"/>
                </a:solidFill>
                <a:latin typeface="Arial"/>
              </a:rPr>
              <a:t>Ніченька минула скоро, Трудовий за понеділком завжди він ід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105520" y="4342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іто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4" descr="Работаю!"/>
          <p:cNvPicPr/>
          <p:nvPr/>
        </p:nvPicPr>
        <p:blipFill>
          <a:blip r:embed="rId3"/>
          <a:stretch/>
        </p:blipFill>
        <p:spPr>
          <a:xfrm>
            <a:off x="3505320" y="4876920"/>
            <a:ext cx="2571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8" descr=""/>
          <p:cNvPicPr/>
          <p:nvPr/>
        </p:nvPicPr>
        <p:blipFill>
          <a:blip r:embed="rId1"/>
          <a:stretch/>
        </p:blipFill>
        <p:spPr>
          <a:xfrm>
            <a:off x="1444680" y="2090880"/>
            <a:ext cx="2066760" cy="3608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98520" y="227160"/>
            <a:ext cx="386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мки біжать швидш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ітить сонечко тепліш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тахи радіють, бо не вересень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лянув до нас місяць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11111"/>
          <p:cNvPicPr/>
          <p:nvPr/>
        </p:nvPicPr>
        <p:blipFill>
          <a:blip r:embed="rId2"/>
          <a:stretch/>
        </p:blipFill>
        <p:spPr>
          <a:xfrm>
            <a:off x="4572000" y="228600"/>
            <a:ext cx="3733920" cy="1800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4114800" y="3093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imes New Roman"/>
              </a:rPr>
              <a:t>Спритна, вміла, молода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imes New Roman"/>
              </a:rPr>
              <a:t>Вже настала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029200" y="3961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ереда</a:t>
            </a:r>
            <a:r>
              <a:rPr b="1" lang="ru-RU" sz="20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Работаю!"/>
          <p:cNvPicPr/>
          <p:nvPr/>
        </p:nvPicPr>
        <p:blipFill>
          <a:blip r:embed="rId3"/>
          <a:stretch/>
        </p:blipFill>
        <p:spPr>
          <a:xfrm>
            <a:off x="3505320" y="4876920"/>
            <a:ext cx="25714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9" descr=""/>
          <p:cNvPicPr/>
          <p:nvPr/>
        </p:nvPicPr>
        <p:blipFill>
          <a:blip r:embed="rId1"/>
          <a:stretch/>
        </p:blipFill>
        <p:spPr>
          <a:xfrm>
            <a:off x="128520" y="360360"/>
            <a:ext cx="2181240" cy="22176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7" descr=""/>
          <p:cNvPicPr/>
          <p:nvPr/>
        </p:nvPicPr>
        <p:blipFill>
          <a:blip r:embed="rId2"/>
          <a:stretch/>
        </p:blipFill>
        <p:spPr>
          <a:xfrm>
            <a:off x="42840" y="3889440"/>
            <a:ext cx="1901880" cy="2139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2078280" y="153720"/>
            <a:ext cx="416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стукав дощами дзвінк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резню місяцю навздогін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вук налаштувавши під крапель трель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ісяць наступ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…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kviten"/>
          <p:cNvPicPr/>
          <p:nvPr/>
        </p:nvPicPr>
        <p:blipFill>
          <a:blip r:embed="rId3"/>
          <a:stretch/>
        </p:blipFill>
        <p:spPr>
          <a:xfrm>
            <a:off x="5257800" y="1143000"/>
            <a:ext cx="2733840" cy="1298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1591560" y="228564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де четвертий день тепе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ивається…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135880" y="304704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ТВ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равень"/>
          <p:cNvPicPr/>
          <p:nvPr/>
        </p:nvPicPr>
        <p:blipFill>
          <a:blip r:embed="rId4"/>
          <a:stretch/>
        </p:blipFill>
        <p:spPr>
          <a:xfrm>
            <a:off x="5257800" y="3352680"/>
            <a:ext cx="2990880" cy="144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2"/>
          <p:cNvSpPr/>
          <p:nvPr/>
        </p:nvSpPr>
        <p:spPr>
          <a:xfrm>
            <a:off x="1600200" y="389988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д приміряв білий колі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ловей співа доволі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зелень край  убрався гарно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 теплом зустріча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1996920" y="540972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и добре ладятьс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настала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809880" y="574560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тниц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4" descr="Работаю!"/>
          <p:cNvPicPr/>
          <p:nvPr/>
        </p:nvPicPr>
        <p:blipFill>
          <a:blip r:embed="rId5"/>
          <a:stretch/>
        </p:blipFill>
        <p:spPr>
          <a:xfrm>
            <a:off x="5791320" y="5181480"/>
            <a:ext cx="21906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2" descr=""/>
          <p:cNvPicPr/>
          <p:nvPr/>
        </p:nvPicPr>
        <p:blipFill>
          <a:blip r:embed="rId1"/>
          <a:stretch/>
        </p:blipFill>
        <p:spPr>
          <a:xfrm>
            <a:off x="579600" y="4498920"/>
            <a:ext cx="2462040" cy="21398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0" descr=""/>
          <p:cNvPicPr/>
          <p:nvPr/>
        </p:nvPicPr>
        <p:blipFill>
          <a:blip r:embed="rId2"/>
          <a:stretch/>
        </p:blipFill>
        <p:spPr>
          <a:xfrm>
            <a:off x="493560" y="689040"/>
            <a:ext cx="1901880" cy="21398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29" descr=""/>
          <p:cNvPicPr/>
          <p:nvPr/>
        </p:nvPicPr>
        <p:blipFill>
          <a:blip r:embed="rId3"/>
          <a:stretch/>
        </p:blipFill>
        <p:spPr>
          <a:xfrm>
            <a:off x="1298520" y="689040"/>
            <a:ext cx="1505160" cy="213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un"/>
          <p:cNvPicPr/>
          <p:nvPr/>
        </p:nvPicPr>
        <p:blipFill>
          <a:blip r:embed="rId4"/>
          <a:stretch/>
        </p:blipFill>
        <p:spPr>
          <a:xfrm>
            <a:off x="6095880" y="228600"/>
            <a:ext cx="2895840" cy="1852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1752480" y="147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ін у літа перший гість, вишні пригорщами їсть, а сунички — жменьками з дітками малень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є назву місяць цей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272320" y="1904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ома, скрізь кипить робот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почався д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651920" y="259020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-1295280" y="3580200"/>
            <a:ext cx="858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Їде літо на ко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 й несе гарячі д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цвіли пахучі ли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 цей місяць зве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Prezentatsiya-misyats--215x152"/>
          <p:cNvPicPr/>
          <p:nvPr/>
        </p:nvPicPr>
        <p:blipFill>
          <a:blip r:embed="rId5"/>
          <a:stretch/>
        </p:blipFill>
        <p:spPr>
          <a:xfrm>
            <a:off x="5791320" y="3352680"/>
            <a:ext cx="2504880" cy="1771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6"/>
          <p:cNvSpPr/>
          <p:nvPr/>
        </p:nvSpPr>
        <p:spPr>
          <a:xfrm>
            <a:off x="2754360" y="518112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субота з хлібом-сілл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ла сестру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4786920" y="586656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ді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4" descr="Работаю!"/>
          <p:cNvPicPr/>
          <p:nvPr/>
        </p:nvPicPr>
        <p:blipFill>
          <a:blip r:embed="rId6"/>
          <a:stretch/>
        </p:blipFill>
        <p:spPr>
          <a:xfrm>
            <a:off x="6705720" y="5499000"/>
            <a:ext cx="20383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3" descr=""/>
          <p:cNvPicPr/>
          <p:nvPr/>
        </p:nvPicPr>
        <p:blipFill>
          <a:blip r:embed="rId1"/>
          <a:stretch/>
        </p:blipFill>
        <p:spPr>
          <a:xfrm>
            <a:off x="-262080" y="396720"/>
            <a:ext cx="2743200" cy="21384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401760" y="2719440"/>
            <a:ext cx="2182680" cy="22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aug"/>
          <p:cNvPicPr/>
          <p:nvPr/>
        </p:nvPicPr>
        <p:blipFill>
          <a:blip r:embed="rId3"/>
          <a:stretch/>
        </p:blipFill>
        <p:spPr>
          <a:xfrm>
            <a:off x="5029200" y="1905120"/>
            <a:ext cx="2971800" cy="1593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1752480" y="15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ітній жаркий місяць, щедрий гі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рує всім свої подар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иви, яблука і груш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рукти варимо, фрукти суш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ін – останній місяць лі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інь поруч, бо він не червень, 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sept__medium"/>
          <p:cNvPicPr/>
          <p:nvPr/>
        </p:nvPicPr>
        <p:blipFill>
          <a:blip r:embed="rId4"/>
          <a:stretch/>
        </p:blipFill>
        <p:spPr>
          <a:xfrm>
            <a:off x="4724280" y="487692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304920" y="4952880"/>
            <a:ext cx="419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вутинки вдаль лет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І на Південь, край зем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етіли журавл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ідчинилися двері шк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Що за місяць навчанню м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4" descr="Работаю!"/>
          <p:cNvPicPr/>
          <p:nvPr/>
        </p:nvPicPr>
        <p:blipFill>
          <a:blip r:embed="rId5"/>
          <a:stretch/>
        </p:blipFill>
        <p:spPr>
          <a:xfrm>
            <a:off x="2895480" y="3429000"/>
            <a:ext cx="20383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5" descr=""/>
          <p:cNvPicPr/>
          <p:nvPr/>
        </p:nvPicPr>
        <p:blipFill>
          <a:blip r:embed="rId1"/>
          <a:stretch/>
        </p:blipFill>
        <p:spPr>
          <a:xfrm>
            <a:off x="79200" y="334800"/>
            <a:ext cx="1901880" cy="21402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0" descr=""/>
          <p:cNvPicPr/>
          <p:nvPr/>
        </p:nvPicPr>
        <p:blipFill>
          <a:blip r:embed="rId2"/>
          <a:stretch/>
        </p:blipFill>
        <p:spPr>
          <a:xfrm>
            <a:off x="128520" y="3548160"/>
            <a:ext cx="2181240" cy="2157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295280" y="1522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другому місяці осені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чання триває у школі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у звірят своя воля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ати продукти доволі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 гриби, і корінці, ягод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камінці. Бо місць довгий, цей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1946"/>
          <p:cNvPicPr/>
          <p:nvPr/>
        </p:nvPicPr>
        <p:blipFill>
          <a:blip r:embed="rId3"/>
          <a:stretch/>
        </p:blipFill>
        <p:spPr>
          <a:xfrm>
            <a:off x="5715000" y="838080"/>
            <a:ext cx="3014640" cy="176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istopad"/>
          <p:cNvPicPr/>
          <p:nvPr/>
        </p:nvPicPr>
        <p:blipFill>
          <a:blip r:embed="rId4"/>
          <a:stretch/>
        </p:blipFill>
        <p:spPr>
          <a:xfrm>
            <a:off x="6095880" y="373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"/>
          <p:cNvSpPr/>
          <p:nvPr/>
        </p:nvSpPr>
        <p:spPr>
          <a:xfrm>
            <a:off x="1828800" y="38862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 чорно-білим стало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осить дощ, а снігу замал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ще похолодало —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гою скувало води річ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зне без листя, гіллячок…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о за місяць, де листя пад?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4" descr="Работаю!"/>
          <p:cNvPicPr/>
          <p:nvPr/>
        </p:nvPicPr>
        <p:blipFill>
          <a:blip r:embed="rId5"/>
          <a:stretch/>
        </p:blipFill>
        <p:spPr>
          <a:xfrm>
            <a:off x="2362320" y="2362320"/>
            <a:ext cx="203832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2-23T22:10:1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