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818-A788-431C-B985-5338C583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1EF-EAE4-4042-9CAA-7DE092C2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D4C-80F9-448D-8E4D-90475577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01F-5B84-45F1-9E51-356072E5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7472-C929-4C2E-ADCC-B32572AD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66BB-71AC-4805-905F-1346FF16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9EC7-16FB-4D3B-9718-295ADB63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F047-490A-4BB2-A06C-6B9228D4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281-1A99-499C-A9FE-31186F05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ADEB-7EAC-4E46-BF6D-F7BFB590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454-CB42-44E1-8CED-348E090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AF7-B17D-44E3-9997-3C8EFEA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6360-F397-48C3-8BA9-1DE6CA6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9B60-4556-4F7B-B26D-94BAA31B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E286-9EA9-44BD-919A-BFDD4B6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3B6D-1481-4E46-AEED-B2002BE8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A02E-ADE1-4CFD-909A-1E79BE0E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E2B-510A-4F2C-8780-C3270B66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925-74A6-4E11-BB5C-672976A5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CBF-EED0-42F5-8353-614612DC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A9A-E688-4299-B484-EA476B93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6D7-9858-4616-8248-6B7CE62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639-4D8D-4F76-9E55-F9645AE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67B-F524-4A16-BCE9-EAC6C0AD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7D91-D4D8-4E69-B3B9-E8EFBC333C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5C91-B660-4783-9ACC-D2A8E9F730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86800" cy="538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СВІТ ПРОФЕСІЙ  – </a:t>
            </a: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 І 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ТВІЙ ВИБІР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-6475320"/>
            <a:ext cx="69840" cy="140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8425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ет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з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безпечити учнів необхідним обсягом профорієнтаційних знань та навичок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р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звинути вміння розуміти самого себе, свої потреби та нахил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ф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рмувати толерантне ставлення до представників різних професій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тивіз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увати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процес формування психологічної готовності учнів до професійного самовизначення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ормува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ти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ідповідальн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ставлення до вибору професії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604000" y="-51534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авила роботи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Говорити від свого імені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ути активни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ути толерантни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лухати один одног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жна думка має право на існування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исловленн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Мозковий штурм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- Що таке професія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- Що необхідне, 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у</a:t>
            </a: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 першу чергу, щоб отр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мати професію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- Президент, двірник, прибиральниця — це професії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- На що ми сподіваємось, отримуючи професію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- Що таке спеціальність? Які спеціальності ви знаєте в професії лікаря, вчителя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- Що таке посада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Робота 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в групах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Завдання: визначити професію, посаду, спеціальність і пояснити на таких прикладах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1-ша груп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оловний бухгалтер — бухгалтер — бухгалтер - касир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тарший інженер — інженер — інженер-технолог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2-га груп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читель початкових класів — учитель — завуч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давець — завідувач відділу — продавець продовольчих товарів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3-тя груп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оловний лікар — лікар — терапевт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ригадир — будівельник — штукату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25786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араметри характеристики профес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ії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мета праці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засоби праці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умови праці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характер спілкування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відповідальність у праці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типові труднощі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мінімальний рівень підготовк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19640" y="-1995120"/>
            <a:ext cx="93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ибір професії – це справа не одного дня. Тож,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алий вибір залежить від вас. Ураховуйте всі обставини, пов’язані з майбутньою трудовою діяльністю,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ійте правильно порівнювати стан свого здоров'я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негативні фактори професії. Це дозволить вам надовго зберегти свої життєві сили й досягти великих успіхів у житті та кар’єрі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тч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Якось один народ вів нелегку боротьбу проти загарбників. І коли всім стало ясно, що вони програють битву, вояки вже не вірили своєму воєначальнику, пішла паніка, тоді люди обернулися до Господа і попросили: «О, Господи, допоможи нам, покажи, де та людина, яка поверне військо і надихне його на перемогу над ворогом!» Господь змилувався й показав дім, де жила така людина. Це був дім шевця. Отже, людина, яка могла бути генералом, шила не дуже гарне взуття, а бездарний генерал вів військо до пораз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Дякую всім за співпрацю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!!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16:20:35Z</dcterms:created>
  <dc:creator>Vita</dc:creator>
  <dc:description/>
  <dc:language>en-US</dc:language>
  <cp:lastModifiedBy>Asus</cp:lastModifiedBy>
  <dcterms:modified xsi:type="dcterms:W3CDTF">2018-02-16T08:33:08Z</dcterms:modified>
  <cp:revision>7</cp:revision>
  <dc:subject/>
  <dc:title>СВІТ ПРОФЕСІЙ  –  І ТВІЙ ВИБІР </dc:title>
</cp:coreProperties>
</file>