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B01D-CC46-44DA-A823-AE6D3D581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371D-26CE-4C3D-9BF1-8B9F61AA3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CF51-3266-4DC5-B79B-A34C8C706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2FDB-D374-4F90-BDED-43BB32AEC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924-F7B9-4413-8F03-6D1C6859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3782520"/>
            <a:ext cx="7543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3CC-E470-4A4D-80BF-7F65FAAD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37825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37825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61B-0DF4-4823-92D1-BD087990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12193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12193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37825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37825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37825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37C-EC74-455F-8EDC-0D5ED0EC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C2D7-4179-42D4-A9D3-3993D2A6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1BBF-61F0-4E20-9424-2A443F8A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3B0C-43AB-4BAC-BA90-FD72CCEA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3B09-8B92-46C5-806A-0AD9B4D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A9CA-057E-4D9A-96DB-CF43980B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274680"/>
            <a:ext cx="7696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B89A-1A1C-45E2-960C-6A9BBFD7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37825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66E2-344E-4E97-848A-3E3A9A87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87B-5E21-48A5-A7F7-DF5308B9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37825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629F-A574-4923-BEDC-FC387BD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3782520"/>
            <a:ext cx="7543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1561-5E75-4ECD-998A-83AEA9B7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3782520"/>
            <a:ext cx="7543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51B1-7279-4139-B4D4-A4B40C2C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37825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37825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CCB8-FD39-4230-851F-0618459A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12193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12193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37825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37825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3782520"/>
            <a:ext cx="2428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E8DE-18FB-4A41-AD27-6F69BFB2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AFD-BA6C-4786-A2F6-E3BF5025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75E-2476-46FF-83F2-D6251E27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40C-11A9-4846-9DE8-6F13BAD9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274680"/>
            <a:ext cx="7696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48D-430C-4104-B13C-9109FC53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37825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9A8-BC87-4FB9-866D-AF27F08C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37825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A1C-D41E-4D03-8FDF-561001D1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1219320"/>
            <a:ext cx="3681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3782520"/>
            <a:ext cx="7543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E55-7D7C-449D-8C9F-CA07750E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2193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B797-94EF-46C9-AED4-CD7AE6FCB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42640" y="12193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F57-4487-4AAE-8F05-3B010827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429000" y="485784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Радюк  Світлана Михайлі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вчитель хімії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Васюківська загальноосвітня школа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II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 ступені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Соледарської міської 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TextBox 4" descr=""/>
          <p:cNvPicPr/>
          <p:nvPr/>
        </p:nvPicPr>
        <p:blipFill>
          <a:blip r:embed="rId1"/>
          <a:stretch/>
        </p:blipFill>
        <p:spPr>
          <a:xfrm>
            <a:off x="1206360" y="1030320"/>
            <a:ext cx="75837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Універсальний</a:t>
            </a:r>
            <a:r>
              <a:rPr b="1" i="1" lang="uk-UA" sz="36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індикатор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219320"/>
            <a:ext cx="78598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 суміш кислотно-лужних індикаторів, яка дозволяє визначити числове значення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розчину від 1 до 10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ильнокисле       Слабкокисле    Нейтральне  Слабколужне 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0" t="0" r="0" b="14862"/>
          <a:stretch/>
        </p:blipFill>
        <p:spPr>
          <a:xfrm>
            <a:off x="1785960" y="2643120"/>
            <a:ext cx="6237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50004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ЛАБОРАТОРНИЙ  ДОСЛІД № 1</a:t>
            </a:r>
            <a:br>
              <a:rPr sz="3600"/>
            </a:b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2640" y="12193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Виявлення йонів Гідрогену та гідроксид-йонів у розчині. Встановлення приблизного значення рН води, лужних і кислих розчинів за допомогою універсального індикатор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0" y="142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казники   рН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 орган</a:t>
            </a: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і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мі 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43040" y="1857240"/>
          <a:ext cx="6357960" cy="3648240"/>
        </p:xfrm>
        <a:graphic>
          <a:graphicData uri="http://schemas.openxmlformats.org/drawingml/2006/table">
            <a:tbl>
              <a:tblPr/>
              <a:tblGrid>
                <a:gridCol w="3060720"/>
                <a:gridCol w="1211400"/>
                <a:gridCol w="2085840"/>
              </a:tblGrid>
              <a:tr h="811800"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ід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жливі відхил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лунковий с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- 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ч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0-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ік тонкого кишківн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1-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25-7,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-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ік підшлункової зало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6-9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6-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ефлексія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57160" y="1571760"/>
          <a:ext cx="7929720" cy="3317760"/>
        </p:xfrm>
        <a:graphic>
          <a:graphicData uri="http://schemas.openxmlformats.org/drawingml/2006/table">
            <a:tbl>
              <a:tblPr/>
              <a:tblGrid>
                <a:gridCol w="3133800"/>
                <a:gridCol w="1279440"/>
                <a:gridCol w="1384560"/>
                <a:gridCol w="2131920"/>
              </a:tblGrid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мі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а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и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сати рівняння дисоціац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значати рН розчинів практич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9"/>
          <p:cNvSpPr txBox="1"/>
          <p:nvPr/>
        </p:nvSpPr>
        <p:spPr>
          <a:xfrm>
            <a:off x="357120" y="857160"/>
            <a:ext cx="85010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Поняття про рН розчину.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Значення рН для характеристики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кислотного чи лужного середовища.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0" y="3187800"/>
            <a:ext cx="914400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ета у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Знати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няття «водневий показник (рН)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Вміти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изначати значення рН розчині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2143080" y="428760"/>
            <a:ext cx="46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Тема у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80"/>
          <p:cNvSpPr/>
          <p:nvPr/>
        </p:nvSpPr>
        <p:spPr>
          <a:xfrm>
            <a:off x="1643040" y="214200"/>
            <a:ext cx="65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амостійна  ро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3000" y="1643040"/>
          <a:ext cx="7272360" cy="3914640"/>
        </p:xfrm>
        <a:graphic>
          <a:graphicData uri="http://schemas.openxmlformats.org/drawingml/2006/table">
            <a:tbl>
              <a:tblPr/>
              <a:tblGrid>
                <a:gridCol w="2481120"/>
                <a:gridCol w="1973520"/>
                <a:gridCol w="281772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чов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у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івня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оці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Сульфат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ію фосф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80"/>
          <p:cNvSpPr/>
          <p:nvPr/>
        </p:nvSpPr>
        <p:spPr>
          <a:xfrm>
            <a:off x="1643040" y="214200"/>
            <a:ext cx="65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Відповід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4280" y="1571760"/>
          <a:ext cx="7272360" cy="3992400"/>
        </p:xfrm>
        <a:graphic>
          <a:graphicData uri="http://schemas.openxmlformats.org/drawingml/2006/table">
            <a:tbl>
              <a:tblPr/>
              <a:tblGrid>
                <a:gridCol w="2481480"/>
                <a:gridCol w="1973160"/>
                <a:gridCol w="2817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чов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у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івнянн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оці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Сульфатна 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0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0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       </a:t>
                      </a:r>
                      <a:r>
                        <a:rPr b="1" lang="uk-UA" sz="20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Н</a:t>
                      </a:r>
                      <a:r>
                        <a:rPr b="1" lang="ru-RU" sz="20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20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+ SO</a:t>
                      </a:r>
                      <a:r>
                        <a:rPr b="1" lang="en-US" sz="20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2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ій фосф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r>
                        <a:rPr b="1" lang="ru-RU" sz="2000" spc="-1" strike="noStrike" baseline="-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1" lang="ru-RU" sz="2000" spc="-1" strike="noStrike" baseline="-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 baseline="-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uk-UA" sz="2000" spc="-1" strike="noStrike" baseline="-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r>
                        <a:rPr b="1" lang="en-US" sz="20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+ PO</a:t>
                      </a:r>
                      <a:r>
                        <a:rPr b="1" lang="en-US" sz="2000" spc="-1" strike="noStrike" baseline="-25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рій гідрокс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NaOH</a:t>
                      </a:r>
                      <a:r>
                        <a:rPr b="1" lang="en-US" sz="2000" spc="-1" strike="noStrike" baseline="-25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r>
                        <a:rPr b="1" lang="en-US" sz="20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OH </a:t>
                      </a:r>
                      <a:r>
                        <a:rPr b="1" lang="en-US" sz="20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ій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ульфа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aSO</a:t>
                      </a:r>
                      <a:r>
                        <a:rPr b="1" lang="en-US" sz="20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4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8" name="Прямая со стрелкой 12"/>
          <p:cNvCxnSpPr/>
          <p:nvPr/>
        </p:nvCxnSpPr>
        <p:spPr>
          <a:xfrm>
            <a:off x="6572160" y="27856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16"/>
          <p:cNvCxnSpPr/>
          <p:nvPr/>
        </p:nvCxnSpPr>
        <p:spPr>
          <a:xfrm>
            <a:off x="6572160" y="3499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>
            <a:off x="6572160" y="42145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18"/>
          <p:cNvCxnSpPr/>
          <p:nvPr/>
        </p:nvCxnSpPr>
        <p:spPr>
          <a:xfrm>
            <a:off x="6643800" y="500040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Прямая соединительная линия 9"/>
          <p:cNvSpPr/>
          <p:nvPr/>
        </p:nvSpPr>
        <p:spPr>
          <a:xfrm flipH="1">
            <a:off x="6714720" y="4929120"/>
            <a:ext cx="7308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Вода – слабкий  електроліт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 ↔ Н</a:t>
            </a:r>
            <a:r>
              <a:rPr b="1" lang="ru-RU" sz="5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+  ОН</a:t>
            </a:r>
            <a:r>
              <a:rPr b="1" lang="ru-RU" sz="5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baseline="30000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5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=  ОН</a:t>
            </a:r>
            <a:r>
              <a:rPr b="1" lang="ru-RU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5400" spc="-1" strike="noStrike" baseline="30000">
                <a:solidFill>
                  <a:srgbClr val="00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78588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3399"/>
                </a:solidFill>
                <a:latin typeface="Arial"/>
              </a:rPr>
              <a:t>с(Н</a:t>
            </a:r>
            <a:r>
              <a:rPr b="1" i="1" lang="uk-UA" sz="4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i="1" lang="uk-UA" sz="4400" spc="-1" strike="noStrike">
                <a:solidFill>
                  <a:srgbClr val="003399"/>
                </a:solidFill>
                <a:latin typeface="Arial"/>
              </a:rPr>
              <a:t>) = 10</a:t>
            </a:r>
            <a:r>
              <a:rPr b="1" i="1" lang="uk-UA" sz="4400" spc="-1" strike="noStrike" baseline="30000">
                <a:solidFill>
                  <a:srgbClr val="003399"/>
                </a:solidFill>
                <a:latin typeface="Arial"/>
              </a:rPr>
              <a:t>-т</a:t>
            </a:r>
            <a:r>
              <a:rPr b="1" i="1" lang="uk-UA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003399"/>
                </a:solidFill>
                <a:latin typeface="Arial"/>
              </a:rPr>
              <a:t>моль/л,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3399"/>
                </a:solidFill>
                <a:latin typeface="Arial"/>
              </a:rPr>
              <a:t>де</a:t>
            </a:r>
            <a:r>
              <a:rPr b="1" i="1" lang="uk-UA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1" i="1" lang="uk-UA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003399"/>
                </a:solidFill>
                <a:latin typeface="Arial"/>
              </a:rPr>
              <a:t>– водневий показник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284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одневий показник (рН)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–   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ількісна характеристика вмісту йонів Н+ та ОН-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 воді та водних розчинах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28440" y="1213920"/>
            <a:ext cx="45003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 поняття було введено у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909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році датським хіміком Сьоренсеном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а показника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складена з перших літер латиньських слів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potentia hydrogeni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—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ила водню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796000" y="1268280"/>
            <a:ext cx="271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Залежність середовищ розчинів </a:t>
            </a:r>
            <a:br>
              <a:rPr sz="3600"/>
            </a:b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від концентрації йонів Н+ та ОН-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2800"/>
            </a:b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85880" y="1571760"/>
          <a:ext cx="8001000" cy="4324320"/>
        </p:xfrm>
        <a:graphic>
          <a:graphicData uri="http://schemas.openxmlformats.org/drawingml/2006/table">
            <a:tbl>
              <a:tblPr/>
              <a:tblGrid>
                <a:gridCol w="2000160"/>
                <a:gridCol w="2082960"/>
                <a:gridCol w="2106360"/>
                <a:gridCol w="1811520"/>
              </a:tblGrid>
              <a:tr h="1616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овищ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ія йонів Гідрогену [Н+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ія гидроксид-и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ОН-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ч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с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аль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ж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769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Забарвлення індикаторів </a:t>
            </a:r>
            <a:br>
              <a:rPr sz="3600"/>
            </a:b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в різних середовищах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28800" y="1285920"/>
          <a:ext cx="7786440" cy="4784760"/>
        </p:xfrm>
        <a:graphic>
          <a:graphicData uri="http://schemas.openxmlformats.org/drawingml/2006/table">
            <a:tbl>
              <a:tblPr/>
              <a:tblGrid>
                <a:gridCol w="1946160"/>
                <a:gridCol w="1947960"/>
                <a:gridCol w="1946160"/>
                <a:gridCol w="1946160"/>
              </a:tblGrid>
              <a:tr h="677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ндик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арвлення індикатора в середовищ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ислом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йтральном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ужном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акм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черв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фіолет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3a8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ин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тилоран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оже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омаранче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жов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енолфталеї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езбар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езбар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малин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0:43:23Z</dcterms:created>
  <dc:creator>Кристи</dc:creator>
  <dc:description/>
  <dc:language>en-US</dc:language>
  <cp:lastModifiedBy>Пользователь</cp:lastModifiedBy>
  <dcterms:modified xsi:type="dcterms:W3CDTF">2003-01-01T22:28:19Z</dcterms:modified>
  <cp:revision>154</cp:revision>
  <dc:subject/>
  <dc:title>CONNECTIVITY</dc:title>
</cp:coreProperties>
</file>