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546-75FB-4CC0-B37F-CB562388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4E4-357B-49EB-A83B-203DB98C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8CC-83A6-4583-BA17-AF3267AE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AE2-D9FC-4DB4-9770-29304C25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13B-2DD1-45FF-A231-FC815353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A08-1AF6-4E03-BC24-C9D5A7F6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3DC-2ED3-429F-B12E-B6778C3D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B37-5242-4C42-B8C3-ED9D9DC4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3FE-51E4-46B3-91C9-AB9BBEE1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B73-0F04-4223-BBD0-8595D8B0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324-0009-4713-AF50-CED71F06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325-1E5F-4DF2-BA35-BA7B7365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6AC5-FC13-42B6-B47D-B1E4A9E53F1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s://4.bp.blogspot.com/-eZHQrGbuk3A/V2O-FPde_rI/AAAAAAAAD5s/PqLNz2pMGScnp5n7BqXX7w2s-mwo8IF5wCLcB/s1600/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2" descr=""/>
          <p:cNvPicPr/>
          <p:nvPr/>
        </p:nvPicPr>
        <p:blipFill>
          <a:blip r:embed="rId1"/>
          <a:stretch/>
        </p:blipFill>
        <p:spPr>
          <a:xfrm>
            <a:off x="2706840" y="1206360"/>
            <a:ext cx="5084640" cy="2073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Анимашки Бабочки"/>
          <p:cNvPicPr/>
          <p:nvPr/>
        </p:nvPicPr>
        <p:blipFill>
          <a:blip r:embed="rId2"/>
          <a:stretch/>
        </p:blipFill>
        <p:spPr>
          <a:xfrm>
            <a:off x="10001160" y="271476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img0.liveinternet.ru/images/attach/c/7/125/143/125143454_168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звуки природы утренние птицы пробуждение леса.mp3" descr=""/>
          <p:cNvPicPr/>
          <p:nvPr/>
        </p:nvPicPr>
        <p:blipFill>
          <a:blip r:embed="rId4"/>
          <a:stretch/>
        </p:blipFill>
        <p:spPr>
          <a:xfrm>
            <a:off x="6286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712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http://yakoryok.ru/images/3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8" descr="http://i026.radikal.ru/1107/21/beb6f7bbc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Прямоугольник 6" descr=""/>
          <p:cNvPicPr/>
          <p:nvPr/>
        </p:nvPicPr>
        <p:blipFill>
          <a:blip r:embed="rId1"/>
          <a:stretch/>
        </p:blipFill>
        <p:spPr>
          <a:xfrm>
            <a:off x="8143920" y="-208080"/>
            <a:ext cx="1427040" cy="1219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http://www.greenmama.ru/dn_images/02/86/74/10/1319970659belk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8686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6000" spc="-1" strike="noStrike">
                <a:solidFill>
                  <a:srgbClr val="000000"/>
                </a:solidFill>
                <a:latin typeface="Calibri"/>
              </a:rPr>
              <a:t>Плига   руда   білочка</a:t>
            </a:r>
            <a:br>
              <a:rPr sz="6000"/>
            </a:br>
            <a:r>
              <a:rPr b="1" lang="uk-UA" sz="6000" spc="-1" strike="noStrike">
                <a:solidFill>
                  <a:srgbClr val="000000"/>
                </a:solidFill>
                <a:latin typeface="Calibri"/>
              </a:rPr>
              <a:t>     з  гілочки  на   гілочку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42680"/>
            <a:ext cx="21859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5" descr="http://www.greenmama.ru/dn_images/02/86/74/10/1319970659belka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C:\Users\Admin\Desktop\Створити папку (2)\image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1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uk-UA" sz="8100" spc="-1" strike="noStrike">
                <a:solidFill>
                  <a:srgbClr val="ff0000"/>
                </a:solidFill>
                <a:latin typeface="Calibri"/>
              </a:rPr>
              <a:t>Молодці!</a:t>
            </a:r>
            <a:endParaRPr b="0" lang="en-US" sz="8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s://4.bp.blogspot.com/-eZHQrGbuk3A/V2O-FPde_rI/AAAAAAAAD5s/PqLNz2pMGScnp5n7BqXX7w2s-mwo8IF5wCLcB/s1600/3.jpg"/>
          <p:cNvPicPr/>
          <p:nvPr/>
        </p:nvPicPr>
        <p:blipFill>
          <a:blip r:embed="rId1"/>
          <a:stretch/>
        </p:blipFill>
        <p:spPr>
          <a:xfrm>
            <a:off x="2286000" y="1928880"/>
            <a:ext cx="506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04:36:58Z</dcterms:created>
  <dc:creator>Admin</dc:creator>
  <dc:description/>
  <dc:language>en-US</dc:language>
  <cp:lastModifiedBy>abmin</cp:lastModifiedBy>
  <dcterms:modified xsi:type="dcterms:W3CDTF">2017-05-22T15:45:29Z</dcterms:modified>
  <cp:revision>279</cp:revision>
  <dc:subject/>
  <dc:title>Скоромовки</dc:title>
</cp:coreProperties>
</file>