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4586400"/>
            <a:ext cx="86029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458640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640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458640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680" y="458640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8480" y="4586400"/>
            <a:ext cx="276984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555480"/>
            <a:ext cx="860292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458640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640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4586400"/>
            <a:ext cx="860292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000" y="179280"/>
            <a:ext cx="8280360" cy="3780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Чарльз Діккенс</a:t>
            </a:r>
            <a:br>
              <a:rPr sz="4400"/>
            </a:b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«Різдвяна пісня у прозі»</a:t>
            </a:r>
            <a:br>
              <a:rPr sz="4400"/>
            </a:b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260360" y="3240000"/>
            <a:ext cx="8280360" cy="4140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1619280" y="2160720"/>
            <a:ext cx="7920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8000"/>
                </a:solidFill>
                <a:latin typeface="Arial"/>
                <a:ea typeface="SimSun"/>
              </a:rPr>
              <a:t>«СВЯТВЕЧІРНЄ ОПОВІДАННЯ 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  <a:ea typeface="SimSun"/>
              </a:rPr>
              <a:t>ПРИВИДАМИ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0000" y="80928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2303640"/>
            <a:ext cx="9070920" cy="49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9444240" cy="65739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36792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Яким став Скрудж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Oval 2"/>
          <p:cNvSpPr/>
          <p:nvPr/>
        </p:nvSpPr>
        <p:spPr>
          <a:xfrm>
            <a:off x="3684600" y="3598920"/>
            <a:ext cx="31557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SimSun"/>
              </a:rPr>
              <a:t>Новий Скруд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 flipH="1">
            <a:off x="3417480" y="4680000"/>
            <a:ext cx="903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5219640" y="4680000"/>
            <a:ext cx="180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6300720" y="468000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 flipV="1">
            <a:off x="3598920" y="3059280"/>
            <a:ext cx="54288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V="1">
            <a:off x="6300720" y="3059280"/>
            <a:ext cx="53964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079640" y="2279520"/>
            <a:ext cx="3060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300dc"/>
                </a:solidFill>
                <a:latin typeface="Arial"/>
                <a:ea typeface="SimSun"/>
              </a:rPr>
              <a:t>Відіслав різдвяну Індичку Кретчи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657840" y="2340000"/>
            <a:ext cx="3241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Допоміг Тайні Тім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840360" y="5040360"/>
            <a:ext cx="306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5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Збільшив платню Бобу Кретчи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500720" y="5759280"/>
            <a:ext cx="306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Прийшов помиритися з племінни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00000" y="4859280"/>
            <a:ext cx="305604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Просив прийняти благодійний внес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9920" y="243000"/>
            <a:ext cx="907092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Свято Різдва завжди пов»язувалося з дивом, спасінням, даром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630072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60360" y="4861080"/>
            <a:ext cx="792000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80"/>
                </a:solidFill>
                <a:latin typeface="Times New Roman"/>
              </a:rPr>
              <a:t>Ч.Діккенс щиро вірить у можливість перетворення «мертвої» душі на жив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741240" y="563400"/>
            <a:ext cx="86076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41240" y="563400"/>
            <a:ext cx="860760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936000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79488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2303640"/>
            <a:ext cx="9070920" cy="49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14520" y="358920"/>
            <a:ext cx="8565840" cy="630072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4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333333"/>
                </a:solidFill>
                <a:latin typeface="Arial"/>
              </a:rPr>
              <a:t>Алгоритм складання сенкану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40880" y="2101680"/>
            <a:ext cx="86029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Іменник (тем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Два прикметники (яке воно?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ри дієслова (що воно робить?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Фраза-висновок з чотирьох слі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Іменник-синонім до теми ( висновок, асоціація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60000"/>
            <a:ext cx="93600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4700b8"/>
                </a:solidFill>
                <a:latin typeface="Arial"/>
              </a:rPr>
              <a:t>Висновок</a:t>
            </a: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008080"/>
                </a:solidFill>
                <a:latin typeface="Arial"/>
              </a:rPr>
              <a:t>Щасливою людину робить:</a:t>
            </a:r>
            <a:br>
              <a:rPr sz="4400"/>
            </a:br>
            <a:r>
              <a:rPr b="1" lang="ru-RU" sz="4400" spc="-1" strike="noStrike">
                <a:solidFill>
                  <a:srgbClr val="ff3333"/>
                </a:solidFill>
                <a:latin typeface="Arial"/>
              </a:rPr>
              <a:t>-  родина</a:t>
            </a:r>
            <a:br>
              <a:rPr sz="4400"/>
            </a:b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-  друзі</a:t>
            </a:r>
            <a:br>
              <a:rPr sz="4400"/>
            </a:br>
            <a:r>
              <a:rPr b="1" lang="ru-RU" sz="4400" spc="-1" strike="noStrike">
                <a:solidFill>
                  <a:srgbClr val="ff950e"/>
                </a:solidFill>
                <a:latin typeface="Arial"/>
              </a:rPr>
              <a:t>-  кохання</a:t>
            </a:r>
            <a:br>
              <a:rPr sz="4400"/>
            </a:br>
            <a:r>
              <a:rPr b="1" lang="ru-RU" sz="4400" spc="-1" strike="noStrike">
                <a:solidFill>
                  <a:srgbClr val="7e0021"/>
                </a:solidFill>
                <a:latin typeface="Arial"/>
              </a:rPr>
              <a:t>-  щире серце ;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640" y="3600000"/>
            <a:ext cx="9360000" cy="357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</a:rPr>
              <a:t>«Май душу, май серце і будеш людиною на всі ча</a:t>
            </a:r>
            <a:r>
              <a:rPr b="0" lang="ru-RU" sz="4800" spc="-1" strike="noStrike">
                <a:solidFill>
                  <a:srgbClr val="2300dc"/>
                </a:solidFill>
                <a:latin typeface="Times New Roman"/>
              </a:rPr>
              <a:t>с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Ч.Дікке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425600" y="4140000"/>
            <a:ext cx="774072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</a:rPr>
              <a:t>ЩАСЛИВОГО РІЗДВА </a:t>
            </a:r>
            <a:r>
              <a:rPr b="0" lang="ru-RU" sz="3200" spc="-1" strike="noStrike">
                <a:solidFill>
                  <a:srgbClr val="00008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8280360" cy="3419640"/>
          </a:xfrm>
          <a:prstGeom prst="rect">
            <a:avLst/>
          </a:prstGeom>
          <a:ln w="0">
            <a:noFill/>
          </a:ln>
        </p:spPr>
      </p:pic>
      <p:pic>
        <p:nvPicPr>
          <p:cNvPr id="102" name="06_leontovych_shchedryk27 (1)" descr=""/>
          <p:cNvPicPr/>
          <p:nvPr/>
        </p:nvPicPr>
        <p:blipFill>
          <a:blip r:embed="rId2"/>
          <a:stretch/>
        </p:blipFill>
        <p:spPr>
          <a:xfrm>
            <a:off x="4686480" y="5186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2856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9360000" y="1260360"/>
            <a:ext cx="179280" cy="54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1260360" y="2160720"/>
            <a:ext cx="7559640" cy="4859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900000" y="539640"/>
            <a:ext cx="882036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80"/>
                </a:solidFill>
                <a:latin typeface="Arial"/>
                <a:ea typeface="SimSun"/>
              </a:rPr>
              <a:t>Тема уро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SimSun"/>
              </a:rPr>
              <a:t>Переродження Скруджа я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  <a:ea typeface="SimSun"/>
              </a:rPr>
              <a:t>наслідок осмислення свого житт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79280"/>
            <a:ext cx="9539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Arial"/>
              </a:rPr>
              <a:t>Епіграф</a:t>
            </a: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 :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 «Є темні сили на землі, та тим яскравішим здається світло»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 Ч. Діккенс</a:t>
            </a:r>
            <a:br>
              <a:rPr sz="36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340000" y="3600360"/>
            <a:ext cx="7380360" cy="3419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280" y="2879640"/>
            <a:ext cx="575964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Arial"/>
                <a:ea typeface="SimSun"/>
              </a:rPr>
              <a:t>Створюємо асоціативний ряд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Р</a:t>
            </a:r>
            <a:r>
              <a:rPr b="1" i="1" lang="ru-RU" sz="1800" spc="-1" strike="noStrike">
                <a:solidFill>
                  <a:srgbClr val="4700b8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4700b8"/>
                </a:solidFill>
                <a:latin typeface="Arial"/>
                <a:ea typeface="SimSun"/>
              </a:rPr>
              <a:t>- </a:t>
            </a:r>
            <a:r>
              <a:rPr b="1" lang="ru-RU" sz="2200" spc="-1" strike="noStrike">
                <a:solidFill>
                  <a:srgbClr val="4700b8"/>
                </a:solidFill>
                <a:latin typeface="Arial"/>
                <a:ea typeface="SimSun"/>
              </a:rPr>
              <a:t> раді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І</a:t>
            </a:r>
            <a:r>
              <a:rPr b="1" i="1" lang="ru-RU" sz="1800" spc="-1" strike="noStrike">
                <a:solidFill>
                  <a:srgbClr val="4700b8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4700b8"/>
                </a:solidFill>
                <a:latin typeface="Arial"/>
                <a:ea typeface="SimSun"/>
              </a:rPr>
              <a:t> -  </a:t>
            </a:r>
            <a:r>
              <a:rPr b="1" lang="ru-RU" sz="2200" spc="-1" strike="noStrike">
                <a:solidFill>
                  <a:srgbClr val="4700b8"/>
                </a:solidFill>
                <a:latin typeface="Arial"/>
                <a:ea typeface="SimSun"/>
              </a:rPr>
              <a:t>ікон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З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ru-RU" sz="1800" spc="-1" strike="noStrike">
                <a:solidFill>
                  <a:srgbClr val="4700b8"/>
                </a:solidFill>
                <a:latin typeface="Arial"/>
                <a:ea typeface="SimSun"/>
              </a:rPr>
              <a:t>- </a:t>
            </a:r>
            <a:r>
              <a:rPr b="1" lang="ru-RU" sz="2200" spc="-1" strike="noStrike">
                <a:solidFill>
                  <a:srgbClr val="4700b8"/>
                </a:solidFill>
                <a:latin typeface="Arial"/>
                <a:ea typeface="SimSun"/>
              </a:rPr>
              <a:t> засівати, зір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Д</a:t>
            </a:r>
            <a:r>
              <a:rPr b="1" lang="ru-RU" sz="1800" spc="-1" strike="noStrike">
                <a:solidFill>
                  <a:srgbClr val="2300dc"/>
                </a:solidFill>
                <a:latin typeface="Arial"/>
                <a:ea typeface="SimSun"/>
              </a:rPr>
              <a:t> </a:t>
            </a:r>
            <a:r>
              <a:rPr b="0" lang="ru-RU" sz="1800" spc="-1" strike="noStrike">
                <a:solidFill>
                  <a:srgbClr val="2300dc"/>
                </a:solidFill>
                <a:latin typeface="Arial"/>
                <a:ea typeface="SimSun"/>
              </a:rPr>
              <a:t>- </a:t>
            </a:r>
            <a:r>
              <a:rPr b="0" lang="ru-RU" sz="2200" spc="-1" strike="noStrike">
                <a:solidFill>
                  <a:srgbClr val="2300dc"/>
                </a:solidFill>
                <a:latin typeface="Arial"/>
                <a:ea typeface="SimSun"/>
              </a:rPr>
              <a:t> </a:t>
            </a:r>
            <a:r>
              <a:rPr b="1" lang="ru-RU" sz="2200" spc="-1" strike="noStrike">
                <a:solidFill>
                  <a:srgbClr val="2300dc"/>
                </a:solidFill>
                <a:latin typeface="Arial"/>
                <a:ea typeface="SimSun"/>
              </a:rPr>
              <a:t>ди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В</a:t>
            </a:r>
            <a:r>
              <a:rPr b="1" i="1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4700b8"/>
                </a:solidFill>
                <a:latin typeface="Arial"/>
                <a:ea typeface="SimSun"/>
              </a:rPr>
              <a:t>- веселощ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  <a:ea typeface="SimSun"/>
              </a:rPr>
              <a:t>О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SimSun"/>
              </a:rPr>
              <a:t> - </a:t>
            </a:r>
            <a:r>
              <a:rPr b="1" lang="ru-RU" sz="2200" spc="-1" strike="noStrike">
                <a:solidFill>
                  <a:srgbClr val="4700b8"/>
                </a:solidFill>
                <a:latin typeface="Arial"/>
                <a:ea typeface="SimSun"/>
              </a:rPr>
              <a:t>очікуванн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3240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333333"/>
                </a:solidFill>
                <a:latin typeface="Arial"/>
              </a:rPr>
              <a:t>Літературний диктант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0880" y="1979280"/>
            <a:ext cx="9339480" cy="572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и можете ви назвати головного героя твор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ому Скрудж так не любить Різдв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 якою метою з’являється привид Марлі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чому криється причина душевного холоду Скрудж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Що було найголовнішим для героя? Чи принесло йому це щаст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Що сприяло переродженню Скрудж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чому полягає щастя Кретчит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ому Другий Дух завітав саме до бідної родини Кретчитів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Чому Боб запропонував тост за містера Скруджа, який не зробив йому нічого доброг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чому виявилися зміни у поведінці Скруджа стосовно Кретчита після подорожі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ий підсумок життя героя у теперішньо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им шляхом Скрудж пішов до переродженн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30168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uk-UA" sz="4400" spc="-1" strike="noStrike">
                <a:solidFill>
                  <a:srgbClr val="333333"/>
                </a:solidFill>
                <a:latin typeface="Arial"/>
              </a:rPr>
              <a:t>Відповіді, взаємоперевірк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3280" y="1908000"/>
            <a:ext cx="943272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крудж, бо Марлі мертв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о вважає все це дурнице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н намагається застерегти від помилок, які колись зробив с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самотності ще з дитинства, був позбавлений батьківського теп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Гроші. Ні, бо він залишився оди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Страшне видовище власної смер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У дружній роди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Щоб Скрудж зрозумів, яке це щастя мати сім’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об був милосердною людиною, всім все проща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ін наказав краще топити, підвищив платню, дав гроші на лікування Тіма, зробив усім подару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трата людських почуттів, деградація особистост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ісля побаченого майбутнього в ньому пробудилося відчуття каятт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15408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Три духи явилися Скруджу 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Різдвяну ніч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9080" y="1800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Times New Roman"/>
              </a:rPr>
              <a:t>Духи впливають на героя, примушують й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80099"/>
                </a:solidFill>
                <a:latin typeface="Times New Roman"/>
              </a:rPr>
              <a:t>замислитися над своїм жит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9640" y="1619280"/>
            <a:ext cx="306036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319640" y="4734000"/>
            <a:ext cx="180000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6840360" y="468000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1030320" y="492588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0360" y="-41760"/>
            <a:ext cx="953928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Дух Минулого Різдва примушує невблаганного Скруджа :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лакати,</a:t>
            </a:r>
            <a:br>
              <a:rPr sz="4400"/>
            </a:br>
            <a:r>
              <a:rPr b="1" lang="ru-RU" sz="4400" spc="-1" strike="noStrike">
                <a:solidFill>
                  <a:srgbClr val="4700b8"/>
                </a:solidFill>
                <a:latin typeface="Arial"/>
              </a:rPr>
              <a:t>сміятися,</a:t>
            </a:r>
            <a:br>
              <a:rPr sz="4400"/>
            </a:br>
            <a:r>
              <a:rPr b="1" lang="ru-RU" sz="4400" spc="-1" strike="noStrike">
                <a:solidFill>
                  <a:srgbClr val="b84700"/>
                </a:solidFill>
                <a:latin typeface="Arial"/>
              </a:rPr>
              <a:t>відчувати сором за свої вчинки,</a:t>
            </a:r>
            <a:br>
              <a:rPr sz="4400"/>
            </a:br>
            <a:r>
              <a:rPr b="1" lang="ru-RU" sz="4400" spc="-1" strike="noStrike">
                <a:solidFill>
                  <a:srgbClr val="00ae00"/>
                </a:solidFill>
                <a:latin typeface="Arial"/>
              </a:rPr>
              <a:t>пробуджує людські почуття.</a:t>
            </a:r>
            <a:br>
              <a:rPr sz="4400"/>
            </a:b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20720" y="8408520"/>
            <a:ext cx="100807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979640" y="4140360"/>
            <a:ext cx="6300720" cy="30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-11160"/>
            <a:ext cx="899964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6633"/>
                </a:solidFill>
                <a:latin typeface="Arial"/>
              </a:rPr>
              <a:t>Дух Нинішнього Різдва</a:t>
            </a:r>
            <a:br>
              <a:rPr sz="4400"/>
            </a:br>
            <a:r>
              <a:rPr b="1" lang="ru-RU" sz="4400" spc="-1" strike="noStrike">
                <a:solidFill>
                  <a:srgbClr val="cc6633"/>
                </a:solidFill>
                <a:latin typeface="Arial"/>
              </a:rPr>
              <a:t>показав, що радіти святу і бути</a:t>
            </a:r>
            <a:br>
              <a:rPr sz="4400"/>
            </a:br>
            <a:r>
              <a:rPr b="1" lang="ru-RU" sz="4400" spc="-1" strike="noStrike">
                <a:solidFill>
                  <a:srgbClr val="cc6633"/>
                </a:solidFill>
                <a:latin typeface="Arial"/>
              </a:rPr>
              <a:t>щасливим можна і без багатств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997360"/>
            <a:ext cx="90374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39640" y="2519280"/>
            <a:ext cx="8999640" cy="4637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321840"/>
            <a:ext cx="899964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80"/>
                </a:solidFill>
                <a:latin typeface="Arial"/>
              </a:rPr>
              <a:t>Дух Майбутнього Різдва дає</a:t>
            </a:r>
            <a:br>
              <a:rPr sz="4400"/>
            </a:br>
            <a:r>
              <a:rPr b="1" i="1" lang="ru-RU" sz="4400" spc="-1" strike="noStrike">
                <a:solidFill>
                  <a:srgbClr val="000080"/>
                </a:solidFill>
                <a:latin typeface="Arial"/>
              </a:rPr>
              <a:t>Скруджу шанс змінити своє життя</a:t>
            </a:r>
            <a:r>
              <a:rPr b="1" lang="ru-RU" sz="4400" spc="-1" strike="noStrike">
                <a:solidFill>
                  <a:srgbClr val="5c8526"/>
                </a:solidFill>
                <a:latin typeface="Arial"/>
              </a:rPr>
              <a:t>: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9966cc"/>
                </a:solidFill>
                <a:latin typeface="Arial"/>
              </a:rPr>
              <a:t>«Я буду поважати Різдво у своєму серці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4400"/>
            </a:br>
            <a:r>
              <a:rPr b="1" lang="ru-RU" sz="4400" spc="-1" strike="noStrike">
                <a:solidFill>
                  <a:srgbClr val="198a8a"/>
                </a:solidFill>
                <a:latin typeface="Arial"/>
              </a:rPr>
              <a:t>Я спокутую своє Минуле Теперішнім і Майбутні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4400"/>
            </a:br>
            <a:r>
              <a:rPr b="1" lang="ru-RU" sz="4400" spc="-1" strike="noStrike">
                <a:solidFill>
                  <a:srgbClr val="b84700"/>
                </a:solidFill>
                <a:latin typeface="Arial"/>
              </a:rPr>
              <a:t>Я не забуду їх пам»ятних уроків.»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-1079640" y="-360720"/>
            <a:ext cx="18720000" cy="885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  <a:tab algn="l" pos="13030200"/>
                <a:tab algn="l" pos="13754160"/>
                <a:tab algn="l" pos="14478120"/>
                <a:tab algn="l" pos="15202080"/>
                <a:tab algn="l" pos="15925680"/>
                <a:tab algn="l" pos="16649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119640" y="5940360"/>
            <a:ext cx="1979640" cy="144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39640" y="594036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8459640" y="5940360"/>
            <a:ext cx="144000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2T16:58:15Z</dcterms:created>
  <dc:creator/>
  <dc:description/>
  <dc:language>en-US</dc:language>
  <cp:lastModifiedBy>КЗОШ</cp:lastModifiedBy>
  <dcterms:modified xsi:type="dcterms:W3CDTF">2018-01-02T08:58:12Z</dcterms:modified>
  <cp:revision>3</cp:revision>
  <dc:subject/>
  <dc:title>Чарльз Діккенс «Різдвяна пісня у прозі»   </dc:title>
</cp:coreProperties>
</file>