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535-8D04-4AC2-8BD6-CD52BAF3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400-6CDB-40F4-8901-23F79469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C96-C8E0-4F8F-992B-13778EBC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AE0-8E30-4B82-8FEC-671599E3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96D-F840-49D8-BD25-4A5B1FFD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262-C75F-4595-8028-C593EEA7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F2B-8718-48BC-A25B-33E1380E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555-D831-48B1-ABF3-0EF85A3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477-BAA9-4671-964F-97B64AA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B2C-EF6E-47B4-B90F-2578958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47F-123C-4CA7-86D1-38BAE0F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34F-1968-49B6-85D7-187722F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534-9C91-4874-96DD-EBCA6ABAB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Valiko1\Desktop\750512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215120" cy="44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Урок-казка.</a:t>
            </a:r>
            <a:br>
              <a:rPr sz="4400"/>
            </a:b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Об'ємні вироби з паперу</a:t>
            </a:r>
            <a:br>
              <a:rPr sz="4400"/>
            </a:b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“Ялинка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Вітя\Desktop\img1340263618.jpg"/>
          <p:cNvPicPr/>
          <p:nvPr/>
        </p:nvPicPr>
        <p:blipFill>
          <a:blip r:embed="rId1"/>
          <a:srcRect l="50001" t="10918" r="0" b="15560"/>
          <a:stretch/>
        </p:blipFill>
        <p:spPr>
          <a:xfrm>
            <a:off x="-17640" y="0"/>
            <a:ext cx="9161640" cy="842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f497d"/>
                </a:solidFill>
                <a:latin typeface="Comic Sans MS"/>
              </a:rPr>
              <a:t>Зайчик по сніжку стрибав,</a:t>
            </a:r>
            <a:br>
              <a:rPr sz="3200"/>
            </a:br>
            <a:r>
              <a:rPr b="1" i="1" lang="uk-UA" sz="3200" spc="-1" strike="noStrike">
                <a:solidFill>
                  <a:srgbClr val="1f497d"/>
                </a:solidFill>
                <a:latin typeface="Comic Sans MS"/>
              </a:rPr>
              <a:t>З друзями у сніжки грав.</a:t>
            </a:r>
            <a:br>
              <a:rPr sz="3200"/>
            </a:br>
            <a:r>
              <a:rPr b="1" i="1" lang="uk-UA" sz="3200" spc="-1" strike="noStrike">
                <a:solidFill>
                  <a:srgbClr val="1f497d"/>
                </a:solidFill>
                <a:latin typeface="Comic Sans MS"/>
              </a:rPr>
              <a:t>Та замерзли вушка й лапки,</a:t>
            </a:r>
            <a:br>
              <a:rPr sz="3200"/>
            </a:br>
            <a:r>
              <a:rPr b="1" i="1" lang="uk-UA" sz="3200" spc="-1" strike="noStrike">
                <a:solidFill>
                  <a:srgbClr val="1f497d"/>
                </a:solidFill>
                <a:latin typeface="Comic Sans MS"/>
              </a:rPr>
              <a:t>Слід ховатися до хатки</a:t>
            </a: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500040" y="2714760"/>
            <a:ext cx="1873440" cy="3103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:\Звірі\images.jpg"/>
          <p:cNvPicPr/>
          <p:nvPr/>
        </p:nvPicPr>
        <p:blipFill>
          <a:blip r:embed="rId3"/>
          <a:stretch/>
        </p:blipFill>
        <p:spPr>
          <a:xfrm>
            <a:off x="2428920" y="5000760"/>
            <a:ext cx="1785960" cy="1857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:\Звірі\Zajchik-origami-video-urok-po-sborke-.png"/>
          <p:cNvPicPr/>
          <p:nvPr/>
        </p:nvPicPr>
        <p:blipFill>
          <a:blip r:embed="rId4"/>
          <a:stretch/>
        </p:blipFill>
        <p:spPr>
          <a:xfrm>
            <a:off x="4286160" y="2571840"/>
            <a:ext cx="221472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:\Звірі\f8536a75b57929d7e8f3147630f16464.jpg"/>
          <p:cNvPicPr/>
          <p:nvPr/>
        </p:nvPicPr>
        <p:blipFill>
          <a:blip r:embed="rId5"/>
          <a:srcRect l="12611" t="0" r="18748" b="29358"/>
          <a:stretch/>
        </p:blipFill>
        <p:spPr>
          <a:xfrm>
            <a:off x="5000760" y="5143680"/>
            <a:ext cx="242892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Вітя\Desktop\img1340263618.jpg"/>
          <p:cNvPicPr/>
          <p:nvPr/>
        </p:nvPicPr>
        <p:blipFill>
          <a:blip r:embed="rId1"/>
          <a:srcRect l="50001" t="10918" r="0" b="15560"/>
          <a:stretch/>
        </p:blipFill>
        <p:spPr>
          <a:xfrm>
            <a:off x="-17640" y="0"/>
            <a:ext cx="9161640" cy="8420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1f497d"/>
                </a:solidFill>
                <a:latin typeface="Comic Sans MS"/>
              </a:rPr>
              <a:t>Кинулось чимдуж зайчатко</a:t>
            </a:r>
            <a:br>
              <a:rPr sz="3600"/>
            </a:br>
            <a:r>
              <a:rPr b="1" i="1" lang="uk-UA" sz="3600" spc="-1" strike="noStrike">
                <a:solidFill>
                  <a:srgbClr val="1f497d"/>
                </a:solidFill>
                <a:latin typeface="Comic Sans MS"/>
              </a:rPr>
              <a:t>Та немає його хатки.</a:t>
            </a:r>
            <a:br>
              <a:rPr sz="3600"/>
            </a:br>
            <a:r>
              <a:rPr b="1" i="1" lang="uk-UA" sz="3600" spc="-1" strike="noStrike">
                <a:solidFill>
                  <a:srgbClr val="1f497d"/>
                </a:solidFill>
                <a:latin typeface="Comic Sans MS"/>
              </a:rPr>
              <a:t>Де росла ялиночка – </a:t>
            </a:r>
            <a:br>
              <a:rPr sz="3600"/>
            </a:br>
            <a:r>
              <a:rPr b="1" i="1" lang="uk-UA" sz="3600" spc="-1" strike="noStrike">
                <a:solidFill>
                  <a:srgbClr val="1f497d"/>
                </a:solidFill>
                <a:latin typeface="Comic Sans MS"/>
              </a:rPr>
              <a:t>Залишилась … ямочка</a:t>
            </a: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1928880" y="3429000"/>
            <a:ext cx="18730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ОЛІВЦІ\pust_portfolio_uchit\пустой лист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57160" y="1357200"/>
            <a:ext cx="77868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Ножиці в руки бери…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обережн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Клеєм намащуй аркуш…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уважн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Після роботи на парті…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прибер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сі матеріали на місце…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покла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Valiko1\Desktop\inde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5357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Comic Sans MS"/>
              </a:rPr>
              <a:t>Задрімав наш вухань на хвилинку,</a:t>
            </a:r>
            <a:br>
              <a:rPr sz="2000"/>
            </a:br>
            <a:r>
              <a:rPr b="1" i="1" lang="uk-UA" sz="2000" spc="-1" strike="noStrike">
                <a:solidFill>
                  <a:srgbClr val="0070c0"/>
                </a:solidFill>
                <a:latin typeface="Comic Sans MS"/>
              </a:rPr>
              <a:t>І наснилась йому гарна картинка.</a:t>
            </a:r>
            <a:br>
              <a:rPr sz="2000"/>
            </a:br>
            <a:r>
              <a:rPr b="1" i="1" lang="uk-UA" sz="2000" spc="-1" strike="noStrike">
                <a:solidFill>
                  <a:srgbClr val="0070c0"/>
                </a:solidFill>
                <a:latin typeface="Comic Sans MS"/>
              </a:rPr>
              <a:t>Пишна зелена ялинка.</a:t>
            </a:r>
            <a:br>
              <a:rPr sz="2000"/>
            </a:br>
            <a:r>
              <a:rPr b="1" i="1" lang="uk-UA" sz="2000" spc="-1" strike="noStrike">
                <a:solidFill>
                  <a:srgbClr val="0070c0"/>
                </a:solidFill>
                <a:latin typeface="Comic Sans MS"/>
              </a:rPr>
              <a:t>А під нею - його хати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2571840" y="3143160"/>
            <a:ext cx="1873080" cy="3103560"/>
          </a:xfrm>
          <a:prstGeom prst="rect">
            <a:avLst/>
          </a:prstGeom>
          <a:ln w="0">
            <a:noFill/>
          </a:ln>
        </p:spPr>
      </p:pic>
      <p:sp>
        <p:nvSpPr>
          <p:cNvPr id="91" name="Выноска-облако 5"/>
          <p:cNvSpPr/>
          <p:nvPr/>
        </p:nvSpPr>
        <p:spPr>
          <a:xfrm>
            <a:off x="5429160" y="357120"/>
            <a:ext cx="3500640" cy="2214720"/>
          </a:xfrm>
          <a:prstGeom prst="cloudCallout">
            <a:avLst>
              <a:gd name="adj1" fmla="val -91921"/>
              <a:gd name="adj2" fmla="val 93638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Вітя\Desktop\tree-color.png"/>
          <p:cNvPicPr/>
          <p:nvPr/>
        </p:nvPicPr>
        <p:blipFill>
          <a:blip r:embed="rId3"/>
          <a:srcRect l="26203" t="0" r="23154" b="31544"/>
          <a:stretch/>
        </p:blipFill>
        <p:spPr>
          <a:xfrm>
            <a:off x="6643800" y="857160"/>
            <a:ext cx="10713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Valiko1\Desktop\inde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50356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Comic Sans MS"/>
              </a:rPr>
              <a:t>Зліпили вправні рученята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Comic Sans MS"/>
              </a:rPr>
              <a:t>Теплу хатинку для зайчати.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Comic Sans MS"/>
              </a:rPr>
              <a:t>Ну, що ж, вухан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ь</a:t>
            </a:r>
            <a:r>
              <a:rPr b="1" i="1" lang="uk-UA" sz="2400" spc="-1" strike="noStrike">
                <a:solidFill>
                  <a:srgbClr val="0070c0"/>
                </a:solidFill>
                <a:latin typeface="Comic Sans MS"/>
              </a:rPr>
              <a:t>чику, давай,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Comic Sans MS"/>
              </a:rPr>
              <a:t>Затишну хатинку заселя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1643040" y="3286080"/>
            <a:ext cx="1873440" cy="31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Valiko1\Desktop\03709348.jpg"/>
          <p:cNvPicPr/>
          <p:nvPr/>
        </p:nvPicPr>
        <p:blipFill>
          <a:blip r:embed="rId3"/>
          <a:stretch/>
        </p:blipFill>
        <p:spPr>
          <a:xfrm>
            <a:off x="5148360" y="692280"/>
            <a:ext cx="37242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3" descr="C:\Users\Вітя\Desktop\post-352707-1272519593.jpg"/>
          <p:cNvPicPr/>
          <p:nvPr/>
        </p:nvPicPr>
        <p:blipFill>
          <a:blip r:embed="rId1"/>
          <a:stretch/>
        </p:blipFill>
        <p:spPr>
          <a:xfrm>
            <a:off x="-304920" y="144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1285920" y="357120"/>
            <a:ext cx="7215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eeece1"/>
                </a:solidFill>
                <a:latin typeface="Comic Sans MS"/>
              </a:rPr>
              <a:t>Сірий Зайчик в лісі жив</a:t>
            </a:r>
            <a:br>
              <a:rPr sz="4400"/>
            </a:br>
            <a:r>
              <a:rPr b="1" i="1" lang="uk-UA" sz="4400" spc="-1" strike="noStrike">
                <a:solidFill>
                  <a:srgbClr val="eeece1"/>
                </a:solidFill>
                <a:latin typeface="Comic Sans MS"/>
              </a:rPr>
              <a:t>Грався, бігав не туж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-285840" y="2857680"/>
            <a:ext cx="2232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Вітя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eeece1"/>
                </a:solidFill>
                <a:latin typeface="Comic Sans MS"/>
              </a:rPr>
              <a:t>З Колобочком він друж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2665440" y="981000"/>
            <a:ext cx="2160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Вітя\Desktop\84493.jp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714600" y="0"/>
            <a:ext cx="48574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З Білками </a:t>
            </a:r>
            <a:br>
              <a:rPr sz="4400"/>
            </a:b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танок вод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679320" y="2946240"/>
            <a:ext cx="2232000" cy="370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Вітя\Desktop\OUXP3RGCeA8.jpg"/>
          <p:cNvPicPr/>
          <p:nvPr/>
        </p:nvPicPr>
        <p:blipFill>
          <a:blip r:embed="rId3"/>
          <a:srcRect l="11323" t="0" r="17847" b="0"/>
          <a:stretch/>
        </p:blipFill>
        <p:spPr>
          <a:xfrm>
            <a:off x="4405320" y="2637000"/>
            <a:ext cx="1773360" cy="18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Вітя\Desktop\OUXP3RGCeA8.jpg"/>
          <p:cNvPicPr/>
          <p:nvPr/>
        </p:nvPicPr>
        <p:blipFill>
          <a:blip r:embed="rId4"/>
          <a:srcRect l="11323" t="0" r="17847" b="0"/>
          <a:stretch/>
        </p:blipFill>
        <p:spPr>
          <a:xfrm rot="712200">
            <a:off x="6251040" y="4272120"/>
            <a:ext cx="1775160" cy="181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Вітя\Desktop\OUXP3RGCeA8.jpg"/>
          <p:cNvPicPr/>
          <p:nvPr/>
        </p:nvPicPr>
        <p:blipFill>
          <a:blip r:embed="rId5"/>
          <a:srcRect l="11323" t="0" r="17847" b="0"/>
          <a:stretch/>
        </p:blipFill>
        <p:spPr>
          <a:xfrm flipH="1" rot="1359000">
            <a:off x="2563560" y="2504880"/>
            <a:ext cx="12650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Вітя\Desktop\Bankoboev.Ru_pen_v_lesu.jpg"/>
          <p:cNvPicPr/>
          <p:nvPr/>
        </p:nvPicPr>
        <p:blipFill>
          <a:blip r:embed="rId1"/>
          <a:stretch/>
        </p:blipFill>
        <p:spPr>
          <a:xfrm>
            <a:off x="3240" y="-79200"/>
            <a:ext cx="9248760" cy="693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32080" y="357120"/>
            <a:ext cx="591192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Comic Sans MS"/>
              </a:rPr>
              <a:t>В хован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Comic Sans MS"/>
              </a:rPr>
              <a:t>він з вовком грав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179280" y="2946240"/>
            <a:ext cx="2232000" cy="370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Вітя\Desktop\7ec2893f0eb3.png"/>
          <p:cNvPicPr/>
          <p:nvPr/>
        </p:nvPicPr>
        <p:blipFill>
          <a:blip r:embed="rId3"/>
          <a:stretch/>
        </p:blipFill>
        <p:spPr>
          <a:xfrm>
            <a:off x="6283440" y="2255760"/>
            <a:ext cx="1079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Вітя\Desktop\Bankoboev.Ru_pen_v_lesu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45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6960" y="571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І від </a:t>
            </a:r>
            <a:br>
              <a:rPr sz="4400"/>
            </a:b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Лиски він ховав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7834320" y="3271680"/>
            <a:ext cx="1293840" cy="213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Вітя\Desktop\лиса-245x300.jpg"/>
          <p:cNvPicPr/>
          <p:nvPr/>
        </p:nvPicPr>
        <p:blipFill>
          <a:blip r:embed="rId3"/>
          <a:stretch/>
        </p:blipFill>
        <p:spPr>
          <a:xfrm>
            <a:off x="27000" y="2565360"/>
            <a:ext cx="28954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Вітя\Desktop\10.jpg"/>
          <p:cNvPicPr/>
          <p:nvPr/>
        </p:nvPicPr>
        <p:blipFill>
          <a:blip r:embed="rId1"/>
          <a:stretch/>
        </p:blipFill>
        <p:spPr>
          <a:xfrm>
            <a:off x="-4284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28560" y="18568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Під ялинкою дрім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Вітя\Desktop\tree-color.png"/>
          <p:cNvPicPr/>
          <p:nvPr/>
        </p:nvPicPr>
        <p:blipFill>
          <a:blip r:embed="rId2"/>
          <a:stretch/>
        </p:blipFill>
        <p:spPr>
          <a:xfrm>
            <a:off x="3780000" y="2781360"/>
            <a:ext cx="4932360" cy="493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Вітя\Desktop\cisafisha_136672208230.jpg"/>
          <p:cNvPicPr/>
          <p:nvPr/>
        </p:nvPicPr>
        <p:blipFill>
          <a:blip r:embed="rId3"/>
          <a:srcRect l="3272" t="0" r="3272" b="0"/>
          <a:stretch/>
        </p:blipFill>
        <p:spPr>
          <a:xfrm>
            <a:off x="6516720" y="4941720"/>
            <a:ext cx="1106280" cy="120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Вітя\Desktop\tree-color.png"/>
          <p:cNvPicPr/>
          <p:nvPr/>
        </p:nvPicPr>
        <p:blipFill>
          <a:blip r:embed="rId4"/>
          <a:srcRect l="26203" t="0" r="23154" b="31544"/>
          <a:stretch/>
        </p:blipFill>
        <p:spPr>
          <a:xfrm>
            <a:off x="7524720" y="3860640"/>
            <a:ext cx="2497320" cy="337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Вітя\Desktop\tree-color.png"/>
          <p:cNvPicPr/>
          <p:nvPr/>
        </p:nvPicPr>
        <p:blipFill>
          <a:blip r:embed="rId5"/>
          <a:stretch/>
        </p:blipFill>
        <p:spPr>
          <a:xfrm>
            <a:off x="-1620720" y="1268280"/>
            <a:ext cx="49323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Вітя\Desktop\3525102-landscape-in-nature.jpg"/>
          <p:cNvPicPr/>
          <p:nvPr/>
        </p:nvPicPr>
        <p:blipFill>
          <a:blip r:embed="rId1"/>
          <a:srcRect l="0" t="14304" r="0" b="8892"/>
          <a:stretch/>
        </p:blipFill>
        <p:spPr>
          <a:xfrm>
            <a:off x="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Comic Sans MS"/>
              </a:rPr>
              <a:t>Та між соснами гуля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Вітя\Desktop\cisafisha_136672208230.jpg"/>
          <p:cNvPicPr/>
          <p:nvPr/>
        </p:nvPicPr>
        <p:blipFill>
          <a:blip r:embed="rId2"/>
          <a:srcRect l="3272" t="0" r="3272" b="0"/>
          <a:stretch/>
        </p:blipFill>
        <p:spPr>
          <a:xfrm>
            <a:off x="4932360" y="2913120"/>
            <a:ext cx="9349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Valiko1\Desktop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Calibri"/>
              </a:rPr>
              <a:t>Ось прийшла зима морозна,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Calibri"/>
              </a:rPr>
              <a:t>Біла, сніжна та холодна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Calibri"/>
              </a:rPr>
              <a:t>Все засипала сніжком,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Calibri"/>
              </a:rPr>
              <a:t>Вкрила ріки всі льод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9:59:14Z</dcterms:created>
  <dc:creator>Вітя</dc:creator>
  <dc:description/>
  <dc:language>en-US</dc:language>
  <cp:lastModifiedBy>User</cp:lastModifiedBy>
  <dcterms:modified xsi:type="dcterms:W3CDTF">2015-12-02T08:42:53Z</dcterms:modified>
  <cp:revision>21</cp:revision>
  <dc:subject/>
  <dc:title>Презентация PowerPoint</dc:title>
</cp:coreProperties>
</file>