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2F2-FD06-4DB3-9B05-F706D1FF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43C-ECB0-4132-B172-A740077D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22E-5270-4495-965C-49415EFC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269-3717-4687-8F67-AE710484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3F6-6235-45B9-BC2C-3F1FC40E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07B-B5B5-4251-BFBB-7539BAC0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BD7-2133-4DCB-A08D-CF5CD67A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688-C2A6-4D29-8066-EC74F596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230-F78D-4252-A49E-68F8CBD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9FD-E91A-45A7-9CE9-932390A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998-FDDB-4D80-88B6-F830D23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D03-EC8A-4798-86C5-3CE5F5FB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3B91-CC1B-464E-AC93-AD1FAC5F6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30320" y="2735280"/>
            <a:ext cx="809928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3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тр української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в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989964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4986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 «Мікрофо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лів’я і приказки про калину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узі калина з квіточками, неначе матуся з діточ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ю калина білим цвітом квітує, а восени червоні ягідки дарує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калини – нема України, без народу – Вкраї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шилася калина, наче красная дівч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уйся калиною, коли цвіте, а дитиною – коли ро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и калину коло серця, щоб цвіла вона в душ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 хвалилась, що з медом солод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на та корисна, мов червона кал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лася в біле плаття, як калина в білий цві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ки червоні, як кетяги калинов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а – мов калина.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їть у дворі дівонька, як над ставком калинонь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и біля хати калину – будеш мати долю щасли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1800" indent="-44316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верби і калини – нема Украї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597204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7204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0360" y="1260360"/>
            <a:ext cx="9360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обота в груп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брати ознаки до предмет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 – густий, розлогий, пишний, крисла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ідки – червоні, круглі, смачні, сокови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іти – духмяні, запашні, сніжно-біл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на – важкі, червоні, розкішн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я – темно-зелене, смарагдове, багря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597384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7384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079640"/>
            <a:ext cx="95392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1295280" indent="-4428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кладання плану до текст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95280" indent="-4428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95280" indent="-44280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калина на вигляд? (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, гілля, лист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95280" indent="-44280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м приваблює кущ навесні і вос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95280" indent="-44280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росте кал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95280" indent="-44280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користь принос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95280" indent="-442800"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народ величає кал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896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читування окремих твор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597384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7384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11200"/>
            <a:ext cx="1010916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Підсумок у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Що ми робили на уроц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ого навчилися?                                                                              - Говорячи про калину,  ми ніжними струнами душі своєї торкаємося до рідної історії, українських традицій і чистих джерел мудрості. Будьте як калина гарні, не лише зовнішньо, а і внутрішнь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597384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7384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900000"/>
            <a:ext cx="97203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кст-розповідь «Калина – символ Украї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чити дітей складати текст-розповідь; розширювати знання учнів про значення слів; вчити добирати влучні образні слова; розширити знання учнів про калину, як рослину-символ України; показати, як оспівував її український народ; пробуджувати пізнавальні інтереси до традицій свого народу; розвивати мовлення, образне мислення; виховувати любов до рідної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нання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дактичний та демонстраційний матеріали; мультимедійний супров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2360" y="1079640"/>
            <a:ext cx="96537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Організаційний момент. Психологічна настан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072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огодні наш урок, як поди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072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краплиною впа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072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днів веселих і щаслив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й наша мрія нас веде.                                                      У нас незвичайний сьогодні уро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 зробимо ще один кр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аїну відому, в країну чудову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всіх нас навчає й збагачує мо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піху візьмемо з собою старанність, творчість, увагу, мислення, активність, товариськість, працелюбність, уяву, зн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900000"/>
            <a:ext cx="87170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457200" indent="-227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І. Мотивація навчальної діяльності учн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що ми будемо говор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уду вам розповід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і ви спробуйте загадку відгад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інку зеленолисті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ервоному нами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дається у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ою чарівну в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іть, будь ласка, слово-відгадку в зоши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кі вислови допомогли вам здогадатися, що це калина?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інку зеленолистім, у червоному нами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кому значенні вжиті ці вислови?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еносном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мали на увазі?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я та ягоди калин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61920" y="6124680"/>
          <a:ext cx="1979640" cy="15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920" y="6124680"/>
                    <a:ext cx="197964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914400"/>
            <a:ext cx="972036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ІІ. Повідомлення теми і мети уроку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огодні у нас урок розвитку зв’язного мовлення. Ми будемо складати текст-розповідь про «Калину – символ України». І наш урок буде присвячений цій неперевершеній  красуні – надзвичайно чарівному кущику ка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шці кущ калини без кетяг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ивіться на наш кущ калини. Чого в ньому не вистачає?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итий осінній вітер налетів і позривав кетяги. Залишились люди без цілющих ягід, а птахи без так необхідної взимку поживи. Але ми можемо допомогти і повернути кущику кетяги, якщо правильно виконаємо всі завдання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1079640"/>
            <a:ext cx="918036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V. Практичні впра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права «Вкрадені сл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 вірш. Прочитай й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ова г… під віконеч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ть білим ц…, ніби соне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 с… долоні простя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грудей духмяні к… пригор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бери слова-синоніми до слова духмяний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учий, запашний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пра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ни віршовані рядки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обота в па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нити віршовані рядки. За потреби скористайся словами з дові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пливуть потоки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вах губиться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ервоному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ишається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для довідки: стежина, чисті, калина, намис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раз послухаємо, що ж говорить про калину тлумачний слов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97204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7204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160" y="900000"/>
            <a:ext cx="1004076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ово «довідкового бюр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 – це кущова рослина, що має білі квіти і їстівні гіркі чи кисло-солодкі червоні ягоди. З давніх-давен в Україні калину садять біля криниць, копанок, над ст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енкан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кішна, кра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іліє, червоніє, го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ікує від різних неду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одинний оберіг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009800"/>
            <a:ext cx="9539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етична хвил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вірш Марії Деленко. Уявіть те, про що в ньому йдеться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цем кетяги нали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сто пломенію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любов до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жне серце щедро сію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то поетів і письменників присвятили свої рядки калині. А особливо багато їх у поезіях Т. Г. Шевченка. В 345 творах він згадує про ка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згадаємо деякі 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ти читають вірш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597204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7204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0360" y="1079640"/>
            <a:ext cx="38750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 marL="2286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ронуван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19280" y="1619280"/>
            <a:ext cx="7199280" cy="46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5973840"/>
          <a:ext cx="197964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97384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>Виктория Обиход</cp:lastModifiedBy>
  <dcterms:modified xsi:type="dcterms:W3CDTF">2016-12-12T19:57:12Z</dcterms:modified>
  <cp:revision>5</cp:revision>
  <dc:subject/>
  <dc:title/>
</cp:coreProperties>
</file>