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8.gif" ContentType="image/gif"/>
  <Override PartName="/ppt/media/image53.png" ContentType="image/png"/>
  <Override PartName="/ppt/media/image13.jpeg" ContentType="image/jpeg"/>
  <Override PartName="/ppt/media/image40.jpeg" ContentType="image/jpeg"/>
  <Override PartName="/ppt/media/image6.png" ContentType="image/png"/>
  <Override PartName="/ppt/media/image32.jpeg" ContentType="image/jpeg"/>
  <Override PartName="/ppt/media/image33.jpeg" ContentType="image/jpeg"/>
  <Override PartName="/ppt/media/image36.jpeg" ContentType="image/jpeg"/>
  <Override PartName="/ppt/media/image37.jpeg" ContentType="image/jpeg"/>
  <Override PartName="/ppt/media/image50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1.png" ContentType="image/png"/>
  <Override PartName="/ppt/media/image48.jpeg" ContentType="image/jpeg"/>
  <Override PartName="/ppt/media/image30.jpeg" ContentType="image/jpeg"/>
  <Override PartName="/ppt/media/image47.jpeg" ContentType="image/jpeg"/>
  <Override PartName="/ppt/media/image52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1.png" ContentType="image/png"/>
  <Override PartName="/ppt/media/image31.jpeg" ContentType="image/jpeg"/>
  <Override PartName="/ppt/media/image10.wmf" ContentType="image/x-wmf"/>
  <Override PartName="/ppt/media/image2.png" ContentType="image/png"/>
  <Override PartName="/ppt/media/image19.jpeg" ContentType="image/jpeg"/>
  <Override PartName="/ppt/media/image25.png" ContentType="image/png"/>
  <Override PartName="/ppt/media/image4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66BF-C993-4528-B9F6-1DF515F5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778-E01D-4D8E-B339-9A1674DE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A9C-1E87-47D6-9838-FDE52106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C53-2548-418E-B932-51C247D9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C6F5D-5A3F-49B7-8FE4-F06534B9C9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2EDE8-04C3-422B-87B1-81702AA6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13ACE-812D-4438-B3AB-CB2AF548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150BF-1D32-4DC6-80B4-10AA2CB0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F4C61-0A96-46F2-AD73-13D83FE5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39DB8-F610-4945-B91D-805183F9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D1C21-C28D-45DC-8E9B-48F6DF7D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5D7-44A1-4465-AFC7-006A58C2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F6565-0705-41D3-BB2B-24829EA7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130D3-39CF-407D-81B7-42D60D24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5F084-6F53-467D-9737-DAE6D325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EB8D9-C706-49C7-A7EB-9E94B1F5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46404-DBC3-4234-961B-F27A6CDE51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A653B8-202D-4418-B7BC-6C8FCE8ABC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4F0FED-5538-4C8C-BB1A-A1A15F98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03FBB5-F4CF-4E93-8FFE-8141686E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B9920E-AD85-4F6B-9503-1ED9492E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075ACC-73AB-4A95-B8D1-08E28E42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7DD-3B1E-45E4-9BCC-EC764A40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65B19-E78B-4123-9D84-4E8E98B9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79B644-E6A3-4ADF-B0B6-9EE78322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42409E-030C-4E95-8928-1D650D51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2E408C-C17C-4FE7-8067-03C828A7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F13019-B445-451C-A73D-001CC505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CBC208-AC4F-4567-9643-F184B6BE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F5B3DD-5288-48AE-B7A9-834E562F10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4C3E-CEDB-4EC1-8834-EED6880B2A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5D015-9F02-4A38-8106-AD1BDD36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078EC-7CB4-46C0-A452-48D3846B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0F6D-056F-44E1-A927-BA7CEFB6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A0883-09DC-4B3D-BECA-9E4F2E4F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651BB-5EA3-44AD-B631-E5319048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414C1-B81D-427B-AA07-B2F36D24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0F92-2FD8-46C3-A098-54AC21F9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30D1-5038-4FBC-A012-DF34DFBD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ED641-6D6B-4842-A149-B8C48B62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ABF0-FF8A-4DC7-880F-5CA7579F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E3EA-E5DA-4FF2-8905-33996E5A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E0DC7-0219-49B3-9B79-13744B9C5D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74B-19EF-4B3D-9C05-B2B7234C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BF3-2AC2-49E1-AEBF-5C79E547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17B-E57D-480B-9AA0-81D9A59B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AAD-AD6F-42FA-B17B-41D02DC8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8A9-63FF-43C5-8179-596C900A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C17EC-BDB3-4937-AEE2-3A4B08590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6480" y="5624640"/>
            <a:ext cx="10093320" cy="1941480"/>
            <a:chOff x="-6480" y="5624640"/>
            <a:chExt cx="10093320" cy="1941480"/>
          </a:xfrm>
        </p:grpSpPr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-6480" y="5624640"/>
              <a:ext cx="10093320" cy="19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627520"/>
              <a:ext cx="1007892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-6480" y="-6480"/>
            <a:ext cx="10093320" cy="5643720"/>
            <a:chOff x="-6480" y="-6480"/>
            <a:chExt cx="10093320" cy="5643720"/>
          </a:xfrm>
        </p:grpSpPr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10093320" cy="564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100789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6480" y="1760400"/>
            <a:ext cx="10093320" cy="5637240"/>
            <a:chOff x="-6480" y="1760400"/>
            <a:chExt cx="10093320" cy="5637240"/>
          </a:xfrm>
        </p:grpSpPr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-6480" y="1760400"/>
              <a:ext cx="10093320" cy="563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477800" y="2587680"/>
              <a:ext cx="7124760" cy="39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6400" y="4818240"/>
            <a:ext cx="717696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60000" y="806400"/>
            <a:ext cx="705492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12"/>
              </a:spcBef>
              <a:spcAft>
                <a:spcPts val="3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612"/>
              </a:spcBef>
              <a:spcAft>
                <a:spcPts val="3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612"/>
              </a:spcBef>
              <a:spcAft>
                <a:spcPts val="3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612"/>
              </a:spcBef>
              <a:spcAft>
                <a:spcPts val="3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612"/>
              </a:spcBef>
              <a:spcAft>
                <a:spcPts val="3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612"/>
              </a:spcBef>
              <a:spcAft>
                <a:spcPts val="3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612"/>
              </a:spcBef>
              <a:spcAft>
                <a:spcPts val="3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03640" y="6804000"/>
            <a:ext cx="27702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3280" y="6804000"/>
            <a:ext cx="36957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5"/>
          </p:nvPr>
        </p:nvSpPr>
        <p:spPr>
          <a:xfrm>
            <a:off x="4200480" y="6804000"/>
            <a:ext cx="201456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CD959D-1F11-4835-980E-39E3F1386B7D}" type="slidenum">
              <a:rPr b="0" lang="ru-RU" sz="18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9360" y="-7920"/>
            <a:ext cx="10101240" cy="1147680"/>
          </a:xfrm>
          <a:custGeom>
            <a:avLst/>
            <a:gdLst>
              <a:gd name="textAreaLeft" fmla="*/ 0 w 10101240"/>
              <a:gd name="textAreaRight" fmla="*/ 10101600 w 101012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290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77580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6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2920" y="2131560"/>
            <a:ext cx="907092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502920" y="7007040"/>
            <a:ext cx="23511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40120" y="7007400"/>
            <a:ext cx="36957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8736120" y="7007040"/>
            <a:ext cx="83808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9140A1D-83DB-4A83-8CBE-590C7221789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-20520" y="223920"/>
            <a:ext cx="10118520" cy="712800"/>
            <a:chOff x="-20520" y="223920"/>
            <a:chExt cx="10118520" cy="712800"/>
          </a:xfrm>
        </p:grpSpPr>
        <p:grpSp>
          <p:nvGrpSpPr>
            <p:cNvPr id="100" name=""/>
            <p:cNvGrpSpPr/>
            <p:nvPr/>
          </p:nvGrpSpPr>
          <p:grpSpPr>
            <a:xfrm>
              <a:off x="-20520" y="223920"/>
              <a:ext cx="10099080" cy="712800"/>
              <a:chOff x="-20520" y="223920"/>
              <a:chExt cx="10099080" cy="712800"/>
            </a:xfrm>
          </p:grpSpPr>
          <p:pic>
            <p:nvPicPr>
              <p:cNvPr id="1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23920"/>
                <a:ext cx="10073880" cy="7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21420000">
                <a:off x="-20160" y="528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-20520" y="272880"/>
              <a:ext cx="10118520" cy="617760"/>
              <a:chOff x="-20520" y="272880"/>
              <a:chExt cx="10118520" cy="617760"/>
            </a:xfrm>
          </p:grpSpPr>
          <p:pic>
            <p:nvPicPr>
              <p:cNvPr id="1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72880"/>
                <a:ext cx="10101240" cy="61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20160" y="577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-6480" y="4254480"/>
            <a:ext cx="10093320" cy="3311640"/>
            <a:chOff x="-6480" y="4254480"/>
            <a:chExt cx="10093320" cy="331164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-6480" y="4254480"/>
              <a:ext cx="10093320" cy="33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0" y="4262400"/>
              <a:ext cx="10078920" cy="32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-6480" y="-6480"/>
            <a:ext cx="10093320" cy="4272120"/>
            <a:chOff x="-6480" y="-6480"/>
            <a:chExt cx="10093320" cy="4272120"/>
          </a:xfrm>
        </p:grpSpPr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10093320" cy="42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0" y="0"/>
              <a:ext cx="100789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-6480" y="1760400"/>
            <a:ext cx="10093320" cy="5637240"/>
            <a:chOff x="-6480" y="1760400"/>
            <a:chExt cx="10093320" cy="5637240"/>
          </a:xfrm>
        </p:grpSpPr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-6480" y="1760400"/>
              <a:ext cx="10093320" cy="563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477800" y="2587680"/>
              <a:ext cx="7124760" cy="39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6400" y="4818240"/>
            <a:ext cx="717696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60000" y="806400"/>
            <a:ext cx="705492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12"/>
              </a:spcBef>
              <a:spcAft>
                <a:spcPts val="3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612"/>
              </a:spcBef>
              <a:spcAft>
                <a:spcPts val="3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612"/>
              </a:spcBef>
              <a:spcAft>
                <a:spcPts val="3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612"/>
              </a:spcBef>
              <a:spcAft>
                <a:spcPts val="3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612"/>
              </a:spcBef>
              <a:spcAft>
                <a:spcPts val="3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612"/>
              </a:spcBef>
              <a:spcAft>
                <a:spcPts val="3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612"/>
              </a:spcBef>
              <a:spcAft>
                <a:spcPts val="3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8"/>
          </p:nvPr>
        </p:nvSpPr>
        <p:spPr>
          <a:xfrm>
            <a:off x="6803640" y="6804000"/>
            <a:ext cx="27702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3280" y="6804000"/>
            <a:ext cx="36957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9"/>
          </p:nvPr>
        </p:nvSpPr>
        <p:spPr>
          <a:xfrm>
            <a:off x="4200480" y="6804000"/>
            <a:ext cx="201456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7D97523-135A-48B5-AABF-AFC186D0A33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34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0000" y="2700360"/>
            <a:ext cx="71308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5440" bIns="0" anchor="t">
            <a:noAutofit/>
          </a:bodyPr>
          <a:p>
            <a:pPr algn="ctr"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8800" spc="-1" strike="noStrike">
                <a:solidFill>
                  <a:srgbClr val="a014bc"/>
                </a:solidFill>
                <a:latin typeface="Times New Roman"/>
              </a:rPr>
              <a:t>Центр читанн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374920" y="801720"/>
            <a:ext cx="56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ина - рос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237280" y="1249200"/>
            <a:ext cx="4367160" cy="3184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4720" y="4732200"/>
            <a:ext cx="3829320" cy="2556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572080" y="4732200"/>
            <a:ext cx="3814920" cy="2556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276120" y="1249200"/>
            <a:ext cx="4326120" cy="324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99120" y="4176720"/>
            <a:ext cx="4437000" cy="2963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5880" y="2820960"/>
            <a:ext cx="4200480" cy="4368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308240" y="684360"/>
            <a:ext cx="78595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ин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ходить від слова «калити», тобто розплавляти під дією вогню до червоного кольо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514840" y="2259000"/>
            <a:ext cx="251964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465880" y="4255920"/>
            <a:ext cx="4143240" cy="2548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79280" y="3057480"/>
            <a:ext cx="5040360" cy="4322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579760" y="1000080"/>
            <a:ext cx="53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енда про кал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566720" y="4970520"/>
            <a:ext cx="671760" cy="6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800360" y="720720"/>
            <a:ext cx="658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ина – симв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на – рідна домі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на – дівч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на –Украї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на – ма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на - здоров'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10960" y="2003400"/>
            <a:ext cx="2460960" cy="25178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843280" y="4545000"/>
            <a:ext cx="4471920" cy="29844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rcRect l="25565" t="0" r="0" b="27497"/>
          <a:stretch/>
        </p:blipFill>
        <p:spPr>
          <a:xfrm>
            <a:off x="7500960" y="1847880"/>
            <a:ext cx="2482920" cy="2828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rcRect l="0" t="0" r="0" b="5223"/>
          <a:stretch/>
        </p:blipFill>
        <p:spPr>
          <a:xfrm>
            <a:off x="264960" y="4684680"/>
            <a:ext cx="240696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03280" y="1763640"/>
            <a:ext cx="907236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800000"/>
                </a:solidFill>
                <a:latin typeface="Arial"/>
                <a:ea typeface="Arial"/>
              </a:rPr>
              <a:t>Гілками калини прикрашали святкові ст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800000"/>
                </a:solidFill>
                <a:latin typeface="Arial"/>
                <a:ea typeface="Arial"/>
              </a:rPr>
              <a:t>Кімнатні </a:t>
            </a: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рушники також рясніють пишними гронами кали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На хрестини калину затикали у калач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Калину клали в першу купіль дити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90000" y="236520"/>
            <a:ext cx="1654200" cy="1324080"/>
          </a:xfrm>
          <a:custGeom>
            <a:avLst/>
            <a:gdLst>
              <a:gd name="textAreaLeft" fmla="*/ 242280 w 1654200"/>
              <a:gd name="textAreaRight" fmla="*/ 1411920 w 1654200"/>
              <a:gd name="textAreaTop" fmla="*/ 193680 h 1324080"/>
              <a:gd name="textAreaBottom" fmla="*/ 1130400 h 1324080"/>
            </a:gdLst>
            <a:ahLst/>
            <a:rect l="textAreaLeft" t="textAreaTop" r="textAreaRight" b="textAreaBottom"/>
            <a:pathLst>
              <a:path w="1500198" h="1200152">
                <a:moveTo>
                  <a:pt x="0" y="600076"/>
                </a:moveTo>
                <a:lnTo>
                  <a:pt x="0" y="600076"/>
                </a:lnTo>
                <a:arcTo wR="750099" hR="600076" stAng="-10799995" swAng="5400001"/>
                <a:lnTo>
                  <a:pt x="1125148" y="0"/>
                </a:lnTo>
                <a:lnTo>
                  <a:pt x="1500198" y="0"/>
                </a:lnTo>
                <a:lnTo>
                  <a:pt x="1500198" y="450057"/>
                </a:lnTo>
                <a:arcTo wR="0" hR="150019" stAng="0" swAng="0"/>
                <a:lnTo>
                  <a:pt x="1390349" y="1112273"/>
                </a:lnTo>
                <a:arcTo wR="-375050" hR="300038" stAng="2319580" swAng="10800000"/>
                <a:close/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720720" y="542880"/>
            <a:ext cx="7056360" cy="1076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1654200" y="472428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5670720" y="4724280"/>
            <a:ext cx="2755800" cy="228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800000"/>
                </a:solidFill>
                <a:latin typeface="Arial"/>
                <a:ea typeface="Arial"/>
              </a:rPr>
              <a:t>Калина вважалась «весільним деревом» Нею оздоблювали  короваї, вбрання нареченої та весільні він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90000" y="236520"/>
            <a:ext cx="1654200" cy="1324080"/>
          </a:xfrm>
          <a:custGeom>
            <a:avLst/>
            <a:gdLst>
              <a:gd name="textAreaLeft" fmla="*/ 242280 w 1654200"/>
              <a:gd name="textAreaRight" fmla="*/ 1411920 w 1654200"/>
              <a:gd name="textAreaTop" fmla="*/ 193680 h 1324080"/>
              <a:gd name="textAreaBottom" fmla="*/ 1130400 h 1324080"/>
            </a:gdLst>
            <a:ahLst/>
            <a:rect l="textAreaLeft" t="textAreaTop" r="textAreaRight" b="textAreaBottom"/>
            <a:pathLst>
              <a:path w="1500198" h="1200152">
                <a:moveTo>
                  <a:pt x="0" y="600076"/>
                </a:moveTo>
                <a:lnTo>
                  <a:pt x="0" y="600076"/>
                </a:lnTo>
                <a:arcTo wR="750099" hR="600076" stAng="-10799995" swAng="5400001"/>
                <a:lnTo>
                  <a:pt x="1125148" y="0"/>
                </a:lnTo>
                <a:lnTo>
                  <a:pt x="1500198" y="0"/>
                </a:lnTo>
                <a:lnTo>
                  <a:pt x="1500198" y="450057"/>
                </a:lnTo>
                <a:arcTo wR="0" hR="150019" stAng="0" swAng="0"/>
                <a:lnTo>
                  <a:pt x="1390349" y="1112273"/>
                </a:lnTo>
                <a:arcTo wR="-375050" hR="300038" stAng="2319580" swAng="10800000"/>
                <a:close/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360360" y="720720"/>
            <a:ext cx="7580160" cy="10764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5794200" y="3225960"/>
            <a:ext cx="3386160" cy="23540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1332000" y="3240000"/>
            <a:ext cx="3166920" cy="235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В Україні безліч населених пунктів з поетичною назвою: Калинівка, Калинове, Калиновий га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Є прізвища Калинюк, Калинчу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181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ім'я Кал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Сьогодні, навіть, мар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181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машину називають «Калин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54160" y="542880"/>
            <a:ext cx="5865480" cy="10764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8190000" y="236520"/>
            <a:ext cx="1654200" cy="1324080"/>
          </a:xfrm>
          <a:custGeom>
            <a:avLst/>
            <a:gdLst>
              <a:gd name="textAreaLeft" fmla="*/ 242280 w 1654200"/>
              <a:gd name="textAreaRight" fmla="*/ 1411920 w 1654200"/>
              <a:gd name="textAreaTop" fmla="*/ 193680 h 1324080"/>
              <a:gd name="textAreaBottom" fmla="*/ 1130400 h 1324080"/>
            </a:gdLst>
            <a:ahLst/>
            <a:rect l="textAreaLeft" t="textAreaTop" r="textAreaRight" b="textAreaBottom"/>
            <a:pathLst>
              <a:path w="1500198" h="1200152">
                <a:moveTo>
                  <a:pt x="0" y="600076"/>
                </a:moveTo>
                <a:lnTo>
                  <a:pt x="0" y="600076"/>
                </a:lnTo>
                <a:arcTo wR="750099" hR="600076" stAng="-10799995" swAng="5400001"/>
                <a:lnTo>
                  <a:pt x="1125148" y="0"/>
                </a:lnTo>
                <a:lnTo>
                  <a:pt x="1500198" y="0"/>
                </a:lnTo>
                <a:lnTo>
                  <a:pt x="1500198" y="450057"/>
                </a:lnTo>
                <a:arcTo wR="0" hR="150019" stAng="0" swAng="0"/>
                <a:lnTo>
                  <a:pt x="1390349" y="1112273"/>
                </a:lnTo>
                <a:arcTo wR="-375050" hR="300038" stAng="2319580" swAng="10800000"/>
                <a:close/>
              </a:path>
            </a:pathLst>
          </a:custGeom>
          <a:blipFill rotWithShape="0">
            <a:blip r:embed="rId3"/>
            <a:srcRect/>
            <a:stretch/>
          </a:blipFill>
          <a:ln w="158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6764400" y="3303720"/>
            <a:ext cx="3208320" cy="1031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5808600" y="5605560"/>
            <a:ext cx="4073760" cy="182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40000" y="720720"/>
            <a:ext cx="746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4800" spc="-1" strike="noStrike">
                <a:solidFill>
                  <a:srgbClr val="c00000"/>
                </a:solidFill>
                <a:latin typeface="Arial"/>
              </a:rPr>
              <a:t>Калина в харчуванн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15880" y="1521000"/>
            <a:ext cx="3355920" cy="2547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548400" y="1508040"/>
            <a:ext cx="3160800" cy="2573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3133800" y="2986200"/>
            <a:ext cx="3716280" cy="27874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179280" y="48592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6453360" y="4756320"/>
            <a:ext cx="3254040" cy="23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966960"/>
            <a:ext cx="1017432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VIІІ. Опрацювання казки Галини Демченко «Калинка»</a:t>
            </a:r>
            <a:r>
              <a:rPr b="1" i="1" lang="de-DE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Сьогодні ми будемо працювати над казкою Г.Демченко «Калинка».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 Виступ «Журналіста» (Розповідь про письменницю)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. Словникова робота.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3. Слухання аудіозапису казки «Калинка»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. Читання учнями тексту за частинами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. Гра «Слідопит»                                                                                     6. Технологія «Незакінчене реченн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Звали ту дівчинку__________. Викопала в гущавині лі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тонісіньке __________ і посадила край __________. Іде як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шляхом __________.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7. Переказ твору. Визначення головної дум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Читання плута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79280" y="1079640"/>
            <a:ext cx="93204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линка – згадка про добре серце. Г.Демченко «Калинка» (казка)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т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Розширити знання учнів про калину – символ України; удосконалювати навички виразного читання, виділяти в творі головну думку, розвивати зв’язне мовлення; виховувати любов до Батьківщини, доброзичливе ставлення до інших, бережливе ставлення до природи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ладнанн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гілочки з кетягами калини, малюнки та ілюстрації із зображенням калини, українські рушники, коровай, картки із завданням для груп, портрет Т.Г.Шевченка, презентація, «Кобзар»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15840" y="1079640"/>
            <a:ext cx="10190160" cy="48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8. Легенда про калин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Про калину існує багато леге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До вашої уваги одна і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У сиву давнину на нашу землю часто нападали войовничі загони турків і татар. Вони вбивали дітей, старих людей, а молодих дівчат забирали в полон. В одному селі під час такого нападу, дівчина тікала по лісі, зачепилася за дерево і впала. У неї на шиї було червоне намисто, воно розірвалося і намистинки розсипалися. Дівчина загинула в неволі, а на місці розсипаного намиста виросла кал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435480" y="4451400"/>
            <a:ext cx="3044520" cy="274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1520" y="903240"/>
            <a:ext cx="101584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9. Фізкультхвили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Танцювальні рухи під мелодію пісні «Ой у лісі кали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0. Характеристика образу дівч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Якою була Калин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Калинка була – добра, щира, працьовита, привітна, лагідна, витрив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1. Виступ групи «Дослідн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2. Гра «Добре серц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На дошці намальоване велике серце. Діти на маленьких сердечках, які лежать у них на партах пишуть про свою добру справу, яку б вони хотіли зробити для рідної природи, для близьких людей. Потім діти прикріплюють свої сердечка на «Добре серце» і читають свої побаж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3. Виступ групи «Народознавці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4. Виступ групи «Дослідн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5. Виступ групи «Всезнай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50920" y="2340000"/>
            <a:ext cx="2989080" cy="189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0" y="6119640"/>
          <a:ext cx="1979640" cy="14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119640"/>
                    <a:ext cx="197964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88720" y="107928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IX. Робота в групах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1 груп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.Завдання для групи «Всезнайки»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Скласти «Асоціативний кущ» зі словом калина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2 груп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. Завдання для групи «Дослідники»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Скласти діалог між Калиною і Соловейком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3 група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 Завдання для групи «Літератори»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Підібрати заголовки до кожної частини казки «Калинка»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4 груп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 Завдання для групи «Народознавці»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Скласти казку про калину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X. Виконання учнями пісні Наталії Май «Червона калина»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XI. Підсумок уроку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- Чи збулися ваші очікування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- Що найбільше сподобалося на уроці?</a:t>
            </a: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03280" y="776160"/>
            <a:ext cx="90723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6500" spc="-1" strike="noStrike">
                <a:solidFill>
                  <a:srgbClr val="04617b"/>
                </a:solidFill>
                <a:latin typeface="Calibri"/>
                <a:ea typeface="Microsoft YaHei"/>
              </a:rPr>
              <a:t>Гра «Мікрофон»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80" y="2131920"/>
            <a:ext cx="9072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  <a:ea typeface="Microsoft YaHei"/>
              </a:rPr>
              <a:t>Сьогодні на уроці я дізнався про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  <a:ea typeface="Microsoft YaHei"/>
              </a:rPr>
              <a:t>Я читав і слухав такі жанри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Мені було цікаво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Після цього уроку я хоч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  <a:ea typeface="Microsoft YaHei"/>
              </a:rPr>
              <a:t>    </a:t>
            </a:r>
            <a:r>
              <a:rPr b="0" lang="uk-UA" sz="29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бути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514840" y="3144960"/>
            <a:ext cx="4221360" cy="42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14360" y="1079640"/>
            <a:ext cx="822636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Вчитель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Хочу завершити наш урок словами вірша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Посадіть калину коло школи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Щоб на цілий білий сві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Усміхнулась щиро доля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Материнський ніжний цвіт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А щоб цвіт її не стерся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Не зів’янув в спориші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Посадіте коло серця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Щоб цвіла вона в душі.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293840" y="1800360"/>
            <a:ext cx="7526160" cy="40496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289080" y="1039680"/>
            <a:ext cx="9970920" cy="23799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060720" y="5267160"/>
            <a:ext cx="8658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400"/>
              </a:spcBef>
              <a:spcAft>
                <a:spcPts val="300"/>
              </a:spcAft>
              <a:tabLst>
                <a:tab algn="l" pos="0"/>
                <a:tab algn="l" pos="866880"/>
                <a:tab algn="l" pos="1781280"/>
                <a:tab algn="l" pos="2695680"/>
                <a:tab algn="l" pos="3610080"/>
                <a:tab algn="l" pos="4524480"/>
                <a:tab algn="l" pos="5438880"/>
                <a:tab algn="l" pos="6353280"/>
                <a:tab algn="l" pos="7267680"/>
                <a:tab algn="l" pos="8182080"/>
                <a:tab algn="l" pos="9096480"/>
                <a:tab algn="l" pos="10010880"/>
                <a:tab algn="l" pos="10333080"/>
                <a:tab algn="l" pos="10782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spcAft>
                <a:spcPts val="300"/>
              </a:spcAft>
              <a:tabLst>
                <a:tab algn="l" pos="0"/>
                <a:tab algn="l" pos="866880"/>
                <a:tab algn="l" pos="1781280"/>
                <a:tab algn="l" pos="2695680"/>
                <a:tab algn="l" pos="3610080"/>
                <a:tab algn="l" pos="4524480"/>
                <a:tab algn="l" pos="5438880"/>
                <a:tab algn="l" pos="6353280"/>
                <a:tab algn="l" pos="7267680"/>
                <a:tab algn="l" pos="8182080"/>
                <a:tab algn="l" pos="9096480"/>
                <a:tab algn="l" pos="10010880"/>
                <a:tab algn="l" pos="10333080"/>
                <a:tab algn="l" pos="10782360"/>
              </a:tabLst>
            </a:pPr>
            <a:r>
              <a:rPr b="0" lang="uk-UA" sz="5600" spc="-1" strike="noStrike">
                <a:solidFill>
                  <a:srgbClr val="ff0000"/>
                </a:solidFill>
                <a:latin typeface="Trebuchet MS"/>
                <a:ea typeface="Microsoft YaHei"/>
              </a:rPr>
              <a:t> </a:t>
            </a:r>
            <a:r>
              <a:rPr b="0" lang="uk-UA" sz="5600" spc="-1" strike="noStrike">
                <a:solidFill>
                  <a:srgbClr val="ff0000"/>
                </a:solidFill>
                <a:latin typeface="Trebuchet MS"/>
                <a:ea typeface="Microsoft YaHei"/>
              </a:rPr>
              <a:t>Молодці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79280" y="1079640"/>
            <a:ext cx="76644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Хід у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І. Організаційний момент.                                  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в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день хороший розпоча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друзів привіта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ий ден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іво, вправо поверні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е одному всміхніться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ий день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. Емоційна хвилинка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тки, подивіться один на одного, подаруйте щиру усмішку і скажіть комплімент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Кариночко, у тебе сьогодні гарна зачіска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Настенько, яка у тебе чудова посмішка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Артеме, тобі личить українська сорочка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Маргаритко, ти чудово виглядаєш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Ганнусю, ти сьогодні просто чарівна.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9280" y="900000"/>
            <a:ext cx="893448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ІІ. Актуалізація опорних знань учні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.Створення ситуації успіху.                                                                           2. Відгадування зага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За хатою у садочку, у зеленому віноч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У червоному намисті дівчинонька чепур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І збігаються всі діти, щоб на неї погляд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За намисто кожен смик та й укине на язик.   (Кал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. Гра «Мікроф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А які загадки про калину  ви ще знаєте? (Діти відповідаю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Стоїть півень над водою з червоною бород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Хто не йде, за борідку ущип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І не дівка, а червоні стрічки нос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У вінку зеленолистім, у червоному нами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Видивляється у воду, на свою хорошу вроду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-4194000" y="3857760"/>
            <a:ext cx="2214360" cy="1901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0760" y="900000"/>
            <a:ext cx="10209240" cy="64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IV Мовленнєва розм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. Доповнення і читання чистомо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Ла – ла - ла – вже калина зацві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Ей – ей - ей –радує вона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Ат - ат - ат - бачили там двох дівч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Ни - ни - ни – посміхалися в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Розучування скором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Килина у лузі ламала кал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Співала пісень про свою Украї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Килина ламала калину у луз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Щоб чаю зварити рідненькій бабус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Що ми дізналися із cкоромовки про дівчинку Килину?)                                            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. Читання слів із таблиці – пірамі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кали -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корі - 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стеб - 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лис - 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кві - 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пло - 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А тепер читаємо слова лагідно, із захопленням , здивов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Які слова мають орфогр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Про яку рослину ви дізналися? (Про калин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7520" y="932040"/>
            <a:ext cx="967284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. Мотивація навчальної діяль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Повідомлення теми і мети уро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Сьогодні ми будемо говорити про калину. Калина – символ України. Народ шанує цю рослину за пишну вроду та цілющі властивості. Немає такого куточка України, де б не росла, не квітла калина рясним білим цвітом навесні, не променіла червоними ягідками взим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079640"/>
            <a:ext cx="98647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VI. Сприймання й усвідомлення нового матеріалу.</a:t>
            </a:r>
            <a:br>
              <a:rPr sz="2600"/>
            </a:br>
            <a:r>
              <a:rPr b="1" i="1" lang="uk-UA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1.</a:t>
            </a:r>
            <a:r>
              <a:rPr b="1" i="1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Виступ групи «Літератори»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 калину складено багато віршів . Щедро оспівана калина у творах українських поетів. Т.Г.Шевченко дуже любив калину і в своєму «Кобзареві» слово «калина» вжив 385 разів, а взагалі у своїй творчості поет згадує це слово 965 раз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V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ІІ</a:t>
            </a:r>
            <a:r>
              <a:rPr b="1" i="1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зентація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«Червона калина»</a:t>
            </a:r>
            <a:br>
              <a:rPr sz="1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5940360"/>
          <a:ext cx="197964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940360"/>
                    <a:ext cx="19796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1925640"/>
            <a:ext cx="10115640" cy="6311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79280" y="763560"/>
            <a:ext cx="92091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то не знає свого минулог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й не вартий щасливого майбутнь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аксим Рильський.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81240" y="287280"/>
            <a:ext cx="57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31828"/>
                </a:solidFill>
                <a:latin typeface="Times New Roman"/>
                <a:ea typeface="Times New Roman"/>
              </a:rPr>
              <a:t>Народні символи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57520" y="1160640"/>
            <a:ext cx="5317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 </a:t>
            </a:r>
            <a:r>
              <a:rPr b="1" lang="uk-UA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ба </a:t>
            </a:r>
            <a:r>
              <a:rPr b="1" lang="uk-UA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лека </a:t>
            </a:r>
            <a:r>
              <a:rPr b="1" lang="uk-UA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о </a:t>
            </a:r>
            <a:r>
              <a:rPr b="1" lang="uk-UA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вень</a:t>
            </a:r>
            <a:r>
              <a:rPr b="1" lang="uk-UA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вінок </a:t>
            </a:r>
            <a:r>
              <a:rPr b="1" lang="uk-UA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80880" y="4970520"/>
            <a:ext cx="2143080" cy="2203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rcRect l="19766" t="3797" r="16709" b="0"/>
          <a:stretch/>
        </p:blipFill>
        <p:spPr>
          <a:xfrm>
            <a:off x="611280" y="2598840"/>
            <a:ext cx="1682640" cy="20383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109440" y="708120"/>
            <a:ext cx="2684520" cy="1801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7183440" y="2606760"/>
            <a:ext cx="2752560" cy="2065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7340760" y="4970520"/>
            <a:ext cx="2595240" cy="1946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6200000">
            <a:off x="7750080" y="489960"/>
            <a:ext cx="1616040" cy="222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/>
  <dc:description/>
  <dc:language>en-US</dc:language>
  <cp:lastModifiedBy>Виктория Обиход</cp:lastModifiedBy>
  <dcterms:modified xsi:type="dcterms:W3CDTF">2016-12-12T13:00:52Z</dcterms:modified>
  <cp:revision>4</cp:revision>
  <dc:subject/>
  <dc:title/>
</cp:coreProperties>
</file>