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136-9C1D-4336-90C4-7CBDCE2E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55B-784C-4780-A829-C921210E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E75-A2DE-4A7B-8A4A-89622416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5B8-5F15-46BE-9DD5-67D3FD10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96F4-9EC5-4299-89CD-8164B582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10D1-1665-4FA8-8AA3-6FB23365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A524-5527-4F02-88B8-7BAD5688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2021-AF3E-4D80-92C0-710D71D7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85FD-0B07-4D8F-907D-9B82BB65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F721-12E9-46BC-8919-5DBA7DC1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160E-3790-4D33-8EC4-A3247ED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3EC-CE39-477E-8505-C9122D15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F5FD-7A6A-441E-BD5B-58B93C05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9AF4-370D-49D3-9B1D-BB76708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D916-5A99-48FA-8197-8D349A52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E8A3-1341-4294-A124-16342BEC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A5AA-AA2B-408B-92BE-16181E3B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4525-8901-43EA-8A48-6D214330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0DC6-2B09-4932-A2E7-665E8EA2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E106-D9CB-4C00-9B3F-D0664ED1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0E73-C41F-487C-AAA6-7991173F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78DF-522B-4E36-953A-7CC12BC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BB3-CBD7-4EAA-82BB-87B1007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C3D3-EEAD-446C-B31F-9DF94AB1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51AB-0CEE-4A5C-8448-986FFF05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75B7-6B80-49F5-806B-A4EA943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227D-91F3-4514-9A12-243C397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2697-E3F3-408D-9F05-EDEF885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E692-BED4-4A74-9246-4241E033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3A56-798D-46BD-92AC-58EBE165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28B07-0739-45A5-8F94-BEBB22D4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BD18-4496-4B4D-A65C-AB8FCBC6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5F30-5EDC-4587-8C4C-E483D41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2AF-2202-4369-B535-1D155AB2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7C3B-3135-4F28-81ED-4303D93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058B-0246-4C50-B377-2BAC65A1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568C-E59F-40E5-8542-5703BF01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7E107-4050-4258-B3D6-652E8D4F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C2A7-19F6-4375-9249-A27EBBA3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CF2E-2ED5-4FDB-A266-CA4600F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094AB-117A-431E-A717-74076E30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174C-CB35-4CF9-96DA-9F20205C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EE68-CEE1-496F-A405-9146E461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499E4-1F53-4CDD-A71A-74619F76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00B-755D-4F6D-8227-8AE00712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FDED-298D-40FB-B7A5-05E27CAA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D4AEA-36AF-42AF-8907-176250D9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03A9-E69A-48CB-9ADA-C3768C7A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F1589-BE85-474B-BD30-EC1DA117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6C6F-05B4-4D5C-B755-DDF4617E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BE3E-E2FB-4AF9-AA56-E62E2027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62A7B-4D0C-4412-84E9-204F3B53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6E69-71E6-473B-B43B-3EBCFDFB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AA77C-F285-46AA-94F7-E286D775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652FF-9E97-46F0-82D6-706039E9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AE1-E548-4471-BFCF-8F463EC1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1FFF-E946-4E9E-B24F-1053E00D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B62AE-1172-4192-B469-0E51C0A5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3F02-D53B-4467-A7C1-C33C1893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8333B-A2E9-434B-A4EE-1DA6CCBF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DEFD6-0CDC-4EC5-81D0-43A3681B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95617-AB28-4740-ADDC-D48AC8E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1B880-0F00-43AF-9A3C-7C4FE975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66BC5-A4D6-4C67-AADD-4DFF706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C2E2-292E-4B5A-9505-013D0BF0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A278E-21DE-4982-9BEB-E285E17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529-19D3-431C-AC50-8B9C7A9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CDC08-7912-4A3D-8618-2D18FA11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FACA9-A641-4CB9-8BFF-348179DC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E2301-3007-49B2-ABBD-A3D6860C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74B95-1E1E-4C71-8D7A-DDF64A94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33305-8F2E-4126-A3C7-5D0E0E3F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631EF-A97F-49D9-AB97-01BED898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A2111-BA9F-4F07-BFFA-3212085E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528DA-1BF3-44C7-822B-4552A15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FBBA1-92AE-44DB-B6C4-8577F746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7435-36CC-4010-A997-7A45F17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C75-A267-48D0-AA40-2A1FC94B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64962-2EA5-4E53-913A-148BF48A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2C4F4-7CC6-4C02-8FFB-8F2BD770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B4436-64FA-4C44-BC40-5A93CEB9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5880-A48C-4877-A68F-9945363A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C785C-948B-4D83-92E8-7C5815AE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C8E-E9B6-4278-AFD7-F6168D3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37D3-C3CB-49AE-88C1-2C38827B9356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AFAC-F7ED-4D63-9CB4-17AACFCFF68B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E193-D15B-4324-8931-F14407128765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517B-397D-48A2-A6D2-2D24F5662D05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D4A1-B9A3-477F-9082-69E7D489C40B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4E67-EC4D-4D90-8CDF-A33FEA67EC62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847B-6053-4535-9BF0-44C91E45AF76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             </a:t>
            </a:r>
            <a:r>
              <a:rPr b="1" lang="uk-UA" sz="4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ЛАРИСА НІЦОЙ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240" y="4292640"/>
            <a:ext cx="6729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ш Оксана Миколаївна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итель початкових класів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винівський заклад 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ої середньої освіти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II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упенів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37" name="Рисунок 3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63212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914400" y="1125360"/>
            <a:ext cx="41623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иса Миколаївна Ніцой (Ляля Ніцой) народилася 17 березня 1969 року на Кіровоградщині в родині лікарів та вчителів.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39" name="Объект 4" descr=""/>
          <p:cNvPicPr/>
          <p:nvPr/>
        </p:nvPicPr>
        <p:blipFill>
          <a:blip r:embed="rId1"/>
          <a:stretch/>
        </p:blipFill>
        <p:spPr>
          <a:xfrm>
            <a:off x="5076720" y="256536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900000" y="3428640"/>
            <a:ext cx="70423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ажаючи своїм покликанням роботу з дітьми, відхилила пропозицію займатися науковою роботою і пішла працювати вчителем української мови та літератури в загальноосвітню Кіровоградську школу.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41" name="Объект 4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5488200" cy="2494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321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на діяльність Лариси Ніцой тісно пов’язана з освітянською та громадською активністю. Письменниця ініціювала чимало соціальних і культурних проектів: щорічний круглий стіл «Книга на захисті дитячої душі», Всеукраїнський рух «Дорослі читають дітям», Всеукраїнська акція «Почитай мені, татку!», «Тиждень читання для дітей» (Музей-квартина П. Г. Тичини) та інші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43" name="Объект 4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0672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3961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почала писати, занотовуючи історії, що розповідала синові на ніч. Казкові історії письменниці мають неабияке виховне значення, але написані без зайвих нотацій, моралізаторств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ерше публікується 2001 року. «Казка про славного Орленка» – присвячена В. М.Чорноволу до річниці загибелі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45" name="Объект 4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76704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914040" y="3581280"/>
            <a:ext cx="7689960" cy="29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ь фотографувати, подорожувати Україною. Мріє віднайти час для навчання живопису. А ще має ідею спорудження в Україні пам’ятника книзі – як символу нації, що постійно прагне до розвитку і вдосконалення. 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иця переконана, що читання виховає достойне покоління нових українців і позитивно вплине на цілу країну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47" name="Объект 4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46432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116000" y="549360"/>
            <a:ext cx="6696000" cy="49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 рік – Дипломант міжнародного літературного конкурсу «Коронація слова»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рік – Лауреат Всеукраїнської літературної премії «Гілка золотого каштана» в галузі соціальної прози.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рік – Людина року за версією газети «День» за створення феномену в освітньому процесі.</a:t>
            </a:r>
            <a:endParaRPr b="0" lang="en-US" sz="3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transition spd="slow">
    <p:strips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14400" y="2060280"/>
            <a:ext cx="387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шне страховисько» – діти приїхали відпочивати і зустріли це страхіття, яке складалося з бляшанок, пакунків, пляшок. Воно заворушилося, ця купа сміття, встало і почало плакати, що колись воно було красиве, а зараз таке страшне, бо воно таке, як ліс. І от підіймається проблема забруднення навколишнього середовища. Це ціла пригода, де діти будуть рятувати ліс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971280" y="620280"/>
            <a:ext cx="335268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Страшне страховисько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Объект 4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77532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6" descr=""/>
          <p:cNvPicPr/>
          <p:nvPr/>
        </p:nvPicPr>
        <p:blipFill>
          <a:blip r:embed="rId1"/>
          <a:stretch/>
        </p:blipFill>
        <p:spPr>
          <a:xfrm rot="20843400">
            <a:off x="323640" y="333360"/>
            <a:ext cx="2366640" cy="341316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7" descr=""/>
          <p:cNvPicPr/>
          <p:nvPr/>
        </p:nvPicPr>
        <p:blipFill>
          <a:blip r:embed="rId2"/>
          <a:stretch/>
        </p:blipFill>
        <p:spPr>
          <a:xfrm rot="1190400">
            <a:off x="468000" y="3499920"/>
            <a:ext cx="2425680" cy="31258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8" descr=""/>
          <p:cNvPicPr/>
          <p:nvPr/>
        </p:nvPicPr>
        <p:blipFill>
          <a:blip r:embed="rId3"/>
          <a:stretch/>
        </p:blipFill>
        <p:spPr>
          <a:xfrm rot="21193800">
            <a:off x="2893680" y="333000"/>
            <a:ext cx="2016000" cy="30243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9" descr=""/>
          <p:cNvPicPr/>
          <p:nvPr/>
        </p:nvPicPr>
        <p:blipFill>
          <a:blip r:embed="rId4"/>
          <a:stretch/>
        </p:blipFill>
        <p:spPr>
          <a:xfrm rot="20684400">
            <a:off x="3132000" y="3499920"/>
            <a:ext cx="2590920" cy="304992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0" descr=""/>
          <p:cNvPicPr/>
          <p:nvPr/>
        </p:nvPicPr>
        <p:blipFill>
          <a:blip r:embed="rId5"/>
          <a:stretch/>
        </p:blipFill>
        <p:spPr>
          <a:xfrm rot="261600">
            <a:off x="4876920" y="333360"/>
            <a:ext cx="2422440" cy="287964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1" descr=""/>
          <p:cNvPicPr/>
          <p:nvPr/>
        </p:nvPicPr>
        <p:blipFill>
          <a:blip r:embed="rId6"/>
          <a:stretch/>
        </p:blipFill>
        <p:spPr>
          <a:xfrm rot="658800">
            <a:off x="5881320" y="3093840"/>
            <a:ext cx="2833560" cy="3456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2" descr=""/>
          <p:cNvPicPr/>
          <p:nvPr/>
        </p:nvPicPr>
        <p:blipFill>
          <a:blip r:embed="rId7"/>
          <a:stretch/>
        </p:blipFill>
        <p:spPr>
          <a:xfrm rot="694800">
            <a:off x="7137000" y="395280"/>
            <a:ext cx="2112840" cy="272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0T13:10:09Z</dcterms:created>
  <dc:creator>Lenovo</dc:creator>
  <dc:description/>
  <dc:language>en-US</dc:language>
  <cp:lastModifiedBy>Lenovo</cp:lastModifiedBy>
  <dcterms:modified xsi:type="dcterms:W3CDTF">2018-02-17T16:20:57Z</dcterms:modified>
  <cp:revision>11</cp:revision>
  <dc:subject/>
  <dc:title>Презентация PowerPoint</dc:title>
</cp:coreProperties>
</file>