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5D2-920B-4145-B91D-F8A1BF7D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411-3EBA-4268-BE27-FDD4A68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8C7-533C-4A93-88CA-80417A56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630-D2BB-4A17-A22D-B8F55B82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BF4B-FB74-4436-BD8D-6D65BEF8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522-B22D-4903-9372-CFF7651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A6E-7ADC-47DF-A461-1D1ED284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B2A9-CD44-4DE6-B8BC-D483335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17F-1F2B-4EEC-AE0B-A8F802B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8CF-20D7-4AF6-BF3C-CC76176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E42C-8973-4C92-B411-7ED191C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624-AFDA-4FED-BE40-5F621E90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72B-3281-4340-BA4D-7FBA0BAE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EDB6-ACB1-4B30-8C16-6499B5E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E44-FF21-4218-AF78-94E7E93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74AB-7F27-4AFB-ADBE-EE63EEA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1045-4C07-4FB4-B5CA-5B8FCE5A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49A-80EE-42F9-9B8E-7AC1A7E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8E7-5651-4998-9EA9-C431707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69F-58D2-4123-9393-EF1FD313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62C-3772-4092-80A7-70AA7C80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E16-6F63-46D6-9923-2E83ACD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7F1-9C4A-44DC-B059-D9D1033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A38-1815-43F3-AC5F-AC25773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385-B507-4947-B0D4-BCDB1F7583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600C-E318-42A0-AB02-CDC2A9748D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Тема:Основні етапи проектування виробу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Розробка ескізу та вибір конструкційних матеріалів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Технологічний процес виготовлення проектованого вироб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j0195384"/>
          <p:cNvPicPr/>
          <p:nvPr/>
        </p:nvPicPr>
        <p:blipFill>
          <a:blip r:embed="rId2"/>
          <a:stretch/>
        </p:blipFill>
        <p:spPr>
          <a:xfrm>
            <a:off x="7020000" y="44370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1368360" cy="102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732720" y="333360"/>
            <a:ext cx="1728720" cy="1023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13892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Рефлексія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Що  нового  дізнались  на  уроці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Чого навчились. Яку роботу викона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Які завдання були визначені учням на ур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 Порівняйте реальні результати із завданнями, які були визначені на ур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 Чому отримали саме такий результ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. Що потрібно зробити для того, щоб мати кращі результати робо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. Де  можна  використати  набуті  знання  та  вмін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98604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. Як звуть того, хто хоче, намагається про все дізнатися, все зрозумі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Як називається один з найпоширеніших і найдоступніших матеріалі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Інструмент для випилювання виробів з фанери та тонкої дереви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Назва системи оздоблювальних елементі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. Як називається об’ємно-просторове відтворення якого-небудь виробу здебільше зменшеного вигля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Величина яка дає змогу зображувати деталь в збільшеному або в зменшувальному вигля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Відображення деталі на креслення або вид деталі відображений на кресленн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Вимірювальний інструмент трикутної форми? 9.  Як називається графічний документ що зображує виріб, визначає його конструкцію та містить дані згідно з яких виробляють або ремонтують виріб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Міркування або переконання до чогось? 11. Як називається творчий метод, процес проектування промислових виробів орієнтований на створення нового середовищ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800" y="692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Пит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655640" cy="1393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097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5157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02000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948360" y="242100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79280" y="2133720"/>
            <a:ext cx="1871640" cy="165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132000" y="4424400"/>
            <a:ext cx="2880000" cy="229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3276720" y="260280"/>
            <a:ext cx="2952720" cy="206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859280" y="2637000"/>
            <a:ext cx="2143080" cy="14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547640" y="1052640"/>
          <a:ext cx="5900760" cy="4465440"/>
        </p:xfrm>
        <a:graphic>
          <a:graphicData uri="http://schemas.openxmlformats.org/drawingml/2006/table">
            <a:tbl>
              <a:tblPr/>
              <a:tblGrid>
                <a:gridCol w="354600"/>
                <a:gridCol w="334080"/>
                <a:gridCol w="335880"/>
                <a:gridCol w="335520"/>
                <a:gridCol w="335880"/>
                <a:gridCol w="334080"/>
                <a:gridCol w="334080"/>
                <a:gridCol w="334440"/>
                <a:gridCol w="334080"/>
                <a:gridCol w="334080"/>
                <a:gridCol w="334440"/>
                <a:gridCol w="429840"/>
                <a:gridCol w="332640"/>
                <a:gridCol w="180360"/>
                <a:gridCol w="180360"/>
                <a:gridCol w="216000"/>
                <a:gridCol w="216000"/>
                <a:gridCol w="312480"/>
                <a:gridCol w="331920"/>
              </a:tblGrid>
              <a:tr h="34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546120"/>
            <a:ext cx="644544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0000"/>
                </a:solidFill>
                <a:latin typeface="Arial"/>
              </a:rPr>
              <a:t>Мета нашого уроку</a:t>
            </a: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Arial"/>
              </a:rPr>
              <a:t>Навчитися з вами розробляти і виконувати ескізний конструкторський документ, познайомитися з новим поняттям –</a:t>
            </a:r>
            <a:r>
              <a:rPr b="1" i="1" lang="uk-UA" sz="2800" spc="-1" strike="noStrike">
                <a:solidFill>
                  <a:srgbClr val="336699"/>
                </a:solidFill>
                <a:latin typeface="Arial"/>
              </a:rPr>
              <a:t> клаузура</a:t>
            </a:r>
            <a:r>
              <a:rPr b="0" lang="uk-UA" sz="2800" spc="-1" strike="noStrike">
                <a:solidFill>
                  <a:srgbClr val="336699"/>
                </a:solidFill>
                <a:latin typeface="Arial"/>
              </a:rPr>
              <a:t>. Навчитися підбирати конструкційний  матеріал для свого виробу. А також почнемо виготовляти згідно свого проекту – окремі деталі вироб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88000" y="115920"/>
            <a:ext cx="2556000" cy="1596960"/>
          </a:xfrm>
          <a:prstGeom prst="rect">
            <a:avLst/>
          </a:prstGeom>
          <a:ln w="0">
            <a:noFill/>
          </a:ln>
        </p:spPr>
      </p:pic>
    </p:spTree>
  </p:cSld>
  <p:transition advTm="24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7280" y="1068840"/>
            <a:ext cx="59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Arial"/>
              </a:rPr>
              <a:t>учні  повинн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99"/>
                </a:solidFill>
                <a:latin typeface="Arial"/>
              </a:rPr>
              <a:t>1 Навчитися розробляти ескізний конструкторський документ за допомогою програмних засобів на П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99"/>
                </a:solidFill>
                <a:latin typeface="Arial"/>
              </a:rPr>
              <a:t>2. Виготовити еск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99"/>
                </a:solidFill>
                <a:latin typeface="Arial"/>
              </a:rPr>
              <a:t>3.Випиляти лобзиком дошку  відшліфувати та оздобити вирі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922480" cy="174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96000" y="39600"/>
            <a:ext cx="23050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-720"/>
            <a:ext cx="590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c0000"/>
                </a:solidFill>
                <a:latin typeface="Arial"/>
              </a:rPr>
              <a:t>Дові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Ескіз</a:t>
            </a:r>
            <a:r>
              <a:rPr b="0" lang="uk-U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336699"/>
                </a:solidFill>
                <a:latin typeface="Arial"/>
              </a:rPr>
              <a:t>– графічний документ тимчасового користування, виконаний від руки без використання креслярських інструментів, в окомірному масштабі, із збереженням приблизної пропорціональності елементів зображуючого предмета з дотримання правил викон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Технічний рисуно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336699"/>
                </a:solidFill>
                <a:latin typeface="Arial"/>
              </a:rPr>
              <a:t>– це наочне зображення предметів, побудоване від руки без застосування креслярських інструментів, в окомірному масшта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Шаблон</a:t>
            </a:r>
            <a:r>
              <a:rPr b="0" lang="uk-UA" sz="1800" spc="-1" strike="noStrike">
                <a:solidFill>
                  <a:srgbClr val="336699"/>
                </a:solidFill>
                <a:latin typeface="Arial"/>
              </a:rPr>
              <a:t> – пристрій для розмітки контурів на заготовці, за допомогою якого виготовляють одинакові за формою та розміром вироби при їх масовому виробництв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843280" cy="198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732720" y="2924280"/>
            <a:ext cx="1431720" cy="178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24720" y="4869000"/>
            <a:ext cx="1506600" cy="179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843280" cy="198756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Ескізний конструкторський документ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4221000"/>
            <a:ext cx="8541000" cy="23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реслення, виконане, без дотримання масштабу і призначений для разового використан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12000" y="1125360"/>
            <a:ext cx="2165040" cy="315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374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0000"/>
                </a:solidFill>
                <a:latin typeface="Verdana"/>
              </a:rPr>
              <a:t>Клаузур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4064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рафічне зображення  можливих варіантів майбутніх елементів виробу як в загальному вигляді так і з прорисовкою окремих частин чи дета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580000" y="3716280"/>
            <a:ext cx="3086280" cy="571680"/>
            <a:chOff x="5580000" y="3716280"/>
            <a:chExt cx="3086280" cy="571680"/>
          </a:xfrm>
        </p:grpSpPr>
        <p:sp>
          <p:nvSpPr>
            <p:cNvPr id="118" name=""/>
            <p:cNvSpPr/>
            <p:nvPr/>
          </p:nvSpPr>
          <p:spPr>
            <a:xfrm>
              <a:off x="5580000" y="38304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65800" y="3830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1600" y="3830400"/>
              <a:ext cx="87624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980480" y="3716280"/>
              <a:ext cx="685800" cy="571680"/>
              <a:chOff x="7980480" y="3716280"/>
              <a:chExt cx="685800" cy="5716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7980480" y="3716280"/>
                <a:ext cx="685800" cy="571680"/>
                <a:chOff x="7980480" y="3716280"/>
                <a:chExt cx="685800" cy="57168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7980480" y="3716280"/>
                  <a:ext cx="342720" cy="57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323200" y="3716280"/>
                  <a:ext cx="343080" cy="57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7980480" y="428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4464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кріплення Практичної роботи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Які ж ви використали  конструкційні матеріали для свого вироб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ому саме такої форми ви створили свій ескіз дощечк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за використанням – сувенірна,  за інтер’єром кухні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 як ви  будете наносити шаблон на заготовку? Назвіть технологічні операції виготовлення користуючись ескізо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0:29:40Z</dcterms:created>
  <dc:creator>user</dc:creator>
  <dc:description/>
  <dc:language>en-US</dc:language>
  <cp:lastModifiedBy>user</cp:lastModifiedBy>
  <dcterms:modified xsi:type="dcterms:W3CDTF">2016-04-26T13:30:05Z</dcterms:modified>
  <cp:revision>5</cp:revision>
  <dc:subject/>
  <dc:title>Тема:    РОЗРОБКА ЕСКІЗУ ТА ВИБІР КОНСТРУКЦІЙНОГО МАТЕРІАЛУ.    ТЕХНОЛОГІЧНИЙ ПРОЦЕС  ТА ВИГОТОВЛЕННЯ ПРОЕКТОВАНОГО  ВИРОБУ.</dc:title>
</cp:coreProperties>
</file>