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22.png" ContentType="image/png"/>
  <Override PartName="/ppt/media/image4.wmf" ContentType="image/x-wmf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D56-CC67-494A-B3BC-F076806F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09F7-2ACD-43DC-8F8B-2447CFB5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24D8-C28B-4340-B7EB-45FA7935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9480-A796-412C-A031-5AB2FFF5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9F3-44C9-46EF-B0CC-558DDCA9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57CD-FD33-4168-A86B-96A20D38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4EF2-CFE3-406C-8058-B3FBAA09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8A2E-1835-4699-A1F7-DB264E325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2C14-5DF7-483A-93BB-B8863EC17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C043-36DF-434D-8990-8EEEB32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4A9D-42EF-4668-953E-0BDAFEEF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FA4-2230-4487-9957-083163A8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87C3-66D6-4C91-9AC8-434B7992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0623-F9DF-43B7-B0A6-B4B18B33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0BE4-6464-4A79-B7D5-FE4036C2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06AE-1311-4A32-906E-3249A60A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7030-3803-4277-8B03-6798AD6C9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1ED-47C6-424A-96AC-ABE95001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CA9D-1B6D-42EE-8826-BE15881E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C237-B4D3-41CE-947C-AF3F83F0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D9A6-1468-4647-B699-B26BFDC9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97B-6202-45FC-9183-24BFF3E0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C18-85B9-4DC8-93A3-608EA5EE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CA8-BC43-4E34-A51F-AD38CAA5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75AD-B4EF-492D-9942-5F54FA02CD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002-8687-4970-91CD-4CB4D6264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4479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одорож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Комп'ютерленду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352680" cy="2508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52280" y="152280"/>
            <a:ext cx="3848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закласний захід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66680" y="6094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Малюнок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5867280"/>
            <a:ext cx="2971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V конку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05320" y="2362320"/>
            <a:ext cx="2763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4800600" cy="4327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8120" y="4572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Прірва Вір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90720" y="685800"/>
            <a:ext cx="7391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Яку інформацію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римує Петрик?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5943600"/>
            <a:ext cx="297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VІ конку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1200240" cy="26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1257120" cy="2800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114800" y="2590920"/>
            <a:ext cx="1009800" cy="2838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867280" y="2666880"/>
            <a:ext cx="1123920" cy="2724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7543800" y="2666880"/>
            <a:ext cx="1143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828800" y="609480"/>
            <a:ext cx="5562720" cy="4745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8800" y="5715000"/>
            <a:ext cx="5486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Столиця Комп’ютерленду —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lang="uk-UA" sz="2800" spc="-1" strike="noStrike">
                <a:solidFill>
                  <a:srgbClr val="000000"/>
                </a:solidFill>
                <a:latin typeface="Tahoma"/>
              </a:rPr>
              <a:t>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rcRect l="6299" t="1890" r="6299" b="1890"/>
          <a:stretch/>
        </p:blipFill>
        <p:spPr>
          <a:xfrm rot="20850600">
            <a:off x="685800" y="533520"/>
            <a:ext cx="2098800" cy="3079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304920" y="594360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VII конкурс-естаф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 rot="886200">
            <a:off x="6705360" y="456840"/>
            <a:ext cx="1914480" cy="2700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066680" y="2971800"/>
            <a:ext cx="7391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СТЕРТІ СЛОВА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457200" y="3200400"/>
            <a:ext cx="7924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ІТАЄМ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438280" y="457200"/>
            <a:ext cx="46483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одорожі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2282760" cy="1683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629400" y="914400"/>
            <a:ext cx="2057400" cy="1825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819520" y="2743200"/>
            <a:ext cx="2444760" cy="17542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400800" y="4419720"/>
            <a:ext cx="2209680" cy="199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838080" y="4495680"/>
            <a:ext cx="2063880" cy="1760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flipH="1">
            <a:off x="2971440" y="5257800"/>
            <a:ext cx="3352680" cy="4572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4191120"/>
            <a:ext cx="990360" cy="53316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1600200"/>
            <a:ext cx="3505320" cy="15228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3760" y="2209680"/>
            <a:ext cx="1447560" cy="685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3840" y="281880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м. Теоретик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2819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Ярмарок Народної мудр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44956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ahoma"/>
              </a:rPr>
              <a:t>Чарівний лі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05720" y="41148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Прірва  Віру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6324480"/>
            <a:ext cx="3886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Столиця Комп’ютерленду —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1" lang="uk-UA" sz="1400" spc="-1" strike="noStrike">
                <a:solidFill>
                  <a:srgbClr val="000000"/>
                </a:solidFill>
                <a:latin typeface="Tahoma"/>
              </a:rPr>
              <a:t>ind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6781680" cy="5000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350880" y="5790240"/>
            <a:ext cx="29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м. Теоретик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19520" y="2438280"/>
            <a:ext cx="3848040" cy="3965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219320" y="380880"/>
            <a:ext cx="6400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итанн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дрого монітор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6095880"/>
            <a:ext cx="180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І конку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14400" y="762120"/>
            <a:ext cx="7391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РАВИЛА ПОВЕДІНК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6095880"/>
            <a:ext cx="180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ІІ конку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324480" y="2590920"/>
            <a:ext cx="2248200" cy="2247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048120" y="3733920"/>
            <a:ext cx="2908080" cy="21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609480"/>
            <a:ext cx="4648320" cy="4124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502920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Ярмарок </a:t>
            </a:r>
            <a:br>
              <a:rPr sz="3600"/>
            </a:br>
            <a:r>
              <a:rPr b="1" lang="uk-UA" sz="3600" spc="-1" strike="noStrike">
                <a:solidFill>
                  <a:srgbClr val="000000"/>
                </a:solidFill>
                <a:latin typeface="Tahoma"/>
              </a:rPr>
              <a:t>Народної мудрост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4617" t="0" r="3298" b="0"/>
          <a:stretch/>
        </p:blipFill>
        <p:spPr>
          <a:xfrm>
            <a:off x="6172200" y="304920"/>
            <a:ext cx="2716200" cy="3133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914400" y="1905120"/>
            <a:ext cx="609588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АРОДН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ДРІСТ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ВОРИТЬ...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5943600"/>
            <a:ext cx="40384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ІІІ конкурс-естаф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66680" y="838080"/>
            <a:ext cx="7391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ЗЛИ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5943600"/>
            <a:ext cx="29718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ІV конкур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55096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5867640" cy="4210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57600" y="502920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ahoma"/>
              </a:rPr>
              <a:t>Чарівний лі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ge&amp;Matros ®</cp:lastModifiedBy>
  <dcterms:modified xsi:type="dcterms:W3CDTF">2018-02-07T04:38:1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