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5.png" ContentType="image/png"/>
  <Override PartName="/ppt/media/image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DAD-EA23-42B4-842A-7F181B54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49C-8113-4C03-8081-E0C94B6E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04A-A8B5-46CD-9506-3C40D7D8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674-CDEA-4F05-8AD3-2C6578AA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1D8-D006-4170-9593-EEB097AE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A01-83A9-47E4-A4A5-7567541B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731-90C8-4446-AA28-9FB50771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3EE-28A4-44E5-9262-65A2A5C9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C22-E5EB-4E48-9863-FE36781C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9A6-F6B8-41F0-9D77-3B4AE512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3B2-2823-499C-A6C0-4C88D2E3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C43-AFDC-468B-99D6-8C5A68A3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C99B-2483-497E-BAF7-CEDFC8BE6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447920" y="502920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Haettenschweiler"/>
              </a:rPr>
              <a:t>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Haettenschweiler"/>
              </a:rPr>
              <a:t>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Haettenschweiler"/>
              <a:ea typeface="Haettenschweiler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136440" y="152280"/>
            <a:ext cx="8839440" cy="5410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914400" y="5715000"/>
            <a:ext cx="731520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uk-UA" sz="3600" spc="-1" strike="noStrike">
                <a:solidFill>
                  <a:srgbClr val="ffff00"/>
                </a:solidFill>
                <a:latin typeface="Georgia"/>
                <a:ea typeface="Lao UI"/>
              </a:rPr>
              <a:t>«Козацькими стежками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52280" y="76212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76320"/>
            <a:ext cx="899172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444040" y="5894280"/>
            <a:ext cx="4254480" cy="916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imes New Roman"/>
              </a:rPr>
              <a:t>Фізхвилин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8301600" y="64450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Українська фізхвилинка.mp4" descr=""/>
          <p:cNvPicPr/>
          <p:nvPr/>
        </p:nvPicPr>
        <p:blipFill>
          <a:blip r:embed="rId1"/>
          <a:stretch/>
        </p:blipFill>
        <p:spPr>
          <a:xfrm>
            <a:off x="0" y="76320"/>
            <a:ext cx="91393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BRIDGE3"/>
          <p:cNvPicPr/>
          <p:nvPr/>
        </p:nvPicPr>
        <p:blipFill>
          <a:blip r:embed="rId1"/>
          <a:stretch/>
        </p:blipFill>
        <p:spPr>
          <a:xfrm>
            <a:off x="76320" y="76320"/>
            <a:ext cx="9067680" cy="6553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533520" y="4854600"/>
            <a:ext cx="4876560" cy="17398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uk-UA" sz="5400" spc="-1" strike="noStrike">
                <a:solidFill>
                  <a:srgbClr val="ffff00"/>
                </a:solidFill>
                <a:latin typeface="Times New Roman"/>
              </a:rPr>
              <a:t>Порі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uk-UA" sz="5400" spc="-1" strike="noStrike">
                <a:solidFill>
                  <a:srgbClr val="ffff00"/>
                </a:solidFill>
                <a:latin typeface="Times New Roman"/>
              </a:rPr>
              <a:t>«МОВНИЙ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6320" y="0"/>
            <a:ext cx="8839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685800" y="152280"/>
            <a:ext cx="80694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Під час письма слова з ненаголошеними </a:t>
            </a:r>
            <a:r>
              <a:rPr b="1" lang="en-US" sz="4800" spc="-1" strike="noStrike">
                <a:solidFill>
                  <a:srgbClr val="001007"/>
                </a:solidFill>
                <a:latin typeface="Times New Roman"/>
              </a:rPr>
              <a:t>[</a:t>
            </a:r>
            <a:r>
              <a:rPr b="1" lang="uk-UA" sz="4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en-US" sz="4800" spc="-1" strike="noStrike">
                <a:solidFill>
                  <a:srgbClr val="001007"/>
                </a:solidFill>
                <a:latin typeface="Times New Roman"/>
              </a:rPr>
              <a:t>]</a:t>
            </a:r>
            <a:r>
              <a:rPr b="1" lang="uk-UA" sz="4800" spc="-1" strike="noStrike">
                <a:solidFill>
                  <a:srgbClr val="001007"/>
                </a:solidFill>
                <a:latin typeface="Times New Roman"/>
              </a:rPr>
              <a:t>, </a:t>
            </a:r>
            <a:r>
              <a:rPr b="1" lang="en-US" sz="4800" spc="-1" strike="noStrike">
                <a:solidFill>
                  <a:srgbClr val="001007"/>
                </a:solidFill>
                <a:latin typeface="Times New Roman"/>
              </a:rPr>
              <a:t>[</a:t>
            </a:r>
            <a:r>
              <a:rPr b="1" lang="uk-UA" sz="4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US" sz="4800" spc="-1" strike="noStrike">
                <a:solidFill>
                  <a:srgbClr val="001007"/>
                </a:solidFill>
                <a:latin typeface="Times New Roman"/>
              </a:rPr>
              <a:t>]</a:t>
            </a:r>
            <a:r>
              <a:rPr b="1" lang="uk-UA" sz="4800" spc="-1" strike="noStrike">
                <a:solidFill>
                  <a:srgbClr val="001007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потрібно перевіряти наголосом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Times New Roman"/>
              </a:rPr>
              <a:t>Наприклад: </a:t>
            </a:r>
            <a:r>
              <a:rPr b="1" i="1" lang="uk-UA" sz="4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i="1" lang="uk-UA" sz="4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uk-UA" sz="4800" spc="-1" strike="noStrike">
                <a:solidFill>
                  <a:srgbClr val="000000"/>
                </a:solidFill>
                <a:latin typeface="Times New Roman"/>
              </a:rPr>
              <a:t>мля – з</a:t>
            </a:r>
            <a:r>
              <a:rPr b="1" i="1" lang="uk-UA" sz="4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i="1" lang="uk-UA" sz="4800" spc="-1" strike="noStrike">
                <a:solidFill>
                  <a:srgbClr val="000000"/>
                </a:solidFill>
                <a:latin typeface="Times New Roman"/>
              </a:rPr>
              <a:t>млі, ж</a:t>
            </a:r>
            <a:r>
              <a:rPr b="1" i="1" lang="uk-UA" sz="4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i="1" lang="uk-UA" sz="4800" spc="-1" strike="noStrike">
                <a:solidFill>
                  <a:srgbClr val="000000"/>
                </a:solidFill>
                <a:latin typeface="Times New Roman"/>
              </a:rPr>
              <a:t>ття – ж</a:t>
            </a:r>
            <a:r>
              <a:rPr b="1" i="1" lang="uk-UA" sz="4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i="1" lang="uk-UA" sz="4800" spc="-1" strike="noStrike">
                <a:solidFill>
                  <a:srgbClr val="000000"/>
                </a:solidFill>
                <a:latin typeface="Times New Roman"/>
              </a:rPr>
              <a:t>т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альчикова гімнастика.mp4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905120" y="6103800"/>
            <a:ext cx="579096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Vijaya"/>
              </a:rPr>
              <a:t>ПАЛЬЧИКОВА ГІМНАС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Пальчикова гімнастика.mp4" descr=""/>
          <p:cNvPicPr/>
          <p:nvPr/>
        </p:nvPicPr>
        <p:blipFill>
          <a:blip r:embed="rId2"/>
          <a:stretch/>
        </p:blipFill>
        <p:spPr>
          <a:xfrm>
            <a:off x="457200" y="401760"/>
            <a:ext cx="8001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ka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380880" y="3124080"/>
            <a:ext cx="25164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ПОРІ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3048120" y="5334120"/>
            <a:ext cx="59436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«ЧИТАНКОВИЙ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5"/>
          <p:cNvSpPr txBox="1"/>
          <p:nvPr/>
        </p:nvSpPr>
        <p:spPr>
          <a:xfrm>
            <a:off x="838080" y="5867280"/>
            <a:ext cx="7696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Копия видео Зарядка для глаз Осень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Копия видео Зарядка для глаз Осень.mp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771480" y="6172200"/>
            <a:ext cx="40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ГІМНАСТИКА ДЛЯ ОЧ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7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ka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6" descr=""/>
          <p:cNvPicPr/>
          <p:nvPr/>
        </p:nvPicPr>
        <p:blipFill>
          <a:blip r:embed="rId2"/>
          <a:stretch/>
        </p:blipFill>
        <p:spPr>
          <a:xfrm>
            <a:off x="6467400" y="219240"/>
            <a:ext cx="2305080" cy="396720"/>
          </a:xfrm>
          <a:prstGeom prst="rect">
            <a:avLst/>
          </a:prstGeom>
          <a:ln w="0">
            <a:noFill/>
          </a:ln>
        </p:spPr>
      </p:pic>
      <p:sp>
        <p:nvSpPr>
          <p:cNvPr id="46" name="WordArt 7"/>
          <p:cNvSpPr txBox="1"/>
          <p:nvPr/>
        </p:nvSpPr>
        <p:spPr>
          <a:xfrm>
            <a:off x="5257800" y="838080"/>
            <a:ext cx="3581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певненим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 своїх силах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7" name="WordArt 8" descr=""/>
          <p:cNvPicPr/>
          <p:nvPr/>
        </p:nvPicPr>
        <p:blipFill>
          <a:blip r:embed="rId3"/>
          <a:stretch/>
        </p:blipFill>
        <p:spPr>
          <a:xfrm>
            <a:off x="6284880" y="1974960"/>
            <a:ext cx="2182680" cy="46980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5943600" y="2590920"/>
            <a:ext cx="2819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"/>
              </a:rPr>
              <a:t>Допомагат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"/>
              </a:rPr>
              <a:t>у бід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74520" y="76320"/>
            <a:ext cx="8912160" cy="563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62000" y="5538960"/>
            <a:ext cx="901044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5"/>
          <p:cNvSpPr txBox="1"/>
          <p:nvPr/>
        </p:nvSpPr>
        <p:spPr>
          <a:xfrm>
            <a:off x="3219480" y="5867280"/>
            <a:ext cx="3333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Sylfaen"/>
              </a:rPr>
              <a:t> 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913600" cy="5638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8841600" y="6477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3" descr=""/>
          <p:cNvPicPr/>
          <p:nvPr/>
        </p:nvPicPr>
        <p:blipFill>
          <a:blip r:embed="rId2"/>
          <a:stretch/>
        </p:blipFill>
        <p:spPr>
          <a:xfrm>
            <a:off x="74520" y="76320"/>
            <a:ext cx="8912160" cy="5638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28600" y="5479920"/>
            <a:ext cx="9016920" cy="1633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748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8687520" y="648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88394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SHOSHO~1"/>
          <p:cNvPicPr/>
          <p:nvPr/>
        </p:nvPicPr>
        <p:blipFill>
          <a:blip r:embed="rId1"/>
          <a:stretch/>
        </p:blipFill>
        <p:spPr>
          <a:xfrm>
            <a:off x="120600" y="82440"/>
            <a:ext cx="8915400" cy="6686640"/>
          </a:xfrm>
          <a:prstGeom prst="rect">
            <a:avLst/>
          </a:prstGeom>
          <a:ln w="0">
            <a:noFill/>
          </a:ln>
        </p:spPr>
      </p:pic>
      <p:pic>
        <p:nvPicPr>
          <p:cNvPr id="58" name="WordArt 5" descr="Белый мрамор"/>
          <p:cNvPicPr/>
          <p:nvPr/>
        </p:nvPicPr>
        <p:blipFill>
          <a:blip r:embed="rId2"/>
          <a:stretch/>
        </p:blipFill>
        <p:spPr>
          <a:xfrm>
            <a:off x="987480" y="2914560"/>
            <a:ext cx="440676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561957bd9962"/>
          <p:cNvPicPr/>
          <p:nvPr/>
        </p:nvPicPr>
        <p:blipFill>
          <a:blip r:embed="rId1"/>
          <a:stretch/>
        </p:blipFill>
        <p:spPr>
          <a:xfrm>
            <a:off x="-333360" y="4680"/>
            <a:ext cx="10134720" cy="758988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3067200" y="2903400"/>
            <a:ext cx="333360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атематичн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зминк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04920" y="762120"/>
            <a:ext cx="8686800" cy="71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. Якою спільною назвою можна об'єднати сло­ва: дециметр, сантиметр, кілометр, міліметр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Що більше: 5 м чи 400 см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3. Що таке периметр квадра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кільки хвилин триває уро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5. Скільки десятків у сотні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скільки разів 45 більше, ніж 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. Брат з'їв 10 слив, а сестра - 7. Скільки слив з'їла їхня бабус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. На груші росло 60 груш, а на вербі на 5 менше. Скільки груш росло на вербі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685800" y="609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-212040" y="152280"/>
            <a:ext cx="8822160" cy="9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МІРИ ДОВЖИН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М =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М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УМА ДОВЖИН  ВСІХ СТОРІ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УРОК ТРИВАЄ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45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ХВИЛИ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ОДНІЙ СОТНІ -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ДЕСЯТКІ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АЗІ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ЗАДАЧА-ЖАРТ.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АБУСЯ СЛИ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 Ї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ЗАДАЧА-ЖАРТ.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ВЕРБІ ГРУШ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 РОСТУ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Довольный пользователь Microsoft Office</cp:lastModifiedBy>
  <dcterms:modified xsi:type="dcterms:W3CDTF">2018-03-05T07:32:54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