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jpeg" ContentType="image/jpeg"/>
  <Override PartName="/ppt/media/image13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9.png" ContentType="image/png"/>
  <Override PartName="/ppt/media/image17.png" ContentType="image/png"/>
  <Override PartName="/ppt/media/image15.gif" ContentType="image/gif"/>
  <Override PartName="/ppt/media/image18.png" ContentType="image/png"/>
  <Override PartName="/ppt/media/image14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16.png" ContentType="image/png"/>
  <Override PartName="/ppt/media/chimes.wav" ContentType="audio/x-wav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6.xml><?xml version="1.0" encoding="utf-8"?>
<p:cmLst xmlns:p="http://schemas.openxmlformats.org/presentationml/2006/main">
  <p:cm authorId="0" dt="2015-12-08T18:41:20.698000000" idx="1">
    <p:pos x="443" y="860"/>
    <p:text/>
  </p:cm>
  <p:cm authorId="0" dt="2015-12-08T18:41:22.714000000" idx="2">
    <p:pos x="579" y="996"/>
    <p:text/>
  </p:cm>
  <p:cm authorId="0" dt="2015-12-08T18:41:23.906000000" idx="3">
    <p:pos x="715" y="1132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6502-937A-4F8E-92E3-BBDE6D059D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D41A-A11B-4A44-86DE-4E28A63843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7D5-AF41-40A7-AF6E-26E9CF4D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CD14-F609-41A8-A25B-FC79EA8C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99C-77B2-48EF-9683-E2A90501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EE7-D9F3-4AC2-99D1-13BB708D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0F57-4C73-41EE-A43A-8EDE47E8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EB49-5395-430E-9FE1-EC447F24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7FA2-92E1-44DE-8CCC-D8F5047D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B08D-BA0C-479F-B594-A06C8E44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8369-F722-465D-8593-F3A72710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820B-D891-4559-8AF7-98D1FEA4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C061-5D24-48C1-A427-7B66B9FF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172-863E-4A3A-8696-50D6406C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7F72-7063-4BEC-9984-7A0772BC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63AE-6D69-4563-97F5-CFB9787D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1076-25C4-4D96-BCDB-AC45158E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EF39-01CF-489E-BE3D-887C7225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8FC3-B90F-4960-B0E6-49E7D4DC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53C3E-621C-40AC-8ECD-AEB90E38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CC373-1CAE-46B8-A0DE-0213BF10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5F950-6354-46A8-B51C-39D36715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4E16C-B984-4CFB-BD88-B49695BC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A4808-434B-4FD5-821C-801A2B8A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F51-BE42-4B01-B7CF-662CD33B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74FB7-DAE4-4989-80E3-B2E79E42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21B92-A3BA-4664-B2F9-E7C9922B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A6225-29EB-485D-8353-CFA1A6E4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126D9-66BF-4EBC-9B1F-694BE965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20CC7-A206-4AE1-A48F-FDFD1696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08AEB-5C76-43FD-8C3D-6F3C11EA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1742F-94E9-49A1-8657-94084F53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B01F6-41F9-4A40-8F26-D6F82E02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64FE1-B451-492E-8063-21B7C1C4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F416E-0292-43E0-9233-0649233E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FED-A34A-4781-97FA-03DC0C07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B033E-CC69-46C0-91F1-2FB8C840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B2491-091F-47DA-BC1B-9160DBC5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5FBAD-5A55-4DE9-933A-C7831D82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D1375-63B7-49D4-AA15-1477A8F0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83016-91D0-4716-B37F-3462C860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6C6D8-16DD-4A6F-AC5B-ACC46D7A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0BED4-36EF-4E87-81DE-02B4C5AF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30FF5-A8C8-4EB6-AAF7-78C3E3BB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0612-12D1-4582-B73D-AC19985C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9AA-4374-4336-9A8F-330C4205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D53-0C89-4676-884A-BC15B0DF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48E-891C-4736-994F-C1C3BBC3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CAA-ABFA-46AD-9731-6B04BA52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1DA-99B6-4509-A5DC-454B3621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0893-0057-442F-B375-F147D37494A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4C75-5450-4122-9E0F-5DAFD4D9348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CF3F-0863-4729-94ED-601494EB6B1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1CCC-AEB5-4172-BCF7-42AAD8ED1DB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gi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WordArt 30"/>
          <p:cNvSpPr txBox="1"/>
          <p:nvPr/>
        </p:nvSpPr>
        <p:spPr>
          <a:xfrm>
            <a:off x="250920" y="785880"/>
            <a:ext cx="8893080" cy="371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8892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Impact"/>
              </a:rPr>
              <a:t>«Країна  емоцій» </a:t>
            </a:r>
            <a:endParaRPr b="0" lang="en-US" sz="1800" spc="1" strike="noStrike">
              <a:ln w="8892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  <p:pic>
        <p:nvPicPr>
          <p:cNvPr id="224" name="Picture 27" descr=""/>
          <p:cNvPicPr/>
          <p:nvPr/>
        </p:nvPicPr>
        <p:blipFill>
          <a:blip r:embed="rId2">
            <a:lum contrast="30000"/>
          </a:blip>
          <a:stretch/>
        </p:blipFill>
        <p:spPr>
          <a:xfrm rot="9150000">
            <a:off x="395280" y="404280"/>
            <a:ext cx="1008000" cy="962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"/>
          <p:cNvPicPr/>
          <p:nvPr/>
        </p:nvPicPr>
        <p:blipFill>
          <a:blip r:embed="rId3">
            <a:lum contrast="30000"/>
          </a:blip>
          <a:stretch/>
        </p:blipFill>
        <p:spPr>
          <a:xfrm rot="9150000">
            <a:off x="4308480" y="5106960"/>
            <a:ext cx="1008000" cy="96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4"/>
          <a:stretch/>
        </p:blipFill>
        <p:spPr>
          <a:xfrm>
            <a:off x="214200" y="285840"/>
            <a:ext cx="8428320" cy="6215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8427960" cy="6215040"/>
          </a:xfrm>
          <a:prstGeom prst="rect">
            <a:avLst/>
          </a:prstGeom>
          <a:ln w="0">
            <a:noFill/>
          </a:ln>
        </p:spPr>
      </p:pic>
      <p:pic>
        <p:nvPicPr>
          <p:cNvPr id="260" name="TextBox 7" descr=""/>
          <p:cNvPicPr/>
          <p:nvPr/>
        </p:nvPicPr>
        <p:blipFill>
          <a:blip r:embed="rId3"/>
          <a:stretch/>
        </p:blipFill>
        <p:spPr>
          <a:xfrm>
            <a:off x="781200" y="139680"/>
            <a:ext cx="7619760" cy="12193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8"/>
          <p:cNvSpPr/>
          <p:nvPr/>
        </p:nvSpPr>
        <p:spPr>
          <a:xfrm>
            <a:off x="280188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TextBox 9" descr=""/>
          <p:cNvPicPr/>
          <p:nvPr/>
        </p:nvPicPr>
        <p:blipFill>
          <a:blip r:embed="rId4"/>
          <a:stretch/>
        </p:blipFill>
        <p:spPr>
          <a:xfrm>
            <a:off x="-212760" y="4857840"/>
            <a:ext cx="953280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5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80360" cy="1428840"/>
          </a:xfrm>
          <a:prstGeom prst="rect">
            <a:avLst/>
          </a:prstGeom>
          <a:solidFill>
            <a:srgbClr val="9dbed3"/>
          </a:solidFill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ru-RU" sz="4300" spc="-1" strike="noStrike">
                <a:solidFill>
                  <a:srgbClr val="424456"/>
                </a:solidFill>
                <a:latin typeface="Trebuchet MS"/>
              </a:rPr>
              <a:t>Чим  ми  будем займатись на уроці:</a:t>
            </a:r>
            <a:endParaRPr b="0" lang="en-US" sz="43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42560" y="1999800"/>
            <a:ext cx="8715240" cy="442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Поговоримо про настрій, ємоції та їх  значення для нашого здоров</a:t>
            </a:r>
            <a:r>
              <a:rPr b="1" lang="uk-UA" sz="36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я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afbd"/>
                </a:solidFill>
                <a:latin typeface="Georgia"/>
              </a:rPr>
              <a:t>Будемо вчитися розпізнавати свої почуття та висловлювати їх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2a874"/>
                </a:solidFill>
                <a:latin typeface="Georgia"/>
              </a:rPr>
              <a:t>Зображувати кольором , рухами відповідний настрій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 rot="9494400">
            <a:off x="134640" y="1125360"/>
            <a:ext cx="958680" cy="914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>
            <a:lum contrast="30000"/>
          </a:blip>
          <a:stretch/>
        </p:blipFill>
        <p:spPr>
          <a:xfrm rot="12295800">
            <a:off x="7068600" y="5325840"/>
            <a:ext cx="1368720" cy="1304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694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694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694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694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357120" y="1714680"/>
            <a:ext cx="84297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ЕМОЦІ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душевне переживання, почуття, хвилюванн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2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8" descr=""/>
          <p:cNvPicPr/>
          <p:nvPr/>
        </p:nvPicPr>
        <p:blipFill>
          <a:blip r:embed="rId1">
            <a:lum contrast="24000"/>
          </a:blip>
          <a:stretch/>
        </p:blipFill>
        <p:spPr>
          <a:xfrm rot="20379600">
            <a:off x="293760" y="155520"/>
            <a:ext cx="1081080" cy="1060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2">
            <a:lum contrast="24000"/>
          </a:blip>
          <a:stretch/>
        </p:blipFill>
        <p:spPr>
          <a:xfrm rot="1373400">
            <a:off x="4520880" y="5311800"/>
            <a:ext cx="1081080" cy="1060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2786040" cy="3373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4"/>
          <a:stretch/>
        </p:blipFill>
        <p:spPr>
          <a:xfrm rot="18543000">
            <a:off x="4943520" y="2148840"/>
            <a:ext cx="4059000" cy="3075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C:\ИННА\Картинки\backgrounds_files\backgrounds_100031.gif"/>
          <p:cNvPicPr/>
          <p:nvPr/>
        </p:nvPicPr>
        <p:blipFill>
          <a:blip r:embed="rId5"/>
          <a:stretch/>
        </p:blipFill>
        <p:spPr>
          <a:xfrm>
            <a:off x="6000840" y="714240"/>
            <a:ext cx="1571400" cy="1791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C:\ИННА\Картинки\backgrounds_files\backgrounds_100061.gif"/>
          <p:cNvPicPr/>
          <p:nvPr/>
        </p:nvPicPr>
        <p:blipFill>
          <a:blip r:embed="rId6"/>
          <a:stretch/>
        </p:blipFill>
        <p:spPr>
          <a:xfrm>
            <a:off x="1214280" y="3714840"/>
            <a:ext cx="1214640" cy="1357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  <p:sndAc>
      <p:stSnd>
        <p:snd r:embed="rId7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38086"/>
                                      </p:to>
                                    </p:animClr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38086"/>
                                      </p:to>
                                    </p:animClr>
                                    <p:set>
                                      <p:cBhvr>
                                        <p:cTn id="133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38086"/>
                                      </p:to>
                                    </p:animClr>
                                    <p:animClr clrSpc="rgb">
                                      <p:cBhvr>
                                        <p:cTn id="150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38086"/>
                                      </p:to>
                                    </p:animClr>
                                    <p:set>
                                      <p:cBhvr>
                                        <p:cTn id="151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азка починаєтьс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b050"/>
                </a:solidFill>
                <a:latin typeface="Georgia"/>
              </a:rPr>
              <a:t>Три дороги</a:t>
            </a:r>
            <a:r>
              <a:rPr b="0" lang="uk-UA" sz="28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Georgia"/>
              </a:rPr>
              <a:t>Направо підеш – мішок золота знайдеш, але здоров’я втратиш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26064"/>
                </a:solidFill>
                <a:latin typeface="Georgia"/>
              </a:rPr>
              <a:t>Наліво підеш – пів мішка золота знайдеш, і половину здоров’я втратиш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26064"/>
                </a:solidFill>
                <a:latin typeface="Georgia"/>
              </a:rPr>
              <a:t>Прямо підеш- не буде в тебе золота, а буде  здоров’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Georgia"/>
              </a:rPr>
              <a:t>Вибери свою дорогу, поясни св</a:t>
            </a:r>
            <a:r>
              <a:rPr b="0" lang="uk-UA" sz="2800" spc="-1" strike="noStrike">
                <a:solidFill>
                  <a:srgbClr val="00b050"/>
                </a:solidFill>
                <a:latin typeface="Georgia"/>
              </a:rPr>
              <a:t>ій вибі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Iogann Shtraus Val s Na Golubom Dunae (mp3top100.net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edge/>
    <p:sndAc>
      <p:stSnd>
        <p:snd r:embed="rId2" name="chimes.wav"/>
      </p:stSnd>
    </p:sndAc>
  </p:transition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55624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Здоров’я не купиш, його потрібно зміцнювати постійною роботою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д своїм розум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д своїм тіл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д своїми звичка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д своїми почуттями та емоція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39720" y="-420840"/>
            <a:ext cx="5675400" cy="8663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TextBox 6" descr=""/>
          <p:cNvPicPr/>
          <p:nvPr/>
        </p:nvPicPr>
        <p:blipFill>
          <a:blip r:embed="rId3"/>
          <a:stretch/>
        </p:blipFill>
        <p:spPr>
          <a:xfrm>
            <a:off x="0" y="212760"/>
            <a:ext cx="8931240" cy="1019160"/>
          </a:xfrm>
          <a:prstGeom prst="rect">
            <a:avLst/>
          </a:prstGeom>
          <a:ln w="0">
            <a:noFill/>
          </a:ln>
        </p:spPr>
      </p:pic>
      <p:pic>
        <p:nvPicPr>
          <p:cNvPr id="249" name="TextBox 8" descr=""/>
          <p:cNvPicPr/>
          <p:nvPr/>
        </p:nvPicPr>
        <p:blipFill>
          <a:blip r:embed="rId4"/>
          <a:stretch/>
        </p:blipFill>
        <p:spPr>
          <a:xfrm>
            <a:off x="360360" y="1285920"/>
            <a:ext cx="5924520" cy="5999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5" name="chimes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57120" y="214200"/>
            <a:ext cx="842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ffff"/>
                </a:solidFill>
                <a:latin typeface="Calibri"/>
              </a:rPr>
              <a:t>Негативні  емоці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142920" y="1571760"/>
            <a:ext cx="821520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928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rebuchet MS"/>
                <a:ea typeface="Calibri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Trebuchet MS"/>
                <a:ea typeface="Calibri"/>
              </a:rPr>
              <a:t>с т р а х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rebuchet MS"/>
                <a:ea typeface="Calibri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Trebuchet MS"/>
                <a:ea typeface="Calibri"/>
              </a:rPr>
              <a:t>з л і с т 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rebuchet MS"/>
                <a:ea typeface="Calibri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Trebuchet MS"/>
                <a:ea typeface="Calibri"/>
              </a:rPr>
              <a:t>с м у т о к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rebuchet MS"/>
                <a:ea typeface="Calibri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Trebuchet MS"/>
                <a:ea typeface="Calibri"/>
              </a:rPr>
              <a:t>н е з а д о в о л е н н я,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rebuchet MS"/>
                <a:ea typeface="Calibri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Trebuchet MS"/>
                <a:ea typeface="Calibri"/>
              </a:rPr>
              <a:t>н е д о в і р л и в і с т 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2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uk-UA" sz="4000" spc="-1" strike="noStrike">
                <a:solidFill>
                  <a:srgbClr val="424456"/>
                </a:solidFill>
                <a:latin typeface="Trebuchet MS"/>
              </a:rPr>
              <a:t>поясни свої почутт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5" name="Mirovye-instrumental_nye-hity-12_1(muzofon.com).mp3" descr=""/>
          <p:cNvPicPr/>
          <p:nvPr/>
        </p:nvPicPr>
        <p:blipFill>
          <a:blip r:embed="rId1"/>
          <a:stretch/>
        </p:blipFill>
        <p:spPr>
          <a:xfrm>
            <a:off x="4071960" y="391320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94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301866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3-26T13:40:42Z</dcterms:modified>
  <cp:revision>21</cp:revision>
  <dc:subject/>
  <dc:title>Слайд 1</dc:title>
</cp:coreProperties>
</file>