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09A-9FCF-4A7A-A864-84B37C60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F6E-9028-410D-A02C-966904E0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30D-7D49-45DB-8366-15C243F8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6D8-0D9A-4E18-BEA3-B4527D86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E895-1E47-4BBC-821D-7BBD81BD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ECA8-D9D0-4B79-8161-6DC97B69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B14E-F6F9-4121-9E65-960FF539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4FE4-1700-4276-B9BE-33E812F0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9A8C-06AB-4687-96C0-2851488B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2542-1822-477D-8282-36F1C097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151F-929F-40F3-B317-64AED1D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533-8A44-4809-AB4D-3BA3A894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6C95-D63A-4FBD-80AB-D8416D34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DB10-4527-47F4-88C5-E253E851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6722-D931-442C-BCFF-5E947DB8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D072-6977-4166-896C-D54BB738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C7F3-DE18-45B9-9159-754A522B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A8C-4A65-44BA-A850-62467FFA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F6B-A573-4CBE-B808-D716EDFF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6C2-7DD5-4EBE-8697-3F8B13B7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BD2-43C5-416D-8A6B-F5A3478C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6FA-9789-46BA-8096-08A9E4A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165-0FFC-4573-9B0A-5D58B1A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E22-EA39-4BF4-9115-A9F9CFC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225B-A520-41C8-894E-442B35195DB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8AD-AB5B-4A58-9378-B98D92867CA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260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Arial"/>
              </a:rPr>
              <a:t>ПИРАТЫ МАТЕМАТИЧЕСКОГО МО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95480" y="33336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Урок - квес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16000" y="1197000"/>
            <a:ext cx="3666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ошуках скарбі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24360" y="3933720"/>
            <a:ext cx="398124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 :   Ромашова Т.О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трівська ЗОШ І -ІІ ст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колаївський р-н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колаївська ОБЛ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488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195640" y="1197000"/>
            <a:ext cx="24476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0920" y="50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268360" y="981000"/>
                <a:ext cx="40388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547640" y="2276640"/>
            <a:ext cx="59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3 + 6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= 2(2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1) – 3(4 –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3 + 6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2 -12 + 3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3 = 7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14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7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= -14 +3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х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= -1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Відповідь: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Рівняння розв`язків не має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1756080" cy="2341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98040" y="34452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вистать всіх  наверх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ому дорівнює більше число 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cxnSp>
        <p:nvCxnSpPr>
          <p:cNvPr id="188" name="Shape 434"/>
          <p:cNvCxnSpPr/>
          <p:nvPr/>
        </p:nvCxnSpPr>
        <p:spPr>
          <a:xfrm>
            <a:off x="3780000" y="2060280"/>
            <a:ext cx="2016720" cy="1080"/>
          </a:xfrm>
          <a:prstGeom prst="straightConnector1">
            <a:avLst/>
          </a:prstGeom>
          <a:ln w="28440">
            <a:solidFill>
              <a:srgbClr val="eaeaea"/>
            </a:solidFill>
            <a:miter/>
          </a:ln>
        </p:spPr>
      </p:cxnSp>
      <p:cxnSp>
        <p:nvCxnSpPr>
          <p:cNvPr id="189" name="Shape 435"/>
          <p:cNvCxnSpPr/>
          <p:nvPr/>
        </p:nvCxnSpPr>
        <p:spPr>
          <a:xfrm>
            <a:off x="5795640" y="2060640"/>
            <a:ext cx="1080" cy="792720"/>
          </a:xfrm>
          <a:prstGeom prst="straightConnector1">
            <a:avLst/>
          </a:prstGeom>
          <a:ln w="28440">
            <a:solidFill>
              <a:srgbClr val="eaeaea"/>
            </a:solidFill>
            <a:miter/>
          </a:ln>
        </p:spPr>
      </p:cxnSp>
      <p:cxnSp>
        <p:nvCxnSpPr>
          <p:cNvPr id="190" name="Shape 436"/>
          <p:cNvCxnSpPr/>
          <p:nvPr/>
        </p:nvCxnSpPr>
        <p:spPr>
          <a:xfrm flipH="1" flipV="1">
            <a:off x="2842920" y="2851920"/>
            <a:ext cx="2953440" cy="10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lg" type="triangle" w="lg"/>
          </a:ln>
        </p:spPr>
      </p:cxnSp>
      <p:cxnSp>
        <p:nvCxnSpPr>
          <p:cNvPr id="191" name="Shape 437"/>
          <p:cNvCxnSpPr/>
          <p:nvPr/>
        </p:nvCxnSpPr>
        <p:spPr>
          <a:xfrm>
            <a:off x="5148000" y="4292280"/>
            <a:ext cx="2161080" cy="1080"/>
          </a:xfrm>
          <a:prstGeom prst="straightConnector1">
            <a:avLst/>
          </a:prstGeom>
          <a:ln w="28440">
            <a:solidFill>
              <a:srgbClr val="eaeaea"/>
            </a:solidFill>
            <a:miter/>
          </a:ln>
        </p:spPr>
      </p:cxnSp>
      <p:cxnSp>
        <p:nvCxnSpPr>
          <p:cNvPr id="192" name="Shape 438"/>
          <p:cNvCxnSpPr/>
          <p:nvPr/>
        </p:nvCxnSpPr>
        <p:spPr>
          <a:xfrm>
            <a:off x="7308360" y="4292640"/>
            <a:ext cx="1080" cy="721440"/>
          </a:xfrm>
          <a:prstGeom prst="straightConnector1">
            <a:avLst/>
          </a:prstGeom>
          <a:ln w="28440">
            <a:solidFill>
              <a:srgbClr val="eaeaea"/>
            </a:solidFill>
            <a:miter/>
          </a:ln>
        </p:spPr>
      </p:cxnSp>
      <p:cxnSp>
        <p:nvCxnSpPr>
          <p:cNvPr id="193" name="Shape 439"/>
          <p:cNvCxnSpPr/>
          <p:nvPr/>
        </p:nvCxnSpPr>
        <p:spPr>
          <a:xfrm flipH="1" flipV="1">
            <a:off x="2770920" y="5012640"/>
            <a:ext cx="4537800" cy="10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lg" type="triangle" w="lg"/>
          </a:ln>
        </p:spPr>
      </p:cxnSp>
      <p:sp>
        <p:nvSpPr>
          <p:cNvPr id="194" name=""/>
          <p:cNvSpPr/>
          <p:nvPr/>
        </p:nvSpPr>
        <p:spPr>
          <a:xfrm>
            <a:off x="755640" y="1557360"/>
            <a:ext cx="61023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І – на 20 &gt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ІІ –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І –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х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у 5 разів &lt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ІІ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Скільки книжок на другій полиці 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cxnSp>
        <p:nvCxnSpPr>
          <p:cNvPr id="196" name="Shape 446"/>
          <p:cNvCxnSpPr/>
          <p:nvPr/>
        </p:nvCxnSpPr>
        <p:spPr>
          <a:xfrm>
            <a:off x="4355640" y="2707920"/>
            <a:ext cx="1585080" cy="1080"/>
          </a:xfrm>
          <a:prstGeom prst="straightConnector1">
            <a:avLst/>
          </a:prstGeom>
          <a:ln w="28440">
            <a:solidFill>
              <a:srgbClr val="eaeaea"/>
            </a:solidFill>
            <a:miter/>
          </a:ln>
        </p:spPr>
      </p:cxnSp>
      <p:cxnSp>
        <p:nvCxnSpPr>
          <p:cNvPr id="197" name="Shape 447"/>
          <p:cNvCxnSpPr/>
          <p:nvPr/>
        </p:nvCxnSpPr>
        <p:spPr>
          <a:xfrm>
            <a:off x="5940000" y="1916280"/>
            <a:ext cx="1080" cy="792720"/>
          </a:xfrm>
          <a:prstGeom prst="straightConnector1">
            <a:avLst/>
          </a:prstGeom>
          <a:ln w="28440">
            <a:solidFill>
              <a:srgbClr val="eaeaea"/>
            </a:solidFill>
            <a:miter/>
          </a:ln>
        </p:spPr>
      </p:cxnSp>
      <p:cxnSp>
        <p:nvCxnSpPr>
          <p:cNvPr id="198" name="Shape 448"/>
          <p:cNvCxnSpPr/>
          <p:nvPr/>
        </p:nvCxnSpPr>
        <p:spPr>
          <a:xfrm flipH="1" flipV="1">
            <a:off x="2700000" y="1915560"/>
            <a:ext cx="3240720" cy="10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lg" type="triangle" w="lg"/>
          </a:ln>
        </p:spPr>
      </p:cxnSp>
      <p:cxnSp>
        <p:nvCxnSpPr>
          <p:cNvPr id="199" name="Shape 449"/>
          <p:cNvCxnSpPr/>
          <p:nvPr/>
        </p:nvCxnSpPr>
        <p:spPr>
          <a:xfrm>
            <a:off x="5435640" y="4149360"/>
            <a:ext cx="1658160" cy="1080"/>
          </a:xfrm>
          <a:prstGeom prst="straightConnector1">
            <a:avLst/>
          </a:prstGeom>
          <a:ln w="28440">
            <a:solidFill>
              <a:srgbClr val="eaeaea"/>
            </a:solidFill>
            <a:miter/>
          </a:ln>
        </p:spPr>
      </p:cxnSp>
      <p:cxnSp>
        <p:nvCxnSpPr>
          <p:cNvPr id="200" name="Shape 450"/>
          <p:cNvCxnSpPr/>
          <p:nvPr/>
        </p:nvCxnSpPr>
        <p:spPr>
          <a:xfrm>
            <a:off x="7092720" y="4149360"/>
            <a:ext cx="1080" cy="864360"/>
          </a:xfrm>
          <a:prstGeom prst="straightConnector1">
            <a:avLst/>
          </a:prstGeom>
          <a:ln w="28440">
            <a:solidFill>
              <a:srgbClr val="eaeaea"/>
            </a:solidFill>
            <a:miter/>
          </a:ln>
        </p:spPr>
      </p:cxnSp>
      <p:cxnSp>
        <p:nvCxnSpPr>
          <p:cNvPr id="201" name="Shape 451"/>
          <p:cNvCxnSpPr/>
          <p:nvPr/>
        </p:nvCxnSpPr>
        <p:spPr>
          <a:xfrm flipH="1" flipV="1">
            <a:off x="2771280" y="5012640"/>
            <a:ext cx="4322160" cy="10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lg" type="triangle" w="lg"/>
          </a:ln>
        </p:spPr>
      </p:cxnSp>
      <p:sp>
        <p:nvSpPr>
          <p:cNvPr id="202" name=""/>
          <p:cNvSpPr/>
          <p:nvPr/>
        </p:nvSpPr>
        <p:spPr>
          <a:xfrm>
            <a:off x="611280" y="1341360"/>
            <a:ext cx="51735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І –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ІІ – у 2 рази &lt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І – на 15 книжок &gt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ІІ –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Геометрична бух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8064720" cy="4419360"/>
          </a:xfrm>
          <a:prstGeom prst="rect">
            <a:avLst/>
          </a:prstGeom>
          <a:solidFill>
            <a:srgbClr val="c9c9ff"/>
          </a:solidFill>
          <a:ln w="381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Noto Sans Symbo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205" name="Shape 474"/>
          <p:cNvCxnSpPr/>
          <p:nvPr/>
        </p:nvCxnSpPr>
        <p:spPr>
          <a:xfrm>
            <a:off x="2268360" y="3789360"/>
            <a:ext cx="5401440" cy="72000"/>
          </a:xfrm>
          <a:prstGeom prst="straightConnector1">
            <a:avLst/>
          </a:prstGeom>
          <a:ln w="38160">
            <a:solidFill>
              <a:srgbClr val="760876"/>
            </a:solidFill>
            <a:miter/>
          </a:ln>
        </p:spPr>
      </p:cxnSp>
      <p:cxnSp>
        <p:nvCxnSpPr>
          <p:cNvPr id="206" name="Shape 475"/>
          <p:cNvCxnSpPr/>
          <p:nvPr/>
        </p:nvCxnSpPr>
        <p:spPr>
          <a:xfrm flipH="1">
            <a:off x="4642560" y="1988640"/>
            <a:ext cx="1801080" cy="1801080"/>
          </a:xfrm>
          <a:prstGeom prst="straightConnector1">
            <a:avLst/>
          </a:prstGeom>
          <a:ln w="38160">
            <a:solidFill>
              <a:srgbClr val="760876"/>
            </a:solidFill>
            <a:miter/>
            <a:tailEnd len="med" type="oval" w="med"/>
          </a:ln>
        </p:spPr>
      </p:cxnSp>
      <p:sp>
        <p:nvSpPr>
          <p:cNvPr id="207" name="Shape 476"/>
          <p:cNvSpPr/>
          <p:nvPr/>
        </p:nvSpPr>
        <p:spPr>
          <a:xfrm>
            <a:off x="2124000" y="386064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Shape 477"/>
          <p:cNvSpPr/>
          <p:nvPr/>
        </p:nvSpPr>
        <p:spPr>
          <a:xfrm>
            <a:off x="4427640" y="3933720"/>
            <a:ext cx="36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Shape 478"/>
          <p:cNvSpPr/>
          <p:nvPr/>
        </p:nvSpPr>
        <p:spPr>
          <a:xfrm>
            <a:off x="7380360" y="393372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Shape 479"/>
          <p:cNvSpPr/>
          <p:nvPr/>
        </p:nvSpPr>
        <p:spPr>
          <a:xfrm>
            <a:off x="5940360" y="162864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Shape 480"/>
          <p:cNvSpPr/>
          <p:nvPr/>
        </p:nvSpPr>
        <p:spPr>
          <a:xfrm>
            <a:off x="1547640" y="4869000"/>
            <a:ext cx="626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 на 40° &gt;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 ВОС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989000"/>
            <a:ext cx="46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e80a"/>
                </a:solidFill>
                <a:latin typeface="Verdana"/>
              </a:rPr>
              <a:t>Знайди кути 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3e80a"/>
                </a:solidFill>
                <a:latin typeface="Verdana"/>
              </a:rPr>
              <a:t>АОС  і  ВО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488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195640" y="1197000"/>
            <a:ext cx="24476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0920" y="50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1403280" y="15001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1)Х + (х – 40) = 18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88800" y="14270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2)Х + (х + 40 ) = 18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1480" y="2003400"/>
            <a:ext cx="563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2х = 220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2х = 14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Х = 110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х = 7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87480" y="315612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Х – 40 = 70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х + 40 = 11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2133360" cy="284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1236600"/>
            <a:ext cx="7200720" cy="5621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4840" y="5724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Бухта Чідаза Кладипір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хід  сім’ї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українц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 становить  15  600  грн.  в  місяць. Причому  заробітна  плата  батька,  матері  та стипендія  сина  відносяться  як 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:5:1.  Який  дохід приносить  кожний член  сім’ї  в  місяць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Знайомство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0" y="404640"/>
            <a:ext cx="597708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рез рівняння і задач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сі вирішуєм невдач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217080" cy="66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3724200" cy="4753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971640" y="260280"/>
            <a:ext cx="7092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их подороже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16720" y="249228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6) Бухта Чідаз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Кладипір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476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0021"/>
                </a:solidFill>
                <a:latin typeface="Arial"/>
              </a:rPr>
              <a:t>о.  Вендуху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1989000"/>
            <a:ext cx="48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Arial"/>
              </a:rPr>
              <a:t>*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5229360"/>
            <a:ext cx="48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Arial"/>
              </a:rPr>
              <a:t>*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3789360"/>
            <a:ext cx="48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Arial"/>
              </a:rPr>
              <a:t>*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3284640"/>
            <a:ext cx="48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Arial"/>
              </a:rPr>
              <a:t>*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2852640"/>
            <a:ext cx="48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Arial"/>
              </a:rPr>
              <a:t>*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125360"/>
            <a:ext cx="48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Arial"/>
              </a:rPr>
              <a:t>*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580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82360" y="40244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99"/>
                </a:solidFill>
                <a:latin typeface="Arial"/>
              </a:rPr>
              <a:t>Островітян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99"/>
                </a:solidFill>
                <a:latin typeface="Arial"/>
              </a:rPr>
              <a:t>Носівирільн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1280" y="1792440"/>
            <a:ext cx="22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аза піраті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Arial"/>
              </a:rPr>
              <a:t>Ріньо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0720" y="503244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66"/>
                </a:solidFill>
                <a:latin typeface="Arial"/>
              </a:rPr>
              <a:t>Пристань Нявннярі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53160" y="4176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о.Хувенту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71640" y="1197000"/>
            <a:ext cx="309564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7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 =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x = -  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x = 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3x = 3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042920" y="4581360"/>
                <a:ext cx="1800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050920" y="50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59547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– 0,4x = - 1.6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10684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=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924360" y="2003400"/>
            <a:ext cx="25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 має роз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011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ліч роз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394812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=-1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495612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=-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5892840"/>
            <a:ext cx="16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=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2080" y="463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640720" cy="619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36400" y="8082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00"/>
                </a:solidFill>
                <a:latin typeface="Verdana"/>
              </a:rPr>
              <a:t>о. Хувенту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195640" y="1197000"/>
            <a:ext cx="24476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50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671480" y="708120"/>
            <a:ext cx="210852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+4=1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2x+12=4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(x-1)=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x+7=5x-8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79400" y="3933720"/>
                <a:ext cx="20386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067280" y="635040"/>
            <a:ext cx="1873080" cy="42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8x-8=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-2x=-1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-x+6=2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X-8=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X-3=2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572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Знайди пар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65160"/>
            <a:ext cx="7848720" cy="6762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211640" y="3581280"/>
            <a:ext cx="2459160" cy="3276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02080" y="36892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Verdana"/>
              </a:rPr>
              <a:t>Дайвінг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488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50920" y="50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547640" y="1844640"/>
            <a:ext cx="531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3(2,4 – 1,1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= 2,7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,2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Розв`язання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7,2 – 3,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= 2,7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+ 3,2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-3,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– 2,7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= 3,2 – 7,2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-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= -4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ідповідь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84360" y="4365720"/>
                <a:ext cx="5112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492360" y="5157720"/>
                <a:ext cx="30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887480" y="106848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іднови записи</a:t>
            </a:r>
            <a:r>
              <a:rPr b="1" lang="uk-UA" sz="2800" spc="-1" strike="noStrike">
                <a:solidFill>
                  <a:srgbClr val="eaeaea"/>
                </a:solidFill>
                <a:latin typeface="Verdana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97400" y="3645000"/>
            <a:ext cx="2370240" cy="3024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64000" y="3789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Well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on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488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95640" y="1197000"/>
            <a:ext cx="24476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50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476360" y="1125360"/>
            <a:ext cx="58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5(3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1) – 12 = 3(5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+ 2) – 2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Розв`язання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5 – 12 = 15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+6 – 23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17 = 15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– 17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15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= -17 +17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х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= 0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Відповідь: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Розв`язком рівняння є будь-яке число (рівняння має безліч розв`язків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1865520" cy="2486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64360" y="2430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Verdana"/>
              </a:rPr>
              <a:t>Злови краб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0840" y="260280"/>
            <a:ext cx="8843760" cy="648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48360" y="6523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айвінг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7T11:57:00Z</dcterms:created>
  <dc:creator>ИОН</dc:creator>
  <dc:description/>
  <dc:language>en-US</dc:language>
  <cp:lastModifiedBy>user</cp:lastModifiedBy>
  <dcterms:modified xsi:type="dcterms:W3CDTF">2018-03-04T18:52:57Z</dcterms:modified>
  <cp:revision>37</cp:revision>
  <dc:subject/>
  <dc:title>Слайд 1</dc:title>
</cp:coreProperties>
</file>