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3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3.wmf" ContentType="image/x-wmf"/>
  <Override PartName="/ppt/media/image29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C30-2700-438C-A464-231CE258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357-676B-4B8C-B60C-02A09F53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F0B-1950-4FBE-9A2F-100ABA3D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B8B-76CD-42C5-85C8-45FF23F8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438-C190-4838-BD68-3A107179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D37-BE8A-4132-8706-078D616F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8A7-BB3A-462A-AB63-BED6394B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5D2-F2D3-41FB-A720-4C6D41CE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05D-5B1E-4E8F-8EA7-623D993A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2CB-2980-4D35-B75A-7C3A5D68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1C9-AC0E-4583-87A1-75AE906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101-BFB4-4621-8094-B501FCF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404B-865B-45A1-AF24-347BE2F1CF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source=wiz&amp;uinfo=ww-1903-wh-953-fw-1678-fh-598-pd-1&amp;_=1406734642627&amp;p=7&amp;text=&#1086;&#1089;&#1085;&#1086;&#1074;&#1080;%20&#1079;&#1076;&#1086;&#1088;&#1086;&#1074;&#1103;%20&#1097;&#1086;%20&#1074;&#1087;&#1083;&#1080;&#1074;&#1072;&#1108;%20&#1085;&#1072;%20&#1079;&#1076;&#1086;&#1088;&#1086;&#1074;&#1103;%20&#1082;&#1072;&#1088;&#1090;&#1080;&#1085;&#1082;&#1080;&amp;noreask=1&amp;pos=226&amp;rpt=simage&amp;lr=28539&amp;img_url=http%3A%2F%2Fimg1.liveinternet.ru%2Fimages%2Fattach%2Fb%2F2%2F51%2F47%2F51047647_image001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qwe.in.ua/2011/08/ya-i-moe-zdorove/florida-health-insurance1/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29560" y="836280"/>
            <a:ext cx="6039720" cy="3127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611280" y="333360"/>
            <a:ext cx="7561080" cy="352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a4"/>
                </a:solidFill>
                <a:latin typeface="Arial"/>
              </a:rPr>
              <a:t>Основи здоров</a:t>
            </a:r>
            <a:r>
              <a:rPr b="1" lang="en-US" sz="4000" spc="-1" strike="noStrike">
                <a:solidFill>
                  <a:srgbClr val="0000a4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0000a4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a4"/>
                </a:solidFill>
                <a:latin typeface="Arial"/>
              </a:rPr>
              <a:t>Вчитель початкових клас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a4"/>
                </a:solidFill>
                <a:latin typeface="Arial"/>
              </a:rPr>
              <a:t>Паланської ЗОШ І-ІІІ ступе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a4"/>
                </a:solidFill>
                <a:latin typeface="Arial"/>
              </a:rPr>
              <a:t>Л.Л. Панчен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Полилиния 6"/>
          <p:cNvGrpSpPr/>
          <p:nvPr/>
        </p:nvGrpSpPr>
        <p:grpSpPr>
          <a:xfrm>
            <a:off x="0" y="4211640"/>
            <a:ext cx="9150480" cy="2658600"/>
            <a:chOff x="0" y="4211640"/>
            <a:chExt cx="9150480" cy="2658600"/>
          </a:xfrm>
        </p:grpSpPr>
        <p:pic>
          <p:nvPicPr>
            <p:cNvPr id="45" name="Полилиния 6" descr=""/>
            <p:cNvPicPr/>
            <p:nvPr/>
          </p:nvPicPr>
          <p:blipFill>
            <a:blip r:embed="rId1"/>
            <a:stretch/>
          </p:blipFill>
          <p:spPr>
            <a:xfrm>
              <a:off x="0" y="4211640"/>
              <a:ext cx="915048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9080" y="4271760"/>
              <a:ext cx="9101160" cy="25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олилиния 5"/>
          <p:cNvGrpSpPr/>
          <p:nvPr/>
        </p:nvGrpSpPr>
        <p:grpSpPr>
          <a:xfrm>
            <a:off x="6480" y="6480"/>
            <a:ext cx="1633320" cy="1438200"/>
            <a:chOff x="6480" y="6480"/>
            <a:chExt cx="1633320" cy="1438200"/>
          </a:xfrm>
        </p:grpSpPr>
        <p:pic>
          <p:nvPicPr>
            <p:cNvPr id="48" name="Полилиния 5" descr=""/>
            <p:cNvPicPr/>
            <p:nvPr/>
          </p:nvPicPr>
          <p:blipFill>
            <a:blip r:embed="rId2"/>
            <a:stretch/>
          </p:blipFill>
          <p:spPr>
            <a:xfrm>
              <a:off x="6480" y="6480"/>
              <a:ext cx="16333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9080" y="19080"/>
              <a:ext cx="160344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Соціальна складо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Рисунок 2" descr="Описание: http://www.mukachevo.net/Content/img/news/p_25610_1_gallery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57720"/>
            <a:ext cx="2712960" cy="26301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Описание: http://www.volynnews.com/files/news/2013/05-14/41874-1u.jpg"/>
          <p:cNvPicPr/>
          <p:nvPr/>
        </p:nvPicPr>
        <p:blipFill>
          <a:blip r:embed="rId3"/>
          <a:stretch/>
        </p:blipFill>
        <p:spPr>
          <a:xfrm>
            <a:off x="4572000" y="3933720"/>
            <a:ext cx="2857680" cy="2019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560520" y="1341360"/>
            <a:ext cx="833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и вчишся поводитися з людьми так, як хочеш,                                                       щоб поводились із тобою.                                                           Ти намагаєшся робити гідні вчи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Все це - ознаки соціальної складової здоро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Фізкультхвилин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аз! Два! Час встава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удемо відпочива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ри! Чотири! Присідайм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Швидко втому проганяй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'ять! Шість! Засміяли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ілька раз понахиля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йчик сонячний до н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вітав у вільний ч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удемо бігати, стриба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Щоб нам зайчика впійма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удко зайчик утіка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 промінчиками грає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ім! Вісім! Час наст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вернутись нам до спр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Arial"/>
              </a:rPr>
              <a:t>Поєднання всіх складових дає людині міцне здоров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c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Содержимое 3" descr=""/>
          <p:cNvPicPr/>
          <p:nvPr/>
        </p:nvPicPr>
        <p:blipFill>
          <a:blip r:embed="rId1"/>
          <a:stretch/>
        </p:blipFill>
        <p:spPr>
          <a:xfrm>
            <a:off x="-6480" y="1414440"/>
            <a:ext cx="9150480" cy="544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Що впливає на здоров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Содержимое 3" descr=""/>
          <p:cNvPicPr/>
          <p:nvPr/>
        </p:nvPicPr>
        <p:blipFill>
          <a:blip r:embed="rId1"/>
          <a:stretch/>
        </p:blipFill>
        <p:spPr>
          <a:xfrm>
            <a:off x="920880" y="1676520"/>
            <a:ext cx="7302240" cy="4406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Що впливає на здоров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8" name="Object 8"/>
          <p:cNvGraphicFramePr/>
          <p:nvPr/>
        </p:nvGraphicFramePr>
        <p:xfrm>
          <a:off x="-828720" y="3716280"/>
          <a:ext cx="828720" cy="27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3716280"/>
                    <a:ext cx="828720" cy="27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Рисунок 3" descr="Описание: http://narodna-osvita.com.ua/uploads/osnovy-5-boychenko_files/14.png"/>
          <p:cNvPicPr/>
          <p:nvPr/>
        </p:nvPicPr>
        <p:blipFill>
          <a:blip r:embed="rId3"/>
          <a:stretch/>
        </p:blipFill>
        <p:spPr>
          <a:xfrm>
            <a:off x="0" y="1484280"/>
            <a:ext cx="896472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Список використаних джере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ручник “Основи здоров’я” 4 клас Н.М.Бібік, Т.Є.Бойченко, Н.С.Коваль, О.І.Манюк К. “Навчальна книга” 20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ій конспект “Основи здоров’я” 4 клас  М.О.Володарська “Х.Основа”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http://www.teacherjournal.com.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http://www.google.com.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http://oipopp.ed-sp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http://vislovi.org.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http://www.google.com.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олилиния 6"/>
          <p:cNvGrpSpPr/>
          <p:nvPr/>
        </p:nvGrpSpPr>
        <p:grpSpPr>
          <a:xfrm>
            <a:off x="-19080" y="2219400"/>
            <a:ext cx="9186840" cy="4760640"/>
            <a:chOff x="-19080" y="2219400"/>
            <a:chExt cx="9186840" cy="4760640"/>
          </a:xfrm>
        </p:grpSpPr>
        <p:pic>
          <p:nvPicPr>
            <p:cNvPr id="51" name="Полилиния 6" descr=""/>
            <p:cNvPicPr/>
            <p:nvPr/>
          </p:nvPicPr>
          <p:blipFill>
            <a:blip r:embed="rId1"/>
            <a:stretch/>
          </p:blipFill>
          <p:spPr>
            <a:xfrm>
              <a:off x="-19080" y="2219400"/>
              <a:ext cx="9186840" cy="429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2306520"/>
              <a:ext cx="9144000" cy="46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Полилиния 8"/>
          <p:cNvGrpSpPr/>
          <p:nvPr/>
        </p:nvGrpSpPr>
        <p:grpSpPr>
          <a:xfrm>
            <a:off x="-30240" y="-42840"/>
            <a:ext cx="9240840" cy="1523880"/>
            <a:chOff x="-30240" y="-42840"/>
            <a:chExt cx="9240840" cy="1523880"/>
          </a:xfrm>
        </p:grpSpPr>
        <p:pic>
          <p:nvPicPr>
            <p:cNvPr id="54" name="Полилиния 8" descr=""/>
            <p:cNvPicPr/>
            <p:nvPr/>
          </p:nvPicPr>
          <p:blipFill>
            <a:blip r:embed="rId2"/>
            <a:stretch/>
          </p:blipFill>
          <p:spPr>
            <a:xfrm>
              <a:off x="63360" y="401400"/>
              <a:ext cx="912924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-30240" y="-42840"/>
              <a:ext cx="92408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Заголовок 5" descr=""/>
          <p:cNvPicPr/>
          <p:nvPr/>
        </p:nvPicPr>
        <p:blipFill>
          <a:blip r:embed="rId3"/>
          <a:stretch/>
        </p:blipFill>
        <p:spPr>
          <a:xfrm>
            <a:off x="890640" y="85680"/>
            <a:ext cx="7521480" cy="145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:\Distrib\диск Оформление\Stylize\Icons\Иконки\Icons2\up.png"/>
          <p:cNvPicPr/>
          <p:nvPr/>
        </p:nvPicPr>
        <p:blipFill>
          <a:blip r:embed="rId4"/>
          <a:stretch/>
        </p:blipFill>
        <p:spPr>
          <a:xfrm>
            <a:off x="8215200" y="6215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:\Distrib\диск Оформление\Stylize\Icons\Иконки\Icons2\up.png"/>
          <p:cNvPicPr/>
          <p:nvPr/>
        </p:nvPicPr>
        <p:blipFill>
          <a:blip r:embed="rId5"/>
          <a:stretch/>
        </p:blipFill>
        <p:spPr>
          <a:xfrm>
            <a:off x="7715160" y="6215040"/>
            <a:ext cx="432000" cy="432000"/>
          </a:xfrm>
          <a:prstGeom prst="rect">
            <a:avLst/>
          </a:prstGeom>
          <a:ln w="0">
            <a:noFill/>
          </a:ln>
        </p:spPr>
      </p:pic>
      <p:grpSp>
        <p:nvGrpSpPr>
          <p:cNvPr id="59" name="Группа 19"/>
          <p:cNvGrpSpPr/>
          <p:nvPr/>
        </p:nvGrpSpPr>
        <p:grpSpPr>
          <a:xfrm>
            <a:off x="285840" y="6318360"/>
            <a:ext cx="357120" cy="357120"/>
            <a:chOff x="285840" y="6318360"/>
            <a:chExt cx="357120" cy="357120"/>
          </a:xfrm>
        </p:grpSpPr>
        <p:grpSp>
          <p:nvGrpSpPr>
            <p:cNvPr id="60" name="Овал 17"/>
            <p:cNvGrpSpPr/>
            <p:nvPr/>
          </p:nvGrpSpPr>
          <p:grpSpPr>
            <a:xfrm>
              <a:off x="285840" y="6318360"/>
              <a:ext cx="357120" cy="357120"/>
              <a:chOff x="285840" y="6318360"/>
              <a:chExt cx="357120" cy="357120"/>
            </a:xfrm>
          </p:grpSpPr>
          <p:pic>
            <p:nvPicPr>
              <p:cNvPr id="61" name="Овал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85840" y="6318360"/>
                <a:ext cx="35712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367920" y="6383520"/>
                <a:ext cx="19476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" name="Полилиния 18"/>
            <p:cNvGrpSpPr/>
            <p:nvPr/>
          </p:nvGrpSpPr>
          <p:grpSpPr>
            <a:xfrm>
              <a:off x="370440" y="6387840"/>
              <a:ext cx="192600" cy="190080"/>
              <a:chOff x="370440" y="6387840"/>
              <a:chExt cx="192600" cy="190080"/>
            </a:xfrm>
          </p:grpSpPr>
          <p:pic>
            <p:nvPicPr>
              <p:cNvPr id="64" name="Полилиния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370440" y="6389280"/>
                <a:ext cx="192600" cy="18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370440" y="6387840"/>
                <a:ext cx="189000" cy="18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22"/>
          <p:cNvGrpSpPr/>
          <p:nvPr/>
        </p:nvGrpSpPr>
        <p:grpSpPr>
          <a:xfrm>
            <a:off x="6929280" y="6215040"/>
            <a:ext cx="614520" cy="432000"/>
            <a:chOff x="6929280" y="6215040"/>
            <a:chExt cx="614520" cy="432000"/>
          </a:xfrm>
        </p:grpSpPr>
        <p:pic>
          <p:nvPicPr>
            <p:cNvPr id="67" name="Picture 5" descr="I:\Distrib\диск Оформление\Stylize\Icons\Иконки\Icons2\up.png"/>
            <p:cNvPicPr/>
            <p:nvPr/>
          </p:nvPicPr>
          <p:blipFill>
            <a:blip r:embed="rId8"/>
            <a:stretch/>
          </p:blipFill>
          <p:spPr>
            <a:xfrm>
              <a:off x="7111800" y="62150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5" descr="I:\Distrib\диск Оформление\Stylize\Icons\Иконки\Icons2\up.png"/>
            <p:cNvPicPr/>
            <p:nvPr/>
          </p:nvPicPr>
          <p:blipFill>
            <a:blip r:embed="rId9"/>
            <a:stretch/>
          </p:blipFill>
          <p:spPr>
            <a:xfrm>
              <a:off x="6929280" y="6215040"/>
              <a:ext cx="43200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2" descr=""/>
          <p:cNvPicPr/>
          <p:nvPr/>
        </p:nvPicPr>
        <p:blipFill>
          <a:blip r:embed="rId10"/>
          <a:stretch/>
        </p:blipFill>
        <p:spPr>
          <a:xfrm>
            <a:off x="179280" y="1557360"/>
            <a:ext cx="8785440" cy="5300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4"/>
          <p:cNvSpPr/>
          <p:nvPr/>
        </p:nvSpPr>
        <p:spPr>
          <a:xfrm rot="20802000">
            <a:off x="1614600" y="281772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8000"/>
                </a:solidFill>
                <a:latin typeface="Calibri"/>
              </a:rPr>
              <a:t>    </a:t>
            </a:r>
            <a:r>
              <a:rPr b="1" lang="uk-UA" sz="2800" spc="-1" strike="noStrike">
                <a:solidFill>
                  <a:srgbClr val="008000"/>
                </a:solidFill>
                <a:latin typeface="Times New Roman"/>
              </a:rPr>
              <a:t>Складові</a:t>
            </a:r>
            <a:r>
              <a:rPr b="1" i="1" lang="uk-UA" sz="2800" spc="-1" strike="noStrike">
                <a:solidFill>
                  <a:srgbClr val="008000"/>
                </a:solidFill>
                <a:latin typeface="Times New Roman"/>
              </a:rPr>
              <a:t> здоров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'</a:t>
            </a:r>
            <a:r>
              <a:rPr b="1" i="1" lang="uk-UA" sz="2800" spc="-1" strike="noStrike">
                <a:solidFill>
                  <a:srgbClr val="008000"/>
                </a:solidFill>
                <a:latin typeface="Times New Roman"/>
              </a:rPr>
              <a:t>я:       фізична, соціальн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000"/>
                </a:solidFill>
                <a:latin typeface="Times New Roman"/>
              </a:rPr>
              <a:t>психічна, духов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i="1" lang="uk-UA" sz="2800" spc="-1" strike="noStrike">
                <a:solidFill>
                  <a:srgbClr val="008000"/>
                </a:solidFill>
                <a:latin typeface="Times New Roman"/>
              </a:rPr>
              <a:t>Чинники здоров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'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8000"/>
                </a:solidFill>
                <a:latin typeface="Times New Roman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395280" y="476280"/>
            <a:ext cx="8424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лів'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UpRibbonSharp"/>
          <p:cNvSpPr/>
          <p:nvPr/>
        </p:nvSpPr>
        <p:spPr>
          <a:xfrm>
            <a:off x="755640" y="1916280"/>
            <a:ext cx="7740720" cy="4751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Здоров'я - всьому голов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ранці на чотирьо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день на дво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вечері на трьо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132000" y="8571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2" descr="prichina-kolik-u-mladencev"/>
          <p:cNvPicPr/>
          <p:nvPr/>
        </p:nvPicPr>
        <p:blipFill>
          <a:blip r:embed="rId1"/>
          <a:stretch/>
        </p:blipFill>
        <p:spPr>
          <a:xfrm>
            <a:off x="468360" y="393372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young-man-standing-to-face_2701054"/>
          <p:cNvPicPr/>
          <p:nvPr/>
        </p:nvPicPr>
        <p:blipFill>
          <a:blip r:embed="rId2"/>
          <a:stretch/>
        </p:blipFill>
        <p:spPr>
          <a:xfrm>
            <a:off x="6784920" y="260280"/>
            <a:ext cx="2359080" cy="355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396255_w_300"/>
          <p:cNvPicPr/>
          <p:nvPr/>
        </p:nvPicPr>
        <p:blipFill>
          <a:blip r:embed="rId3"/>
          <a:stretch/>
        </p:blipFill>
        <p:spPr>
          <a:xfrm>
            <a:off x="4932360" y="4076640"/>
            <a:ext cx="3240000" cy="2581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rebuchet MS"/>
              </a:rPr>
              <a:t>Ріст – показник фізичного розвитку людини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2" descr="http://home-blog.org.ua/wp-content/uploads/2012/06/rost.jpg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601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468360" y="1844640"/>
            <a:ext cx="518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6436b"/>
                </a:solidFill>
                <a:latin typeface="Arial"/>
              </a:rPr>
              <a:t>Від народження до 1 року – немовля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6436b"/>
                </a:solidFill>
                <a:latin typeface="Arial"/>
              </a:rPr>
              <a:t>Від 1 до 3 років – ясельний в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6436b"/>
                </a:solidFill>
                <a:latin typeface="Arial"/>
              </a:rPr>
              <a:t>Від 3 до 6 років – дошкільня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6436b"/>
                </a:solidFill>
                <a:latin typeface="Arial"/>
              </a:rPr>
              <a:t>Від 6 до 11років – молодший шкільний ві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Складові здоров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227640" y="4014720"/>
            <a:ext cx="2737080" cy="2509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484720" cy="2065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t0.gstatic.com/images?q=tbn:ANd9GcSAvISYqbh7W2ultKJ1LnwZDtvpNvXwA62EtijNgJBwAtxHx1V9lA"/>
          <p:cNvPicPr/>
          <p:nvPr/>
        </p:nvPicPr>
        <p:blipFill>
          <a:blip r:embed="rId3"/>
          <a:stretch/>
        </p:blipFill>
        <p:spPr>
          <a:xfrm>
            <a:off x="142920" y="4329000"/>
            <a:ext cx="2557440" cy="23004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imagesCASO576J.jpg"/>
          <p:cNvPicPr/>
          <p:nvPr/>
        </p:nvPicPr>
        <p:blipFill>
          <a:blip r:embed="rId4"/>
          <a:stretch/>
        </p:blipFill>
        <p:spPr>
          <a:xfrm>
            <a:off x="6227640" y="1374840"/>
            <a:ext cx="2773440" cy="2077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280" y="1628640"/>
            <a:ext cx="25923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ізич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сихіч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оціаль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ух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 flipH="1">
            <a:off x="2627280" y="1916280"/>
            <a:ext cx="43200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076720" y="2349000"/>
            <a:ext cx="1079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7"/>
          <p:cNvSpPr/>
          <p:nvPr/>
        </p:nvSpPr>
        <p:spPr>
          <a:xfrm>
            <a:off x="5364000" y="4292640"/>
            <a:ext cx="863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8"/>
          <p:cNvSpPr/>
          <p:nvPr/>
        </p:nvSpPr>
        <p:spPr>
          <a:xfrm flipH="1">
            <a:off x="2700000" y="5445000"/>
            <a:ext cx="43164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Фізична складова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Рисунок 3" descr="Описание: http://img-fotki.yandex.ru/get/5010/120613883.14a/0_883b2_d9acb629_L.jpg"/>
          <p:cNvPicPr/>
          <p:nvPr/>
        </p:nvPicPr>
        <p:blipFill>
          <a:blip r:embed="rId1"/>
          <a:stretch/>
        </p:blipFill>
        <p:spPr>
          <a:xfrm>
            <a:off x="3348000" y="3357720"/>
            <a:ext cx="2559240" cy="2344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Описание: Група Здоров'я програє"/>
          <p:cNvPicPr/>
          <p:nvPr/>
        </p:nvPicPr>
        <p:blipFill>
          <a:blip r:embed="rId2"/>
          <a:stretch/>
        </p:blipFill>
        <p:spPr>
          <a:xfrm>
            <a:off x="250920" y="4365720"/>
            <a:ext cx="2958840" cy="2201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Описание: Екологічна безпека: поняття, умови забезпечення. Вплив екологічних умов проживання на здоров'я людини."/>
          <p:cNvPicPr/>
          <p:nvPr/>
        </p:nvPicPr>
        <p:blipFill>
          <a:blip r:embed="rId3"/>
          <a:stretch/>
        </p:blipFill>
        <p:spPr>
          <a:xfrm>
            <a:off x="6156360" y="3213000"/>
            <a:ext cx="2857320" cy="3305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395280" y="1484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Ознаки фізичного стану і фізичного розвитку організму становлять фізичну складову здоро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Психічна складо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Рисунок 1" descr="Описание: Vegetables and fruits"/>
          <p:cNvPicPr/>
          <p:nvPr/>
        </p:nvPicPr>
        <p:blipFill>
          <a:blip r:embed="rId1"/>
          <a:stretch/>
        </p:blipFill>
        <p:spPr>
          <a:xfrm>
            <a:off x="250920" y="3429000"/>
            <a:ext cx="4176720" cy="3035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Описание: Я и Мое Здоровь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924280"/>
            <a:ext cx="4140360" cy="2749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179280" y="148428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Кожна людина і ти також, відчуває любов, гнів, радість. Ці ознаки характеризують психічну складову здоро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Духовна складо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Рисунок 2" descr="Описание: Свіже повітря – запорука нашого здоров’я!"/>
          <p:cNvPicPr/>
          <p:nvPr/>
        </p:nvPicPr>
        <p:blipFill>
          <a:blip r:embed="rId1"/>
          <a:stretch/>
        </p:blipFill>
        <p:spPr>
          <a:xfrm>
            <a:off x="4859280" y="256536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Описание: C:\Users\Vlad\Desktop\images.jpg"/>
          <p:cNvPicPr/>
          <p:nvPr/>
        </p:nvPicPr>
        <p:blipFill>
          <a:blip r:embed="rId2"/>
          <a:stretch/>
        </p:blipFill>
        <p:spPr>
          <a:xfrm>
            <a:off x="468360" y="3535200"/>
            <a:ext cx="3672000" cy="2529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250920" y="1341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Усе найкраще в тобі – це духовна складова здоров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аме вона дає можливість стати особливим – особистіст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1:24:24Z</dcterms:created>
  <dc:creator>Admin</dc:creator>
  <dc:description/>
  <dc:language>en-US</dc:language>
  <cp:lastModifiedBy>Пользователь Windows</cp:lastModifiedBy>
  <dcterms:modified xsi:type="dcterms:W3CDTF">2018-03-28T15:55:17Z</dcterms:modified>
  <cp:revision>16</cp:revision>
  <dc:subject/>
  <dc:title>Слайд 1</dc:title>
</cp:coreProperties>
</file>