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D67-99E8-480F-B672-60662B90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D65-2110-44E9-8F9C-694C8BC7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A8D-863B-462F-933F-607549EF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FC1-2808-4038-9A94-5CAC7F2E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26C7-5B69-4D92-89F0-8C5D8DD1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8E68-CDDD-4823-AF2D-55CF581A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6563-2DC3-4AE1-950A-2035CB97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8D7D-902B-4E5A-859D-DEE27FBC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84FF-DFA5-40BC-AA61-5ED61EA4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7C2D-2438-4E46-951C-D7FBC7B7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599F-E39E-4F19-8395-8FBCC68C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36E-149B-4777-86D4-72369627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D318-5F59-47CC-AF07-FEE294FC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DE74-BDB4-488F-A3A3-DDD6FCED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DC13-8026-4E4C-8420-1FADFCFE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3552-3D7E-4B3A-8867-0276718A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09C9-9D04-45BC-B67B-5DFFE0B8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4E3-EBEA-441B-AE61-4B1E6C69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121-41F6-44E6-9460-632B9A82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E6A-D970-4453-804B-ABC2089B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31A-4809-4212-9B56-7D76BFC0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957-BABA-419B-B427-573B9891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C6A-9F3E-4C19-A2A5-87CAE3D6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BD6-36FA-4029-AE08-5430DFF0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C2F4-3108-4C84-9A0E-C199FA0CA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AAAB-19A3-49AD-A321-25CFCD5E8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1"/>
          <p:cNvSpPr/>
          <p:nvPr/>
        </p:nvSpPr>
        <p:spPr>
          <a:xfrm>
            <a:off x="2916360" y="2276640"/>
            <a:ext cx="5364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Функція y=√x її властивості і графі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826920" y="3716280"/>
            <a:ext cx="7855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венко  Наталія Степані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читель мате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винівський закл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ої середньої освіти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II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упен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шківської міської ра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каської област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5280" y="213336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Область визначення функції Функція </a:t>
            </a:r>
            <a:r>
              <a:rPr b="1" i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у</a:t>
            </a: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дорівнює корінь з </a:t>
            </a:r>
            <a:r>
              <a:rPr b="1" i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x </a:t>
            </a: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є множина всіх невід’ємних чисел </a:t>
            </a:r>
            <a:r>
              <a:rPr b="1" i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Область значень функції — множина всіх невід’ємних чисел </a:t>
            </a:r>
            <a:r>
              <a:rPr b="1" i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у</a:t>
            </a: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6000" y="1844640"/>
            <a:ext cx="44848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Графік лежить лише в першій координатній чверті.</a:t>
            </a:r>
            <a:br>
              <a:rPr sz="2800"/>
            </a:br>
            <a:r>
              <a:rPr b="1" lang="ru-RU" sz="2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Для нульового значення змінної </a:t>
            </a:r>
            <a:r>
              <a:rPr b="1" i="1" lang="ru-RU" sz="2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х</a:t>
            </a:r>
            <a:r>
              <a:rPr b="1" lang="ru-RU" sz="2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 значення функції </a:t>
            </a:r>
            <a:r>
              <a:rPr b="1" i="1" lang="ru-RU" sz="2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у</a:t>
            </a:r>
            <a:r>
              <a:rPr b="1" lang="ru-RU" sz="2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 дорівнює нулю. Графік проходить через початок координат</a:t>
            </a: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3640" y="2349000"/>
            <a:ext cx="542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f81bd"/>
                </a:solidFill>
                <a:uFillTx/>
                <a:latin typeface="Times New Roman"/>
              </a:rPr>
              <a:t>На всій області визначення функція є зростаючою. Ця властивість використовується при порівнянні квадратних коренів із чисел.</a:t>
            </a: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Більшому значенню аргументу відповідає більше значення функції.</a:t>
            </a: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Корінь квадратний із більшого числа є більшим, і, навпаки, корінь квадратний із меншого числа є менш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561492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Объект 3" descr=""/>
          <p:cNvPicPr/>
          <p:nvPr/>
        </p:nvPicPr>
        <p:blipFill>
          <a:blip r:embed="rId2"/>
          <a:stretch/>
        </p:blipFill>
        <p:spPr>
          <a:xfrm>
            <a:off x="3516480" y="836640"/>
            <a:ext cx="562752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634920" y="2332080"/>
            <a:ext cx="729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9:04:59Z</dcterms:created>
  <dc:creator>Admin</dc:creator>
  <dc:description/>
  <dc:language>en-US</dc:language>
  <cp:lastModifiedBy>Admin</cp:lastModifiedBy>
  <dcterms:modified xsi:type="dcterms:W3CDTF">2018-02-20T08:32:52Z</dcterms:modified>
  <cp:revision>12</cp:revision>
  <dc:subject/>
  <dc:title>Логотип</dc:title>
</cp:coreProperties>
</file>