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F768-9488-4897-AE47-BF6A160F7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C8B4-8DCD-44F0-9F86-ABBA32E2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82D0-A97C-40EA-9763-BCF1FCE2D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8203-057B-4F79-BC8A-C07E598D8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9D3A-8CC7-417B-9290-DADFBE48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394A-5839-4F35-8F97-38788FE9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57F9-E5E0-4B40-A1B7-03133B78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309B-A767-4FC7-8C82-7F1F7550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1845-369B-45AC-B4F1-DB173266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D677-25B5-40D9-8C5A-EB5D0275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320E-7747-4B9A-84E0-AE6C2716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BAD8-FC3F-4E0B-BB8B-D5473FF8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42AEF-9A04-4F41-8704-E81D45A0C25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11564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828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 u="sng">
                <a:solidFill>
                  <a:srgbClr val="000080"/>
                </a:solidFill>
                <a:uFillTx/>
                <a:latin typeface="Arial"/>
              </a:rPr>
              <a:t>Материки нашої планет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6000" spc="-1" strike="noStrike">
                <a:solidFill>
                  <a:srgbClr val="000080"/>
                </a:solidFill>
                <a:latin typeface="Arial"/>
                <a:ea typeface="Arial Unicode MS"/>
              </a:rPr>
              <a:t>Continents of our plan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400"/>
            <a:ext cx="1011564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6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000080"/>
                </a:solidFill>
                <a:uFillTx/>
                <a:latin typeface="Arial"/>
              </a:rPr>
              <a:t>«ВПІЗНАЙ МЕН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4 глобус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84700"/>
                </a:solidFill>
                <a:latin typeface="Arial"/>
              </a:rPr>
              <a:t>Найвологіший матери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20720" y="2519280"/>
            <a:ext cx="8640720" cy="45007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4400"/>
            <a:ext cx="1011564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6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000080"/>
                </a:solidFill>
                <a:uFillTx/>
                <a:latin typeface="Arial"/>
              </a:rPr>
              <a:t>«ВПІЗНАЙ МЕН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3 глобус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84700"/>
                </a:solidFill>
                <a:latin typeface="Arial"/>
              </a:rPr>
              <a:t>На цьому материку живе найбільш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84700"/>
                </a:solidFill>
                <a:latin typeface="Arial"/>
              </a:rPr>
              <a:t>хижий птах-кондо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979640" y="3060720"/>
            <a:ext cx="6300720" cy="3959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1011564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6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000080"/>
                </a:solidFill>
                <a:uFillTx/>
                <a:latin typeface="Arial"/>
              </a:rPr>
              <a:t>«ВПІЗНАЙ МЕН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2 глобус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84700"/>
                </a:solidFill>
                <a:latin typeface="Arial"/>
              </a:rPr>
              <a:t>Батьківщина томатів, картоплі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84700"/>
                </a:solidFill>
                <a:latin typeface="Arial"/>
              </a:rPr>
              <a:t>кав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79280" y="2587680"/>
            <a:ext cx="3463920" cy="2992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843520" y="2519280"/>
            <a:ext cx="4056120" cy="3807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060720" y="4859280"/>
            <a:ext cx="3600360" cy="2519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4400"/>
            <a:ext cx="1011564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6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000080"/>
                </a:solidFill>
                <a:uFillTx/>
                <a:latin typeface="Arial"/>
              </a:rPr>
              <a:t>«ВПІЗНАЙ МЕН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1 глобу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Тут відбувається свят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бразильського карнавал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619280" y="3060720"/>
            <a:ext cx="6659640" cy="377964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1011564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6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000080"/>
                </a:solidFill>
                <a:uFillTx/>
                <a:latin typeface="Arial"/>
              </a:rPr>
              <a:t>«ВПІЗНАЙ МЕН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4 глобус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847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b84700"/>
                </a:solidFill>
                <a:latin typeface="Arial"/>
              </a:rPr>
              <a:t>«Материк навпаки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240000" y="2519280"/>
            <a:ext cx="4140360" cy="45007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1011564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6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000080"/>
                </a:solidFill>
                <a:uFillTx/>
                <a:latin typeface="Arial"/>
              </a:rPr>
              <a:t>«ВПІЗНАЙ МЕН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3 глобус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847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b84700"/>
                </a:solidFill>
                <a:latin typeface="Arial"/>
              </a:rPr>
              <a:t>Найменший материк на Землі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38480" y="2879640"/>
            <a:ext cx="5715000" cy="34196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1011564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6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000080"/>
                </a:solidFill>
                <a:uFillTx/>
                <a:latin typeface="Arial"/>
              </a:rPr>
              <a:t>«ВПІЗНАЙ МЕН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2 глобус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847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b84700"/>
                </a:solidFill>
                <a:latin typeface="Arial"/>
              </a:rPr>
              <a:t>Панівна рослина цього материка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84700"/>
                </a:solidFill>
                <a:latin typeface="Arial"/>
              </a:rPr>
              <a:t>евкаліп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285920" y="3060720"/>
            <a:ext cx="7620120" cy="377964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1011564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6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000080"/>
                </a:solidFill>
                <a:uFillTx/>
                <a:latin typeface="Arial"/>
              </a:rPr>
              <a:t>«ВПІЗНАЙ МЕН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1 глобу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847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b84700"/>
                </a:solidFill>
                <a:latin typeface="Arial"/>
              </a:rPr>
              <a:t>Це континент сумчастих твари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61840" y="2757600"/>
            <a:ext cx="3638880" cy="3001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176800" y="3394080"/>
            <a:ext cx="3822840" cy="32655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1011564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6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000080"/>
                </a:solidFill>
                <a:uFillTx/>
                <a:latin typeface="Arial"/>
              </a:rPr>
              <a:t>«ВПІЗНАЙ МЕН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4 глобус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847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b84700"/>
                </a:solidFill>
                <a:latin typeface="Arial"/>
              </a:rPr>
              <a:t>«Континент без кордонів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519280" y="2700360"/>
            <a:ext cx="521964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1011564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6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000080"/>
                </a:solidFill>
                <a:uFillTx/>
                <a:latin typeface="Arial"/>
              </a:rPr>
              <a:t>«ВПІЗНАЙ МЕН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3 глобус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84700"/>
                </a:solidFill>
                <a:latin typeface="Arial"/>
              </a:rPr>
              <a:t>Тільки на цьому материк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847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b84700"/>
                </a:solidFill>
                <a:latin typeface="Arial"/>
              </a:rPr>
              <a:t>розрізняють не пори року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847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b84700"/>
                </a:solidFill>
                <a:latin typeface="Arial"/>
              </a:rPr>
              <a:t>а день і ніч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920960" y="3240000"/>
            <a:ext cx="635004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1011564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розташування материка віднос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кватору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розташування материка віднос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ульового меридіану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якими океанами омиваєтьс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які материки розміщені поруч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1011564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6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000080"/>
                </a:solidFill>
                <a:uFillTx/>
                <a:latin typeface="Arial"/>
              </a:rPr>
              <a:t>«ВПІЗНАЙ МЕН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2 глобус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847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b84700"/>
                </a:solidFill>
                <a:latin typeface="Arial"/>
              </a:rPr>
              <a:t>Основними жителями ць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84700"/>
                </a:solidFill>
                <a:latin typeface="Arial"/>
              </a:rPr>
              <a:t>материка є пінгвін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238480" y="3060720"/>
            <a:ext cx="5715000" cy="41403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1011564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6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000080"/>
                </a:solidFill>
                <a:uFillTx/>
                <a:latin typeface="Arial"/>
              </a:rPr>
              <a:t>«ВПІЗНАЙ МЕН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1 глобу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847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b84700"/>
                </a:solidFill>
                <a:latin typeface="Arial"/>
              </a:rPr>
              <a:t>«Імперія холоду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347840" y="2519280"/>
            <a:ext cx="7493040" cy="43196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1011564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6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000080"/>
                </a:solidFill>
                <a:uFillTx/>
                <a:latin typeface="Arial"/>
              </a:rPr>
              <a:t>«ВПІЗНАЙ МЕН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4 глобус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847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b84700"/>
                </a:solidFill>
                <a:latin typeface="Arial"/>
              </a:rPr>
              <a:t>Тут зародилися найстародавніш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84700"/>
                </a:solidFill>
                <a:latin typeface="Arial"/>
              </a:rPr>
              <a:t>цивілізації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519280" y="2700360"/>
            <a:ext cx="540072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1011564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6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000080"/>
                </a:solidFill>
                <a:uFillTx/>
                <a:latin typeface="Arial"/>
              </a:rPr>
              <a:t>«ВПІЗНАЙ МЕН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3 глобус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847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b84700"/>
                </a:solidFill>
                <a:latin typeface="Arial"/>
              </a:rPr>
              <a:t>На цьому материку розташов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84700"/>
                </a:solidFill>
                <a:latin typeface="Arial"/>
              </a:rPr>
              <a:t>найбільша гора у світі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079640" y="2879640"/>
            <a:ext cx="7920000" cy="4140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1011564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6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000080"/>
                </a:solidFill>
                <a:uFillTx/>
                <a:latin typeface="Arial"/>
              </a:rPr>
              <a:t>«ВПІЗНАЙ МЕН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2 глобус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847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b84700"/>
                </a:solidFill>
                <a:latin typeface="Arial"/>
              </a:rPr>
              <a:t>На ньому проживають представ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84700"/>
                </a:solidFill>
                <a:latin typeface="Arial"/>
              </a:rPr>
              <a:t>всіх ра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863720" y="3060720"/>
            <a:ext cx="6464160" cy="34192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1011564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6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000080"/>
                </a:solidFill>
                <a:uFillTx/>
                <a:latin typeface="Arial"/>
              </a:rPr>
              <a:t>«ВПІЗНАЙ МЕН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1 глобу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847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b84700"/>
                </a:solidFill>
                <a:latin typeface="Arial"/>
              </a:rPr>
              <a:t>Один материк - дві частин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800360" y="2519280"/>
            <a:ext cx="665928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1011564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6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000080"/>
                </a:solidFill>
                <a:uFillTx/>
                <a:latin typeface="Arial"/>
              </a:rPr>
              <a:t>«ВПІЗНАЙ МЕН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4 глобус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847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b84700"/>
                </a:solidFill>
                <a:latin typeface="Arial"/>
              </a:rPr>
              <a:t>Материк великих озе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160720" y="2585880"/>
            <a:ext cx="5940360" cy="40752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1011564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6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000080"/>
                </a:solidFill>
                <a:uFillTx/>
                <a:latin typeface="Arial"/>
              </a:rPr>
              <a:t>«ВПІЗНАЙ МЕН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3 глобус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847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b84700"/>
                </a:solidFill>
                <a:latin typeface="Arial"/>
              </a:rPr>
              <a:t>Тут розміщений найвідоміш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84700"/>
                </a:solidFill>
                <a:latin typeface="Arial"/>
              </a:rPr>
              <a:t>та найповноводніший водоспад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84700"/>
                </a:solidFill>
                <a:latin typeface="Arial"/>
              </a:rPr>
              <a:t>Ніагарськ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496880" y="3240000"/>
            <a:ext cx="7143840" cy="39592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1011564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6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000080"/>
                </a:solidFill>
                <a:uFillTx/>
                <a:latin typeface="Arial"/>
              </a:rPr>
              <a:t>«ВПІЗНАЙ МЕН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2 глобус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847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b84700"/>
                </a:solidFill>
                <a:latin typeface="Arial"/>
              </a:rPr>
              <a:t>На цьому материку живе ведмід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84700"/>
                </a:solidFill>
                <a:latin typeface="Arial"/>
              </a:rPr>
              <a:t>грізлі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920960" y="2700360"/>
            <a:ext cx="6350040" cy="43196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1011564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6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000080"/>
                </a:solidFill>
                <a:uFillTx/>
                <a:latin typeface="Arial"/>
              </a:rPr>
              <a:t>«ВПІЗНАЙ МЕН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1 глобу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84700"/>
                </a:solidFill>
                <a:latin typeface="Arial"/>
              </a:rPr>
              <a:t>Типовим пердставником пус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84700"/>
                </a:solidFill>
                <a:latin typeface="Arial"/>
              </a:rPr>
              <a:t>цього материка є какту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900000" y="2879640"/>
            <a:ext cx="8280360" cy="4319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1011564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«Візитна карт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ва мате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Площа материка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Корисні копалини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Представники тварин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Представники рослин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1011564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288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80"/>
                </a:solidFill>
                <a:latin typeface="Arial"/>
              </a:rPr>
              <a:t>I would like to trav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80"/>
                </a:solidFill>
                <a:latin typeface="Arial"/>
              </a:rPr>
              <a:t>on ____________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80"/>
                </a:solidFill>
                <a:latin typeface="Arial"/>
              </a:rPr>
              <a:t>because ther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80"/>
                </a:solidFill>
                <a:latin typeface="Arial"/>
              </a:rPr>
              <a:t>are (some)________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1011564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6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Яку оцінку я отрима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-1440" y="1963800"/>
          <a:ext cx="9797400" cy="2300040"/>
        </p:xfrm>
        <a:graphic>
          <a:graphicData uri="http://schemas.openxmlformats.org/drawingml/2006/table">
            <a:tbl>
              <a:tblPr/>
              <a:tblGrid>
                <a:gridCol w="984240"/>
                <a:gridCol w="733320"/>
                <a:gridCol w="733680"/>
                <a:gridCol w="733320"/>
                <a:gridCol w="733680"/>
                <a:gridCol w="733320"/>
                <a:gridCol w="733680"/>
                <a:gridCol w="733680"/>
                <a:gridCol w="733320"/>
                <a:gridCol w="733680"/>
                <a:gridCol w="733680"/>
                <a:gridCol w="733320"/>
                <a:gridCol w="744480"/>
              </a:tblGrid>
              <a:tr h="11498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75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75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75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75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75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75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75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75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75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75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75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75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6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1150200">
                <a:tc>
                  <a:txBody>
                    <a:bodyPr lIns="90000" rIns="90000" tIns="75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«?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2063880"/>
            <a:ext cx="900000" cy="996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060720" y="4319640"/>
            <a:ext cx="3600360" cy="251928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1011564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6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GOD BY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ДО ПОБАЧЕННЯ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238480" y="2879640"/>
            <a:ext cx="5715000" cy="41403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1011564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828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3366"/>
                </a:solidFill>
                <a:latin typeface="Arial"/>
              </a:rPr>
              <a:t>ФІЗКУЛЬТХВИЛИН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38480" y="1619280"/>
            <a:ext cx="5715000" cy="5040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1011564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828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3366"/>
                </a:solidFill>
                <a:latin typeface="Arial"/>
              </a:rPr>
              <a:t>ФІЗКУЛЬТХВИЛИН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Up, down, up, 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Which is the wa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o London t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Where? whe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Up in the ai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ose you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nd you are ther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1011564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6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000080"/>
                </a:solidFill>
                <a:uFillTx/>
                <a:latin typeface="Arial"/>
              </a:rPr>
              <a:t>«ВПІЗНАЙ МЕН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4 глобус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84700"/>
                </a:solidFill>
                <a:latin typeface="Arial"/>
              </a:rPr>
              <a:t>Цей материк другий за розмір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314360" y="2700360"/>
            <a:ext cx="7559640" cy="4500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400"/>
            <a:ext cx="1011564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6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000080"/>
                </a:solidFill>
                <a:uFillTx/>
                <a:latin typeface="Arial"/>
              </a:rPr>
              <a:t>«ВПІЗНАЙ МЕН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3 глобус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84700"/>
                </a:solidFill>
                <a:latin typeface="Arial"/>
              </a:rPr>
              <a:t>Цим материком протікає найдов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84700"/>
                </a:solidFill>
                <a:latin typeface="Arial"/>
              </a:rPr>
              <a:t>в світі річ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619280" y="3060720"/>
            <a:ext cx="6840360" cy="4140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4400"/>
            <a:ext cx="1011564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6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000080"/>
                </a:solidFill>
                <a:uFillTx/>
                <a:latin typeface="Arial"/>
              </a:rPr>
              <a:t>«ВПІЗНАЙ МЕН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2 глобус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84700"/>
                </a:solidFill>
                <a:latin typeface="Arial"/>
              </a:rPr>
              <a:t>Цей материк є батьківщино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84700"/>
                </a:solidFill>
                <a:latin typeface="Arial"/>
              </a:rPr>
              <a:t>Кавун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160720" y="3060720"/>
            <a:ext cx="5580000" cy="3779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4400"/>
            <a:ext cx="1011564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6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000080"/>
                </a:solidFill>
                <a:uFillTx/>
                <a:latin typeface="Arial"/>
              </a:rPr>
              <a:t>«ВПІЗНАЙ МЕН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1 глобу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Тут пісок прогрівається так,щ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можна пекти яйц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979640" y="3060720"/>
            <a:ext cx="5924520" cy="39592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0:32:32Z</dcterms:created>
  <dc:creator/>
  <dc:description/>
  <dc:language>en-US</dc:language>
  <cp:lastModifiedBy/>
  <dcterms:modified xsi:type="dcterms:W3CDTF">2014-11-24T20:24:18Z</dcterms:modified>
  <cp:revision>29</cp:revision>
  <dc:subject/>
  <dc:title/>
</cp:coreProperties>
</file>