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.jpeg" ContentType="image/jpeg"/>
  <Override PartName="/ppt/media/image1.jpeg" ContentType="image/jpeg"/>
  <Override PartName="/ppt/media/image3.png" ContentType="image/png"/>
  <Override PartName="/ppt/media/image2.jpeg" ContentType="image/jpeg"/>
  <Override PartName="/ppt/media/push.wav" ContentType="audio/x-wav"/>
  <Override PartName="/ppt/media/type.wav" ContentType="audio/x-wav"/>
  <Override PartName="/ppt/media/chimes.wav" ContentType="audio/x-wav"/>
  <Override PartName="/ppt/media/wind.wav" ContentType="audio/x-wav"/>
  <Override PartName="/ppt/media/image6.png" ContentType="image/png"/>
  <Override PartName="/ppt/media/image7.jpeg" ContentType="image/jpeg"/>
  <Override PartName="/ppt/media/laser.wav" ContentType="audio/x-wav"/>
  <Override PartName="/ppt/media/image4.png" ContentType="image/png"/>
  <Override PartName="/ppt/media/applause.wav" ContentType="audio/x-wav"/>
  <Override PartName="/ppt/media/breez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4F3-6D3A-49FC-802D-B0A90528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2135-591D-4998-83C7-E174F08E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E21D-E9CF-4EC1-8515-231E8A4D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F06A-28DB-4A39-B997-C69037E0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BF68-DEF1-43FD-97B5-4B502E20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CEF4-08F2-4DD8-910B-EAC3834E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E1D5-09EE-45F0-8B2C-2647F32C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CAA5-4B33-4C64-8B18-88C0181D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C5FB-AD60-4900-868C-9522B063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40DF-5EF7-4C36-AAAD-ACA4415A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E2DB-E6C5-403D-AEE1-9E8B56D3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A939-22B0-4A84-91CE-D64F489D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547F-DB49-4393-935A-CB1872BF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9987-9DEE-49AA-8774-A508E807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7875-4880-4B50-9C8E-388724A4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E540-0F30-426B-AEC4-AF1D3C4D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329C-9E26-45BA-9E4D-D237D390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2612B-2DDD-48C4-84E6-A633DDCB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E6021-283D-489C-9BF3-5D374429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CCB3E-2363-4D84-A7B4-3F21CE49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06F3B-F0E1-4822-9937-73A6FA9A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67A43-FD46-4728-BB4E-7A1AF32F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095-92C4-4848-9FB3-148E9C5E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0DCCE-624D-4DE0-9E2C-2CA0EC09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72DF8-E187-4EAE-8D36-AE8417CF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9BD3D-7734-48FF-85F8-2995E5E6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BFEA-E180-44C8-8382-8A0B15F2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2EC07-D499-4205-8BC1-2F5704D8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15C91-B4F9-4718-A95B-3D31ABC3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11651-3978-45D5-ACE2-6C9C4CD1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0CBD-E5D7-4178-BE4D-AE722E86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F14F-F0B1-45E8-8ABF-592CD15C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3200-9D9D-4EF8-A397-C9C1834B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591-120F-49F8-9969-3479787A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7C8-BBA7-4AF0-9859-7DA370B1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AB4D-F74C-4BA1-AD13-FA76A554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0B9F-A5E2-4FB7-8064-A4AB052BB0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2AAF-0286-4AB4-B4C2-9FEB598E0C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FCAF-15CE-4FBD-B31E-747FC45A68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ype.wav" TargetMode="External"/><Relationship Id="rId2" Type="http://schemas.microsoft.com/office/2007/relationships/media" Target="file:///tmp/home/.config/libreoffice/4/user/gallery/type.wav" TargetMode="External"/><Relationship Id="rId3" Type="http://schemas.openxmlformats.org/officeDocument/2006/relationships/image" Target="../media/image3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3333cc"/>
                </a:solidFill>
                <a:latin typeface="Times New Roman"/>
              </a:rPr>
              <a:t>Тема уроку: «Додавання раціональних чисел», 6 кла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4360" y="3885840"/>
            <a:ext cx="799128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Times New Roman"/>
              </a:rPr>
              <a:t>Підготува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Times New Roman"/>
              </a:rPr>
              <a:t>Поплавець Тетяна Миколаївн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Times New Roman"/>
              </a:rPr>
              <a:t>вчитель математики ЗЗСО І-ІІІ ступенів №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2060"/>
                </a:solidFill>
                <a:latin typeface="Times New Roman"/>
              </a:rPr>
              <a:t>ВЦА м.Торецьк Донецької області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uk-UA" sz="5400" spc="-1" strike="noStrike">
                <a:solidFill>
                  <a:srgbClr val="ff0000"/>
                </a:solidFill>
                <a:latin typeface="Arial Black"/>
              </a:rPr>
              <a:t>Фізична пауза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4" name="wind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524595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3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3333cc"/>
                </a:solidFill>
                <a:latin typeface="Times New Roman"/>
              </a:rPr>
              <a:t>Зупинка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uk-UA" sz="6600" spc="-1" strike="noStrike">
                <a:solidFill>
                  <a:srgbClr val="ff0000"/>
                </a:solidFill>
                <a:latin typeface="Times New Roman"/>
              </a:rPr>
              <a:t>Практична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1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8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2060"/>
                </a:solidFill>
                <a:latin typeface="Times New Roman"/>
              </a:rPr>
              <a:t>Зупинка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uk-UA" sz="6600" spc="-1" strike="noStrike">
                <a:solidFill>
                  <a:srgbClr val="ff0000"/>
                </a:solidFill>
                <a:latin typeface="Times New Roman"/>
              </a:rPr>
              <a:t>Творча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4788000" y="404640"/>
            <a:ext cx="41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Вважається, що місто Рим засноване в 753 р. до н.е. Скільки йому років тепер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" descr="Результат пошуку зображень"/>
          <p:cNvPicPr/>
          <p:nvPr/>
        </p:nvPicPr>
        <p:blipFill>
          <a:blip r:embed="rId2"/>
          <a:stretch/>
        </p:blipFill>
        <p:spPr>
          <a:xfrm>
            <a:off x="324000" y="189000"/>
            <a:ext cx="457668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250920" y="404640"/>
            <a:ext cx="864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. Довгота сну в дорослої людини в середньому 8 годин. Перше сновидіння приходить в момент засипання, потім кожні 90 хвилин. Скільки снів бачить людина за ніч (результат округліть до цілого числа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2" descr="Результат пошуку зображень за запитом &quot;людина спить&quot;"/>
          <p:cNvPicPr/>
          <p:nvPr/>
        </p:nvPicPr>
        <p:blipFill>
          <a:blip r:embed="rId2"/>
          <a:stretch/>
        </p:blipFill>
        <p:spPr>
          <a:xfrm>
            <a:off x="1998720" y="3141720"/>
            <a:ext cx="522756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3333cc"/>
                </a:solidFill>
                <a:latin typeface="Times New Roman"/>
              </a:rPr>
              <a:t>Зупинка 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uk-UA" sz="6600" spc="-1" strike="noStrike">
                <a:solidFill>
                  <a:srgbClr val="ff0000"/>
                </a:solidFill>
                <a:latin typeface="Times New Roman"/>
              </a:rPr>
              <a:t>Підсумкова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applause.wav"/>
      </p:stSnd>
    </p:sndAc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3333cc"/>
                </a:solidFill>
                <a:latin typeface="Times New Roman"/>
              </a:rPr>
              <a:t>Домашнє завда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32000" y="2060280"/>
            <a:ext cx="64008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Г.П.Бевз, В.Г.Бевз. „Математика 6 клас”, §30, №1007, №1010, на повторення №1021, повт. §1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applause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3333cc"/>
                </a:solidFill>
                <a:latin typeface="Times New Roman"/>
              </a:rPr>
              <a:t>Мій настрій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4360" y="3885840"/>
            <a:ext cx="7991280" cy="26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2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777960" y="4269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16" descr="Смайлики, улыбка, грустно, рот Изображение PNG"/>
          <p:cNvPicPr/>
          <p:nvPr/>
        </p:nvPicPr>
        <p:blipFill>
          <a:blip r:embed="rId1"/>
          <a:srcRect l="0" t="28022" r="0" b="25546"/>
          <a:stretch/>
        </p:blipFill>
        <p:spPr>
          <a:xfrm>
            <a:off x="932040" y="3860640"/>
            <a:ext cx="726264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2228b"/>
                </a:solidFill>
                <a:latin typeface="Times New Roman"/>
              </a:rPr>
              <a:t>Епіграф уроку:</a:t>
            </a:r>
            <a:r>
              <a:rPr b="0" lang="uk-UA" sz="4000" spc="-1" strike="noStrike">
                <a:solidFill>
                  <a:srgbClr val="22228b"/>
                </a:solidFill>
                <a:latin typeface="Times New Roman"/>
              </a:rPr>
              <a:t> „Якщо відразу немає успіху, то спробуй ще і ще” (І. Хіксон).</a:t>
            </a:r>
            <a:br>
              <a:rPr sz="4000"/>
            </a:b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2228b"/>
                </a:solidFill>
                <a:latin typeface="Times New Roman"/>
              </a:rPr>
              <a:t>Девіз уроку:</a:t>
            </a:r>
            <a:r>
              <a:rPr b="0" lang="uk-UA" sz="4000" spc="-1" strike="noStrike">
                <a:solidFill>
                  <a:srgbClr val="22228b"/>
                </a:solidFill>
                <a:latin typeface="Times New Roman"/>
              </a:rPr>
              <a:t> „Обчислюй та міркуй раціонально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3333cc"/>
                </a:solidFill>
                <a:latin typeface="Times New Roman"/>
              </a:rPr>
              <a:t>Зупинка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uk-UA" sz="6600" spc="-1" strike="noStrike">
                <a:solidFill>
                  <a:srgbClr val="ff0000"/>
                </a:solidFill>
                <a:latin typeface="Times New Roman"/>
              </a:rPr>
              <a:t>Теоретична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2060"/>
                </a:solidFill>
                <a:latin typeface="Times New Roman"/>
              </a:rPr>
              <a:t>                        </a:t>
            </a:r>
            <a:r>
              <a:rPr b="1" i="1" lang="uk-UA" sz="3200" spc="-1" strike="noStrike">
                <a:solidFill>
                  <a:srgbClr val="002060"/>
                </a:solidFill>
                <a:latin typeface="Times New Roman"/>
              </a:rPr>
              <a:t>Фронтальна бесіда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1. Які числа називають раціональними?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. Як називають числа, які додають?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. Як додати два від’ємні числ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к знайти суму додатного і від’ємного числ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Чому дорівнює сума двох протилежних чисел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Чи може сума двох чисел дорівнювати одному з ни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16112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2060"/>
                </a:solidFill>
                <a:latin typeface="Times New Roman"/>
              </a:rPr>
              <a:t>7</a:t>
            </a:r>
            <a:r>
              <a:rPr b="1" i="1" lang="uk-UA" sz="2800" spc="-1" strike="noStrike">
                <a:solidFill>
                  <a:srgbClr val="002060"/>
                </a:solidFill>
                <a:latin typeface="Times New Roman"/>
              </a:rPr>
              <a:t>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бчисліть: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А) -12+(-7)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  (-2,9)+2,9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 30+(-60)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Г)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)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рівняйте: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  А)  -10,2 і 5,6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)   -11 і -18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)  19 і -20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Объект 1"/>
              <p:cNvSpPr txBox="1"/>
              <p:nvPr/>
            </p:nvSpPr>
            <p:spPr>
              <a:xfrm>
                <a:off x="1258920" y="2349360"/>
                <a:ext cx="18003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Объект 2"/>
              <p:cNvSpPr txBox="1"/>
              <p:nvPr/>
            </p:nvSpPr>
            <p:spPr>
              <a:xfrm>
                <a:off x="1403280" y="3213000"/>
                <a:ext cx="14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3333cc"/>
                </a:solidFill>
                <a:latin typeface="Times New Roman"/>
              </a:rPr>
              <a:t>Зупинка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uk-UA" sz="6600" spc="-1" strike="noStrike">
                <a:solidFill>
                  <a:srgbClr val="ff0000"/>
                </a:solidFill>
                <a:latin typeface="Times New Roman"/>
              </a:rPr>
              <a:t>Історична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3333cc"/>
                </a:solidFill>
                <a:latin typeface="Times New Roman"/>
              </a:rPr>
              <a:t>Зупинка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1" lang="uk-UA" sz="6600" spc="-1" strike="noStrike">
                <a:solidFill>
                  <a:srgbClr val="00cc99"/>
                </a:solidFill>
                <a:latin typeface="Times New Roman"/>
              </a:rPr>
              <a:t>Уважність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611280" y="612720"/>
            <a:ext cx="8424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Девіз: „Думай швидше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уль якого числа більше:  -47 чи 34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кий знак має сума двох від’ємних чисе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кий знак має сума додатного і від’ємного чисе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ому дорівнює сума -10,431 і 10,431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числі 10,00830750 закреслити три нулі так, що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воно було найбільши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воно було найменши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ашний</cp:lastModifiedBy>
  <dcterms:modified xsi:type="dcterms:W3CDTF">2018-03-10T15:18:31Z</dcterms:modified>
  <cp:revision>13</cp:revision>
  <dc:subject/>
  <dc:title>PowerPoint Presentation</dc:title>
</cp:coreProperties>
</file>