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C5D-EF0C-44BE-AA52-F530B51F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362-E285-4FEE-9F74-FA3DD7EF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6F7-D6A9-40E8-9DE8-F881BCF9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FF1-D13D-4CC5-9C2E-7D7139A7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779F-544D-436C-AFC3-F54F0E38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8AB8-0F91-4035-AF98-0CB13EA0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B882-D8AD-4029-9E62-E106AF49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7645-E118-43F3-ABFB-6D8657EE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DA6C-AF4E-40DD-8FAA-711914AC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5137-08A5-4CB1-820A-7A6AF05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A882-44B9-4A9F-8AE1-69449E6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B11-ED25-41F1-ACDD-3AB85CF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0041-4473-4B1E-9660-2002DE4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0B20-0F8D-4D1E-852C-3939029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2671-5AB5-4882-82AE-567B2B1F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71F-AB05-41FC-95AA-BD3ABDC2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ECB9-E796-4839-95BB-C172E005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134-0EC6-4598-B2D6-5DA46184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A5C-165D-4DF3-9882-49FAAD0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1BA-2183-440F-808A-D7DB6CB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BC7-4739-44B7-A9B8-121E1E07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970-76DC-4484-B200-64436F7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D31-2B1E-4869-846B-1DE610A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CE6-ADC3-49AD-9A47-E0438CF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5DD-4AAE-4233-A90A-40E3EA9A8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2904-0015-4911-A4CA-E8B5949C350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2808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ЛЕСЯ  УКРАЇНКА</a:t>
            </a:r>
            <a:br>
              <a:rPr sz="6000"/>
            </a:br>
            <a:br>
              <a:rPr sz="5700"/>
            </a:br>
            <a:r>
              <a:rPr b="1" lang="uk-UA" sz="5700" spc="-1" strike="noStrike">
                <a:solidFill>
                  <a:srgbClr val="ffff00"/>
                </a:solidFill>
                <a:latin typeface="Arial"/>
              </a:rPr>
              <a:t>“ЛІСОВА ПІСНЯ”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6" descr="леся9"/>
          <p:cNvPicPr/>
          <p:nvPr/>
        </p:nvPicPr>
        <p:blipFill>
          <a:blip r:embed="rId1"/>
          <a:stretch/>
        </p:blipFill>
        <p:spPr>
          <a:xfrm>
            <a:off x="1908000" y="3500280"/>
            <a:ext cx="2119320" cy="3095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5148360" y="3716280"/>
            <a:ext cx="3600360" cy="2808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Verdana"/>
              </a:rPr>
              <a:t>Ні! Я жива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Verdana"/>
              </a:rPr>
              <a:t>Я буду вічно жити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Verdana"/>
              </a:rPr>
              <a:t>Я маю в серці те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Verdana"/>
              </a:rPr>
              <a:t>що не вмирає!</a:t>
            </a:r>
            <a:r>
              <a:rPr b="0" lang="uk-UA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Русалка –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діва води. Це висока на зріст, гарна дівчина, яка мешкає на дні водойми. Перехожого діва води може залоскотати до смерті або забрати з собою. Русалками стають дівчата, що втопилися через нещасливе кохання. Вночі русалка разом з подругами хлюпаються у воді. Русалки безтілесні і не віддзеркалюються в воді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4" descr="русалка"/>
          <p:cNvPicPr/>
          <p:nvPr/>
        </p:nvPicPr>
        <p:blipFill>
          <a:blip r:embed="rId1"/>
          <a:stretch/>
        </p:blipFill>
        <p:spPr>
          <a:xfrm>
            <a:off x="2340000" y="2349360"/>
            <a:ext cx="45370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Перелесник –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злий дух у вигляді зірки, що падає. Потрапивши на землю він перетворюється на людину, яка чарує красивими словами. Вони носять із собою лук та стріл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Перелесники являються дівчатам, коли вони знаходяться на самоті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4" descr="Перелесник"/>
          <p:cNvPicPr/>
          <p:nvPr/>
        </p:nvPicPr>
        <p:blipFill>
          <a:blip r:embed="rId1"/>
          <a:stretch/>
        </p:blipFill>
        <p:spPr>
          <a:xfrm>
            <a:off x="3132000" y="1989000"/>
            <a:ext cx="3159360" cy="473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Verdana"/>
              </a:rPr>
              <a:t>Образи люд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Лукаш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Дядько Ле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                                   </a:t>
            </a: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мати Лукаш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                              </a:t>
            </a: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Килина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1332000" y="907920"/>
            <a:ext cx="2519280" cy="158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3708000" y="981000"/>
            <a:ext cx="647640" cy="20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724360" y="981000"/>
            <a:ext cx="1727280" cy="2664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Line 8"/>
          <p:cNvSpPr/>
          <p:nvPr/>
        </p:nvSpPr>
        <p:spPr>
          <a:xfrm flipH="1">
            <a:off x="5076360" y="907920"/>
            <a:ext cx="358920" cy="4537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cc"/>
                </a:solidFill>
                <a:latin typeface="Arial"/>
              </a:rPr>
              <a:t>МАВ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Ох, як я довго спала!..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А хто мене збудив?..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Весна ще так ніколи не співала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Та ні, то хлопець на сопілці грає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Він, певне гарний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Ну, як – таки, щоб воля – та пропала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Се так колись і вітер пропаде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22176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Не руш! Не руш! Не ріж! Не убивай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Я – Мавка лісова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Чи гарна я тобі?..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Твоя сопілка має кращу мов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Заграй мені, а я поколишусь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Як солодко грає, як глибоко крає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Розтинає білі груди, серденько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виймає!.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Притулись до мен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Я дужий, - здержу, ще й обороню.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Се вони ще не щебечу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Не тьохкають, а співають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Цілуй! Цілуй! Цілуй!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Я зацілую тебе на смерть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пісня"/>
          <p:cNvPicPr/>
          <p:nvPr/>
        </p:nvPicPr>
        <p:blipFill>
          <a:blip r:embed="rId1"/>
          <a:stretch/>
        </p:blipFill>
        <p:spPr>
          <a:xfrm>
            <a:off x="5292720" y="907920"/>
            <a:ext cx="3735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Зрада і прощенн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Яка страшна! Чого ти з мене хочеш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Готуйте, мамо, хліб до старостів, 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Я завтра засилають до Килини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бо я його порятувала. В серці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знайшла я теє слово чарівне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Що й озвірілих в люди повертає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Ні! Я жива! Я буду вічно жити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Я маю в серці те, що н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вмирає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пісня2"/>
          <p:cNvPicPr/>
          <p:nvPr/>
        </p:nvPicPr>
        <p:blipFill>
          <a:blip r:embed="rId1"/>
          <a:stretch/>
        </p:blipFill>
        <p:spPr>
          <a:xfrm>
            <a:off x="6049800" y="2637000"/>
            <a:ext cx="2901960" cy="382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Мавка – це не звичайна міфологічна істота, яка вміє, подібно до людей, кохати, думати, працювати, сумуват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Мавка – це символ краси, вірності і честі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Мавка – образ людини, яка принесла себе в жертву заради коханн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Мавка – це синтез інтелектуальної думки поетеси, втілення її геніальності, світобачення, глибини почуттів і відчуття навколишнього світ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cc"/>
                </a:solidFill>
                <a:latin typeface="Arial"/>
              </a:rPr>
              <a:t>Талант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Як солодко грає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як глибоко крає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розтинає білі груди, серденько виймає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Я тебе за те люблю найбільше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Чого ти сам в собі не розумієш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А чи не годі вже того грання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Все грай та грай, а ти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робото, стій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лукаш і мавка"/>
          <p:cNvPicPr/>
          <p:nvPr/>
        </p:nvPicPr>
        <p:blipFill>
          <a:blip r:embed="rId1"/>
          <a:stretch/>
        </p:blipFill>
        <p:spPr>
          <a:xfrm>
            <a:off x="5435640" y="4005360"/>
            <a:ext cx="3600360" cy="2698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ТРАГЕДІЯ ЛУКАШ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eaeaea"/>
                </a:solidFill>
                <a:latin typeface="Monotype Corsiva"/>
              </a:rPr>
              <a:t>Любов підносить душу,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eaeaea"/>
                </a:solidFill>
                <a:latin typeface="Monotype Corsiva"/>
              </a:rPr>
              <a:t>а в житті панує буденність.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Хто такий Лукаш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Людина, яка любить природу, любить Мавку, яка розуміє його талан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Але Лукаш слабий духом, він не може опиратися обставинам життя, буденності – це його знищує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Лукаш – це образ людини, яка не могла боротися з вимогами і буденністю життя, за що й поплатився своїм коханн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В кінці драми Лукаш стає мудрішим, бо пізнає сенс життя. Він гине, але краплина мудрості, придбана у життєвій боротьбі, залишається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От чому Мавка вважає, що Лукаш не може своїм життям до себе дорівнятис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еребуваючи у Грузії, під впливом розлуки з рідним краєм, не маючи змоги через хворобу відвідати рідну серцю Волинь, Леся згадала свої ліси й “затужила за ними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Саме ця туга і була справжнім імпульсом до створення “Лісової пісні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єсу було написано в непередбачено короткі строки – за 12 днів  липня 1911 рок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Лісову пісню” вперше було надруковано в “Літературному віснику”, а окремим друком твір вийшов у 1914 рок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4" descr="лісова пісня"/>
          <p:cNvPicPr/>
          <p:nvPr/>
        </p:nvPicPr>
        <p:blipFill>
          <a:blip r:embed="rId1"/>
          <a:stretch/>
        </p:blipFill>
        <p:spPr>
          <a:xfrm>
            <a:off x="4932360" y="3645000"/>
            <a:ext cx="2200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eaeaea"/>
                </a:solidFill>
                <a:latin typeface="Verdana"/>
              </a:rPr>
              <a:t>У чому сенс життя?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eaeaea"/>
                </a:solidFill>
                <a:latin typeface="Verdana"/>
              </a:rPr>
              <a:t>Коли воно вважається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eaeaea"/>
                </a:solidFill>
                <a:latin typeface="Verdana"/>
              </a:rPr>
              <a:t>повноцінним?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Лейтмотив твор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Verdana"/>
              </a:rPr>
              <a:t>Утвердження краси вільного незалежного духу, кохання і мрії, змістовного, гармонійного, як сама природа, людського життя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исновок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uk-UA" sz="3600" spc="-1" strike="noStrike">
                <a:solidFill>
                  <a:srgbClr val="eaeaea"/>
                </a:solidFill>
                <a:latin typeface="Verdana"/>
              </a:rPr>
              <a:t>Лісова пісня” – це гімн єднанню людини і природи, натхненна пісня про велич духовного, про порив людини до щастя, її боротьбу за вільне, красиве, духовно багате житт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768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1" dur="768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3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5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Джерела написання твору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Суспільна атмосфера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в якій жила Лес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Почуття патріотизму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Духовний світ поетес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Українська народ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eaeaea"/>
                </a:solidFill>
                <a:latin typeface="Verdana"/>
              </a:rPr>
              <a:t>творчіс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4" descr="лісова пісня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7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cc"/>
                </a:solidFill>
                <a:latin typeface="Monotype Corsiva"/>
              </a:rPr>
              <a:t>ЖАНР </a:t>
            </a: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uk-UA" sz="5400" spc="-1" strike="noStrike">
                <a:solidFill>
                  <a:srgbClr val="ffffcc"/>
                </a:solidFill>
                <a:latin typeface="Monotype Corsiva"/>
              </a:rPr>
              <a:t>ТВОРУ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Драматична поема – невелик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за розміром віршована п</a:t>
            </a: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’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єса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в які зливаються драматичн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і ліричне розкриття те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Драма – феєрія – п</a:t>
            </a: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’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єса з казково –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фантастичним сюжетом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1" lang="uk-UA" sz="2800" spc="-1" strike="noStrike">
                <a:solidFill>
                  <a:srgbClr val="eaeaea"/>
                </a:solidFill>
                <a:latin typeface="Monotype Corsiva"/>
              </a:rPr>
              <a:t>і персонаж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5" descr="леший"/>
          <p:cNvPicPr/>
          <p:nvPr/>
        </p:nvPicPr>
        <p:blipFill>
          <a:blip r:embed="rId1"/>
          <a:stretch/>
        </p:blipFill>
        <p:spPr>
          <a:xfrm>
            <a:off x="5580000" y="1557360"/>
            <a:ext cx="2984400" cy="4535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5724360" y="6308640"/>
            <a:ext cx="2880000" cy="289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ЛІСОВИ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Arial"/>
              </a:rPr>
              <a:t>ПРОБЛЕМАТИКА П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i="1" lang="uk-UA" sz="4400" spc="-1" strike="noStrike">
                <a:solidFill>
                  <a:srgbClr val="ffffcc"/>
                </a:solidFill>
                <a:latin typeface="Arial"/>
              </a:rPr>
              <a:t>ЄС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Вплив умов життя приватновласницького світу на людину (образи Мавки та Лукаш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Воля в житті людей (образ Мавки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роблема вірності та кохання (образи Лукаша та Мавки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Роль мистецтва в житті людини (образ Лукаш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Взаємовідносини між людиною та природою (образ дядька Лев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роблема людського щастя (всі образи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Основна проблема – боротьба за вільне, творче, гармонійне, духовно багате життя людин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КОНФЛІКТИ ДРАМ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Перший конфлікт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– соціальний: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заради збільшення господарських статкі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своєї родини мати нехтує сильним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взаємними почуттями двох молодих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сердець,  намагається будь – якою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ціною розлучити закохани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Другий конфлікт -  філософськи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евідповідність високого покликанн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людини принизливим, невільницьки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умовам її повсякденного житт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лісова пісня"/>
          <p:cNvPicPr/>
          <p:nvPr/>
        </p:nvPicPr>
        <p:blipFill>
          <a:blip r:embed="rId1"/>
          <a:stretch/>
        </p:blipFill>
        <p:spPr>
          <a:xfrm>
            <a:off x="5508720" y="2349360"/>
            <a:ext cx="3009960" cy="425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cc"/>
                </a:solidFill>
                <a:latin typeface="Monotype Corsiva"/>
              </a:rPr>
              <a:t>Образи  твору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ПРИРОДА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Мавка –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( нявки, мевки) –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злі духи, часто – густо смертоносні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За українським повір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ям. На нявок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перетворювалися померлі до христин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діти. Ім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я Мавка утворене від “нав”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що означає втілення смерті. На вигляд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гарні молоді дівчата, які співо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приваблюють хлопців. Від русалок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відрізняються лляним волосся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пісня2"/>
          <p:cNvPicPr/>
          <p:nvPr/>
        </p:nvPicPr>
        <p:blipFill>
          <a:blip r:embed="rId1"/>
          <a:stretch/>
        </p:blipFill>
        <p:spPr>
          <a:xfrm>
            <a:off x="6156360" y="1989000"/>
            <a:ext cx="28494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Лісовик –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ух лісу, його володар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Він пильнує звірину, випасає її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бо то його худоба. Живе лісови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на густих деревах у сухих дупл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Лісовик намагається замани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людей у хащу, де лякає ї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Ніхто ніколи не бачив сліді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Лісовика, бо він їх вихоро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замітає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лісовик1"/>
          <p:cNvPicPr/>
          <p:nvPr/>
        </p:nvPicPr>
        <p:blipFill>
          <a:blip r:embed="rId1"/>
          <a:stretch/>
        </p:blipFill>
        <p:spPr>
          <a:xfrm>
            <a:off x="6715080" y="1413000"/>
            <a:ext cx="242892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Лісовик"/>
          <p:cNvPicPr/>
          <p:nvPr/>
        </p:nvPicPr>
        <p:blipFill>
          <a:blip r:embed="rId2"/>
          <a:stretch/>
        </p:blipFill>
        <p:spPr>
          <a:xfrm>
            <a:off x="2556000" y="4076640"/>
            <a:ext cx="1952640" cy="24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98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98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98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98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98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Водя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Міфічний цар, якому належить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увесь водний світ: річки, озер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болота, моря та океан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Тіло водяника волохате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замість ніг у нього хвіст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Водяник нікол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не розлучається із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золотим тризуб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4" descr="Водяник"/>
          <p:cNvPicPr/>
          <p:nvPr/>
        </p:nvPicPr>
        <p:blipFill>
          <a:blip r:embed="rId1"/>
          <a:stretch/>
        </p:blipFill>
        <p:spPr>
          <a:xfrm>
            <a:off x="4932360" y="2492280"/>
            <a:ext cx="3456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9:18:37Z</dcterms:created>
  <dc:creator>1</dc:creator>
  <dc:description/>
  <dc:language>en-US</dc:language>
  <cp:lastModifiedBy>XTreme</cp:lastModifiedBy>
  <dcterms:modified xsi:type="dcterms:W3CDTF">2016-03-16T20:12:20Z</dcterms:modified>
  <cp:revision>62</cp:revision>
  <dc:subject/>
  <dc:title>ЛЕСЯ  УКРАЇНКА  “ЛІСОВА ПІСНЯ”</dc:title>
</cp:coreProperties>
</file>