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B9C-E7F0-4834-90BF-2CB2DADC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380-0D27-473D-A50D-1F30EC1A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BD5-46FE-496A-BC2D-819DC0E8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539-A5D1-4392-8436-38684D0A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8C0-FF65-401F-8415-0026A186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E0D9-8DC0-421A-9FC8-D4B68AE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73B9-6CDD-413E-BDE5-963149A6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F27-D3E2-4222-B7A3-D9F0C81C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2B36-93C9-4497-8D53-625F910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1771-D046-4824-9899-66E3A3E3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3D7-E068-4AD4-B05B-554D1CC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5E2-E440-4A7C-8020-FF44C0A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EF5-42FD-4E45-87F5-E307893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A779-D489-4C8A-B870-9312AEB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4B7F-8F46-4DB7-9010-25CFDB2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9F5C-F95E-4BDC-BABC-B68D0370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5119-60BF-45B1-BE59-BA60E6CB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6F2-04F7-4F0A-9753-522D4EA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4E9-E429-4E1D-923A-C70F7261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40F-879C-4E94-9BAE-795F07AC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E46-49D5-4A16-95D5-144C0C5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22F-E941-4444-877E-640C679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DC4-DFE7-4C96-9B2B-0974546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ECE-01F9-4A35-BBE0-46B417A7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71E-87EB-497B-AA38-CAB7BC416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3518-1996-44CF-B9A0-F32959320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Blackadder ITC"/>
              </a:rPr>
              <a:t>Іван Васильович Миколайчук  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700280"/>
            <a:ext cx="393408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DFKai-SB"/>
              </a:rPr>
              <a:t>РОБОТА З ТЕКСТ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464000" cy="3259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31956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ОБОТА З ТЕКСТ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3167280" cy="253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2879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ОБОТА З ТЕКСТ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59280" y="4365720"/>
            <a:ext cx="2808000" cy="214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3457800" cy="230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19640" y="1916280"/>
            <a:ext cx="3095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права «Конструктор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032360" cy="265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744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права “Я – редактор 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743640" cy="3271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374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права “Я – редактор 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728720"/>
            <a:ext cx="648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DFKai-SB"/>
              </a:rPr>
              <a:t>Мій ідеальний глядач – моя мама. Одного разу, коли я приїздив додому на канікули, моя мама порівняла Шопена, якого я слухав у той момент, із звуком яблук, що падають на дах. Я не знаю, чи можна точніше сказати про  музику, але я не пам’ятаю кращого визначення, бо моя мама, яка була простою селянською жінкою, вгадала в ритмі шопенівських ноктюрнів ритм руху всієї приро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Інтерв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’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ю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з Іваном Миколайчуком</a:t>
            </a:r>
            <a:r>
              <a:rPr b="0" lang="uk-UA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2952720" cy="225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881080" cy="20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55640" y="155736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788000" y="4149720"/>
            <a:ext cx="28796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774080"/>
            <a:ext cx="516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DFKai-SB"/>
              </a:rPr>
              <a:t>Підготувати презентацію «Фільмографія Івана Миколайчу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DFKai-SB"/>
              </a:rPr>
              <a:t>Написати есе «Кіно для нього було всім...», використавши безсполучникові речен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11:30:58Z</dcterms:created>
  <dc:creator>ПК</dc:creator>
  <dc:description/>
  <dc:language>en-US</dc:language>
  <cp:lastModifiedBy>ПК</cp:lastModifiedBy>
  <dcterms:modified xsi:type="dcterms:W3CDTF">2018-02-27T17:34:24Z</dcterms:modified>
  <cp:revision>3</cp:revision>
  <dc:subject/>
  <dc:title>Слайд 1</dc:title>
</cp:coreProperties>
</file>