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89B4-5844-4DF4-9305-32343F3A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368-F62A-44C5-8EAC-4A097604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22F-1E89-4AC0-84F4-A8280B97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3A7-BF39-40FB-B602-BB2AE9D0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FE68-CAA7-423C-BE25-1064EC41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AA40-B6DA-41B8-936E-3472122E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A9B1-D451-4259-A252-3D9E199F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0AAE-F6B2-4FE1-B9B1-E3B7B708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06CA-49BD-42DE-ADED-AB3C7F1F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326D-806C-4049-9C0E-0659E578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6654-C3AD-4907-BE81-3DE91915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CF1F-0F7F-4880-9C42-A8D8410F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9B7A-E73D-47A1-B06C-B1212EE5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743E-1AB7-487B-BC02-2B42C6E7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9431-2D5E-4322-AA7F-44AE9306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76D9-AC55-4C52-A6EA-AB32B33F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9B9F-6B0F-4884-82C6-938056E9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517B-6B95-4257-B025-B2BFB842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1E7-3E62-4948-9B8C-1D4A76CE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C25A-7BC9-4EB3-8604-3A23426B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C38-1E2C-403B-9344-82D8B5E5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6D6D-C114-45F4-8342-BE2DF75E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F13C-9EBE-42D6-B0B6-9FB6A07C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025-5F7D-421A-889D-8EE545B8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901E-07DD-4D4F-82F5-B6B3AB8CC457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7378-BA6C-401F-B974-D2F9374F4D24}" type="slidenum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5880" y="78588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700" spc="-1" strike="noStrike">
                <a:solidFill>
                  <a:srgbClr val="ffff99"/>
                </a:solidFill>
                <a:latin typeface="Arial Black"/>
              </a:rPr>
              <a:t>Травлення</a:t>
            </a:r>
            <a:br>
              <a:rPr sz="9700"/>
            </a:br>
            <a:r>
              <a:rPr b="1" lang="uk-UA" sz="9700" spc="-1" strike="noStrike">
                <a:solidFill>
                  <a:srgbClr val="ffff99"/>
                </a:solidFill>
                <a:latin typeface="Arial Black"/>
              </a:rPr>
              <a:t>людини</a:t>
            </a:r>
            <a:endParaRPr b="1" lang="en-US" sz="97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143000" y="4857840"/>
            <a:ext cx="70722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eec94"/>
                </a:solidFill>
                <a:latin typeface="Arial"/>
              </a:rPr>
              <a:t>Матеріали підготува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eec94"/>
                </a:solidFill>
                <a:latin typeface="Arial"/>
              </a:rPr>
              <a:t>Вчитель біології Опитненської ЗШ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eec94"/>
                </a:solidFill>
                <a:latin typeface="Arial"/>
              </a:rPr>
              <a:t>І-ІІІ ступен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eec94"/>
                </a:solidFill>
                <a:latin typeface="Arial"/>
              </a:rPr>
              <a:t>Шамота Людмила Івані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00040" y="714240"/>
            <a:ext cx="83851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Arial Black"/>
              </a:rPr>
              <a:t>Смачного Вам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Arial Black"/>
              </a:rPr>
              <a:t>і доброго травлення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Рисунок 5" descr="11.jpg"/>
          <p:cNvPicPr/>
          <p:nvPr/>
        </p:nvPicPr>
        <p:blipFill>
          <a:blip r:embed="rId2"/>
          <a:stretch/>
        </p:blipFill>
        <p:spPr>
          <a:xfrm>
            <a:off x="3429000" y="3000240"/>
            <a:ext cx="2630520" cy="33721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99680" y="1500120"/>
            <a:ext cx="52023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Травлення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 - ц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роцес механічної та  хімічної обробки  речовин їжі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роцес розщеплення складних органічних речовин (білків, жирів, вуглеводів) на прості з подальшим всмоктуванням їх в кров та засвоєнням організм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5715000" y="1643040"/>
            <a:ext cx="2881440" cy="4608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85480"/>
            <a:ext cx="83851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Arial Black"/>
              </a:rPr>
              <a:t>Процес травлення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3851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Arial Black"/>
              </a:rPr>
              <a:t>Ротова порожнина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6160" y="1571760"/>
            <a:ext cx="45878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роцес травлення починається в ротовій порожнині, де їжа пережовується. На цьому етапі відбувається розщеплення вуглеводів. Виділення слини допомагає формуванню болюса — харчової грудки, що полегшує проходження їжі по стравохо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5" descr="rot2.jpg"/>
          <p:cNvPicPr/>
          <p:nvPr/>
        </p:nvPicPr>
        <p:blipFill>
          <a:blip r:embed="rId2"/>
          <a:stretch/>
        </p:blipFill>
        <p:spPr>
          <a:xfrm>
            <a:off x="571680" y="1928880"/>
            <a:ext cx="3571560" cy="39290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429000" y="1643040"/>
            <a:ext cx="55008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Ковтальний рефлекс координується у ковтальному центрі в довгастому мозку і мосту, його викликає подразнення рецепторів слизової оболонки глотки. У координованому акті ковтання беруть участь м'яке піднебіння і язичок, які запобігають потраплянню їжі в носову порожнину, і надгортанник, який не дає їжі потрапляти в трахеї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Рисунок 4" descr="59361.gif"/>
          <p:cNvPicPr/>
          <p:nvPr/>
        </p:nvPicPr>
        <p:blipFill>
          <a:blip r:embed="rId2"/>
          <a:stretch/>
        </p:blipFill>
        <p:spPr>
          <a:xfrm>
            <a:off x="571680" y="1857240"/>
            <a:ext cx="2923920" cy="3524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457200" y="285840"/>
            <a:ext cx="8385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Arial Black"/>
              </a:rPr>
              <a:t>Ковтан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85840" y="1356840"/>
            <a:ext cx="65721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ff"/>
                </a:solidFill>
                <a:latin typeface="Arial"/>
              </a:rPr>
              <a:t>Стравохід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2800" spc="-1" strike="noStrike">
                <a:solidFill>
                  <a:srgbClr val="ffffff"/>
                </a:solidFill>
                <a:latin typeface="Arial"/>
              </a:rPr>
              <a:t>це пряме продовження глотки, що проходить крізь отвір діафрагми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vi-VN" sz="2800" spc="-1" strike="noStrike">
                <a:solidFill>
                  <a:srgbClr val="ffffff"/>
                </a:solidFill>
                <a:latin typeface="Arial"/>
              </a:rPr>
              <a:t>сновною функцією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якого</a:t>
            </a:r>
            <a:r>
              <a:rPr b="0" lang="vi-VN" sz="2800" spc="-1" strike="noStrike">
                <a:solidFill>
                  <a:srgbClr val="ffffff"/>
                </a:solidFill>
                <a:latin typeface="Arial"/>
              </a:rPr>
              <a:t> є проведення їжі з порожнини рота й глотки до шлунка. Її забезпечує добре розвинена м'язова стінка, яка складається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vi-VN" sz="2800" spc="-1" strike="noStrike">
                <a:solidFill>
                  <a:srgbClr val="ffffff"/>
                </a:solidFill>
                <a:latin typeface="Arial"/>
              </a:rPr>
              <a:t>у верхній третині з посмугованих,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vi-VN" sz="2800" spc="-1" strike="noStrike">
                <a:solidFill>
                  <a:srgbClr val="ffffff"/>
                </a:solidFill>
                <a:latin typeface="Arial"/>
              </a:rPr>
              <a:t> а далі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vi-VN" sz="2800" spc="-1" strike="noStrike">
                <a:solidFill>
                  <a:srgbClr val="ffffff"/>
                </a:solidFill>
                <a:latin typeface="Arial"/>
              </a:rPr>
              <a:t> із гладеньких м'язів. Стравохід має два сфінктер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vi-VN" sz="2800" spc="-1" strike="noStrike">
                <a:solidFill>
                  <a:srgbClr val="ffffff"/>
                </a:solidFill>
                <a:latin typeface="Arial"/>
              </a:rPr>
              <a:t>: верхній (глотково-стравохідний) і нижній (кардіальни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457200" y="285840"/>
            <a:ext cx="8385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Arial Black"/>
              </a:rPr>
              <a:t>Стравохід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Рисунок 4" descr="стррравох.jpg"/>
          <p:cNvPicPr/>
          <p:nvPr/>
        </p:nvPicPr>
        <p:blipFill>
          <a:blip r:embed="rId2"/>
          <a:stretch/>
        </p:blipFill>
        <p:spPr>
          <a:xfrm>
            <a:off x="6357960" y="3286080"/>
            <a:ext cx="2571840" cy="30052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500280" y="1428480"/>
            <a:ext cx="5367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і стравоходу їжа потрапляє у шлунок, проходячи через кардіальний сфінктер. Шлунок людини розташований під діафрагмою в лівому підребер'ї. Він має три оболон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овнішню сполучнотканинну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ередню м'язов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нутрішню, яка вистелена циліндричним епітеліє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357120" y="2071800"/>
            <a:ext cx="3151080" cy="2762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457200" y="285840"/>
            <a:ext cx="8385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Arial Black"/>
              </a:rPr>
              <a:t>Шлунок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28400" y="1428480"/>
            <a:ext cx="8358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У шлунку їжа змішується зі шлунковим соком, активними компонентами якого є соляна кислота і травні фермен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ліпаза - (неактивна, активізується жовчю у дванадцятипалій кишці) розщеплює жири до гліцерину і жирних кисло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епсин  - розщеплює білки до амінокисло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хімозин - (у дітей до 1 року) допомагає перетравити молочні продукти. Після одного року хімозин зникає, а його функції буде виконувати соляна кисло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457200" y="285840"/>
            <a:ext cx="8385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Arial Black"/>
              </a:rPr>
              <a:t>Зміна їжі в шлунку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357360" y="1500120"/>
            <a:ext cx="56307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Через пілоричний сфінктер їжа потрапляє у тонку кишку. Перший її відділ - 12-пала кишка, де відбувається змішування їжі із жовчю, яка забезпечує емульгування жирів. Ферменти підшлункової залози і тонкої кишки, розщеплюють вуглеводи (мальтоза, лактоза, сахароза), білки (трипсин і хімотрипсин). У тонкій кишці відбувається основний обсяг всмоктування поживних речовин у кр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285840"/>
            <a:ext cx="8385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Arial Black"/>
              </a:rPr>
              <a:t>Тонкий кишечник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Рисунок 7" descr="тонк кишш.jpg"/>
          <p:cNvPicPr/>
          <p:nvPr/>
        </p:nvPicPr>
        <p:blipFill>
          <a:blip r:embed="rId2"/>
          <a:stretch/>
        </p:blipFill>
        <p:spPr>
          <a:xfrm>
            <a:off x="357120" y="2214720"/>
            <a:ext cx="3100320" cy="32144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000320" y="1785960"/>
            <a:ext cx="4987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ісля проходження тонкого кишечника їжа потрапляє у товсту кишку, що складається зі сліпої кишки, ободової, сигмоподібної і прямої. Тут відбувається всмоктування води і деяких поживних речовин, таких як вітаміни, а також відбувається формування калових ма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457200" y="285840"/>
            <a:ext cx="8385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Arial Black"/>
              </a:rPr>
              <a:t>Товстий кишечник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Рисунок 6" descr="обод.jpg"/>
          <p:cNvPicPr/>
          <p:nvPr/>
        </p:nvPicPr>
        <p:blipFill>
          <a:blip r:embed="rId2"/>
          <a:stretch/>
        </p:blipFill>
        <p:spPr>
          <a:xfrm>
            <a:off x="714240" y="1857240"/>
            <a:ext cx="3337200" cy="32864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6:46:08Z</dcterms:created>
  <dc:creator>Customer</dc:creator>
  <dc:description/>
  <dc:language>en-US</dc:language>
  <cp:lastModifiedBy>User</cp:lastModifiedBy>
  <dcterms:modified xsi:type="dcterms:W3CDTF">2018-03-01T17:50:39Z</dcterms:modified>
  <cp:revision>28</cp:revision>
  <dc:subject/>
  <dc:title>Травлення</dc:title>
</cp:coreProperties>
</file>