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1A1E-4002-40EA-A814-0950EDF8D8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C95B-6F10-4561-A149-7A785C0A1EE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4C18-9550-41EB-8795-82BC4CC81F3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4938-3944-4DD3-B8EA-F48F45FB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C712-DD9D-4397-B668-7B61F2B7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E7D1-A09C-4995-82F2-23D31B533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BC6C-7E92-471A-9DB1-FB1B9A20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22DE-1A24-4756-829E-8840D652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0F5C-5D6F-46DB-90A7-E9C7D7F8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3F29-3CAB-49CC-8561-F935A0AC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E490-84F6-4080-A7C9-8030478D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57AA-F4C8-48BF-9C25-0FD3D22F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4A14-1A90-42B0-83B4-9AD879E0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E925-7184-4325-A9E6-0138256A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9045-E5CB-45FD-86EC-7B34398E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A6D9-CC13-4D21-9AA4-1EA373E7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F57E-1B36-4257-BA2D-038ED955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E06B-5585-4777-AB79-5A4D9B1B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E735-08D9-461E-A356-9EC94788F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F1B9-D751-4612-884D-8F8410D9E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4192-E76F-4CDE-B806-61416768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1E5E-52C2-454D-B095-2225E5BB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F141-5671-4951-B252-F8662702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C36A-9D2C-4C43-A8D2-295A4A43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857E-4784-4B96-A70F-824F50DC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6D61-2AFC-4C13-A963-60B7F197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846D-4370-4094-B4FD-4982C477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4D39-C050-4903-BC6A-1E6DC62E436C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F97D-1019-4132-BDE3-B9D713DEE872}" type="slidenum"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33960" y="-100440"/>
            <a:ext cx="5045040" cy="603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Тема.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Іван  Франко. Поетична   збірка  «Зів’яле  листя». Любовна  тема  у  творчості  поет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8" name="Picture 8" descr="portret"/>
          <p:cNvPicPr/>
          <p:nvPr/>
        </p:nvPicPr>
        <p:blipFill>
          <a:blip r:embed="rId1"/>
          <a:stretch/>
        </p:blipFill>
        <p:spPr>
          <a:xfrm>
            <a:off x="108000" y="476280"/>
            <a:ext cx="41036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6a2800"/>
                </a:solidFill>
                <a:latin typeface="Times New Roman"/>
              </a:rPr>
              <a:t>Ольга Хоружинсь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СПАСИБІ ТОБІ, МОЄ СОНЕЧКО, </a:t>
            </a:r>
            <a:br>
              <a:rPr sz="2400"/>
            </a:br>
            <a:r>
              <a:rPr b="1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ЗА ПРОМІНЧИК ТВІЙ - ЩИРЕ СЛОВЕЧКО! </a:t>
            </a:r>
            <a:br>
              <a:rPr sz="2400"/>
            </a:br>
            <a:r>
              <a:rPr b="1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ЯК ПРОМІНЧИКА НЕ ЗДОБУТЬ ПРИТЬМОМ, </a:t>
            </a:r>
            <a:br>
              <a:rPr sz="2400"/>
            </a:br>
            <a:r>
              <a:rPr b="1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СЛОВА ЩИРОГО НЕ КУПИТЬ СРІБЛОМ,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09160" indent="-209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..ТОЖ ЗА ДАР МАЛИЙ, А БЕЗЦІННИЙ ТВІ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9" descr="День шлюбу"/>
          <p:cNvPicPr/>
          <p:nvPr/>
        </p:nvPicPr>
        <p:blipFill>
          <a:blip r:embed="rId1"/>
          <a:stretch/>
        </p:blipFill>
        <p:spPr>
          <a:xfrm>
            <a:off x="468360" y="1284120"/>
            <a:ext cx="4130640" cy="55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"/>
          <p:cNvSpPr/>
          <p:nvPr/>
        </p:nvSpPr>
        <p:spPr>
          <a:xfrm>
            <a:off x="395280" y="333360"/>
            <a:ext cx="8424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61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Се такі легкі, ніжні вірші, з такою широкою гамою почуттів і розуміння душі людської, що, читаючи їх, не знаєш, кому віддати перевагу, чи поетові боротьби, чи поетові - лірикові, співцеві кохання і настроїв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61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М.Коцюбинськи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6a2800"/>
                </a:solidFill>
                <a:latin typeface="Times New Roman"/>
              </a:rPr>
              <a:t>Ольга Рошкевич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859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Тричі мені являлася любов. </a:t>
            </a:r>
            <a:br>
              <a:rPr sz="2400"/>
            </a:br>
            <a:r>
              <a:rPr b="1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Одна несміла, як лілея біла, </a:t>
            </a:r>
            <a:br>
              <a:rPr sz="2400"/>
            </a:br>
            <a:r>
              <a:rPr b="1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З зітхання й мрій уткана, із обсно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Сріблястих, мов метелик, підлетіла. </a:t>
            </a:r>
            <a:br>
              <a:rPr sz="2400"/>
            </a:br>
            <a:r>
              <a:rPr b="1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Купав її в рожевих блисках май, </a:t>
            </a:r>
            <a:br>
              <a:rPr sz="2400"/>
            </a:br>
            <a:r>
              <a:rPr b="1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На пурпуровій хмарі вранці сіл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І бачила довкола рай і рай! </a:t>
            </a:r>
            <a:br>
              <a:rPr sz="2400"/>
            </a:br>
            <a:r>
              <a:rPr b="1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Вона була невинна, як дитина, </a:t>
            </a:r>
            <a:br>
              <a:rPr sz="2400"/>
            </a:br>
            <a:r>
              <a:rPr b="1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Пахуча, як розцвілий свіжо га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7" descr="О"/>
          <p:cNvPicPr/>
          <p:nvPr/>
        </p:nvPicPr>
        <p:blipFill>
          <a:blip r:embed="rId1"/>
          <a:stretch/>
        </p:blipFill>
        <p:spPr>
          <a:xfrm>
            <a:off x="5219640" y="1130400"/>
            <a:ext cx="3673440" cy="5727600"/>
          </a:xfrm>
          <a:prstGeom prst="rect">
            <a:avLst/>
          </a:prstGeom>
          <a:ln w="0">
            <a:noFill/>
          </a:ln>
        </p:spPr>
      </p:pic>
      <p:pic>
        <p:nvPicPr>
          <p:cNvPr id="133" name="08-Right here waiting.mp3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"/>
          <p:cNvSpPr/>
          <p:nvPr/>
        </p:nvSpPr>
        <p:spPr>
          <a:xfrm>
            <a:off x="569160" y="784080"/>
            <a:ext cx="8245080" cy="43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a"/>
                </a:solidFill>
                <a:latin typeface="Times New Roman"/>
                <a:ea typeface="Calibri"/>
              </a:rPr>
              <a:t> </a:t>
            </a:r>
            <a:r>
              <a:rPr b="1" lang="uk-UA" sz="4000" spc="-1" strike="noStrike">
                <a:solidFill>
                  <a:srgbClr val="00000a"/>
                </a:solidFill>
                <a:latin typeface="Times New Roman"/>
                <a:ea typeface="Calibri"/>
              </a:rPr>
              <a:t>Перший жмуток ( 1886-1893)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«Безмежне поле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«Не знаю, чого мене до тебе тягне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«Твої очі, як те море…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6a2800"/>
                </a:solidFill>
                <a:latin typeface="Times New Roman"/>
              </a:rPr>
              <a:t>Юзефа Дзвонковсь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Явилась друга — гордая княгиня, </a:t>
            </a: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Бліда, мов місяць, тиха та сумна, </a:t>
            </a: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Таємна й недоступна, мов святин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Мене рукою зимною вона </a:t>
            </a: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Відсунула і шепнула таємно: </a:t>
            </a: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"Мені не жить, тож най умру одна!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І мовчки щезла там, де вічно темно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8" descr="6"/>
          <p:cNvPicPr/>
          <p:nvPr/>
        </p:nvPicPr>
        <p:blipFill>
          <a:blip r:embed="rId1"/>
          <a:stretch/>
        </p:blipFill>
        <p:spPr>
          <a:xfrm>
            <a:off x="179280" y="1341360"/>
            <a:ext cx="427680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154800" y="260280"/>
            <a:ext cx="896472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a"/>
                </a:solidFill>
                <a:latin typeface="Times New Roman"/>
                <a:ea typeface="Calibri"/>
              </a:rPr>
              <a:t>Другий жмуток </a:t>
            </a:r>
            <a:r>
              <a:rPr b="0" lang="uk-UA" sz="4000" spc="-1" strike="noStrike">
                <a:solidFill>
                  <a:srgbClr val="00000a"/>
                </a:solidFill>
                <a:latin typeface="Times New Roman"/>
                <a:ea typeface="Calibri"/>
              </a:rPr>
              <a:t>(</a:t>
            </a:r>
            <a:r>
              <a:rPr b="1" lang="uk-UA" sz="4000" spc="-1" strike="noStrike">
                <a:solidFill>
                  <a:srgbClr val="00000a"/>
                </a:solidFill>
                <a:latin typeface="Times New Roman"/>
                <a:ea typeface="Calibri"/>
              </a:rPr>
              <a:t>1895р.)</a:t>
            </a:r>
            <a:r>
              <a:rPr b="0" lang="uk-UA" sz="4000" spc="-1" strike="noStrike">
                <a:solidFill>
                  <a:srgbClr val="00000a"/>
                </a:solidFill>
                <a:latin typeface="Times New Roman"/>
                <a:ea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«Ой ти, дівчино, з горіха зерня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«Чого являєшся мені у сні?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«Червона калина, чого в лузі гнешся?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http://images.myshared.ru/19/1227921/slide_24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6956640"/>
          </a:xfrm>
          <a:prstGeom prst="rect">
            <a:avLst/>
          </a:prstGeom>
          <a:ln w="0">
            <a:noFill/>
          </a:ln>
        </p:spPr>
      </p:pic>
      <p:pic>
        <p:nvPicPr>
          <p:cNvPr id="140" name="Виталий Козловский - Знаешь (minus).mp3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13948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6a2800"/>
                </a:solidFill>
                <a:latin typeface="Times New Roman"/>
              </a:rPr>
              <a:t>Целіна Зигмунтовсь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40000" y="1196640"/>
            <a:ext cx="50036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  <a:ea typeface="Arial"/>
              </a:rPr>
              <a:t>Явилась третя — женщина чи звір? </a:t>
            </a:r>
            <a:br>
              <a:rPr sz="2200"/>
            </a:br>
            <a:r>
              <a:rPr b="1" lang="uk-UA" sz="2200" spc="-1" strike="noStrike">
                <a:solidFill>
                  <a:srgbClr val="ffffff"/>
                </a:solidFill>
                <a:latin typeface="Arial"/>
                <a:ea typeface="Arial"/>
              </a:rPr>
              <a:t>Глядиш на неї — і очам приємно,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  <a:ea typeface="Arial"/>
              </a:rPr>
              <a:t>Впивається її красою зір. </a:t>
            </a:r>
            <a:br>
              <a:rPr sz="2200"/>
            </a:br>
            <a:r>
              <a:rPr b="1" lang="uk-UA" sz="2200" spc="-1" strike="noStrike">
                <a:solidFill>
                  <a:srgbClr val="ffffff"/>
                </a:solidFill>
                <a:latin typeface="Arial"/>
                <a:ea typeface="Arial"/>
              </a:rPr>
              <a:t>То разом страх бере, душа холоне </a:t>
            </a:r>
            <a:br>
              <a:rPr sz="2200"/>
            </a:br>
            <a:r>
              <a:rPr b="1" lang="uk-UA" sz="2200" spc="-1" strike="noStrike">
                <a:solidFill>
                  <a:srgbClr val="ffffff"/>
                </a:solidFill>
                <a:latin typeface="Arial"/>
                <a:ea typeface="Arial"/>
              </a:rPr>
              <a:t>І сила розпливається в простір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  <a:ea typeface="Arial"/>
              </a:rPr>
              <a:t>За саме серце вхопила мене, </a:t>
            </a:r>
            <a:br>
              <a:rPr sz="2200"/>
            </a:br>
            <a:r>
              <a:rPr b="1" lang="uk-UA" sz="2200" spc="-1" strike="noStrike">
                <a:solidFill>
                  <a:srgbClr val="ffffff"/>
                </a:solidFill>
                <a:latin typeface="Arial"/>
                <a:ea typeface="Arial"/>
              </a:rPr>
              <a:t>Мов сфінкс, у душу кігтями вп'ялилась </a:t>
            </a:r>
            <a:br>
              <a:rPr sz="2200"/>
            </a:br>
            <a:r>
              <a:rPr b="1" lang="uk-UA" sz="2200" spc="-1" strike="noStrike">
                <a:solidFill>
                  <a:srgbClr val="ffffff"/>
                </a:solidFill>
                <a:latin typeface="Arial"/>
                <a:ea typeface="Arial"/>
              </a:rPr>
              <a:t>І смокче кров, і геть спокій жене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  <a:ea typeface="Arial"/>
              </a:rPr>
              <a:t>Минали дні, я думав: наситилась, </a:t>
            </a:r>
            <a:br>
              <a:rPr sz="2200"/>
            </a:br>
            <a:r>
              <a:rPr b="1" lang="uk-UA" sz="2200" spc="-1" strike="noStrike">
                <a:solidFill>
                  <a:srgbClr val="ffffff"/>
                </a:solidFill>
                <a:latin typeface="Arial"/>
                <a:ea typeface="Arial"/>
              </a:rPr>
              <a:t>Ослабне, щезне… Та дарма! Дарма! 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10" descr="5"/>
          <p:cNvPicPr/>
          <p:nvPr/>
        </p:nvPicPr>
        <p:blipFill>
          <a:blip r:embed="rId1"/>
          <a:stretch/>
        </p:blipFill>
        <p:spPr>
          <a:xfrm>
            <a:off x="108000" y="1341360"/>
            <a:ext cx="4032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1"/>
          <p:cNvSpPr/>
          <p:nvPr/>
        </p:nvSpPr>
        <p:spPr>
          <a:xfrm>
            <a:off x="427680" y="115920"/>
            <a:ext cx="8420400" cy="43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a"/>
                </a:solidFill>
                <a:latin typeface="Times New Roman"/>
                <a:ea typeface="Calibri"/>
              </a:rPr>
              <a:t>Третій жмуток (1896р.)</a:t>
            </a:r>
            <a:r>
              <a:rPr b="0" lang="uk-UA" sz="4000" spc="-1" strike="noStrike">
                <a:solidFill>
                  <a:srgbClr val="00000a"/>
                </a:solidFill>
                <a:latin typeface="Times New Roman"/>
                <a:ea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«Чорне, демоне розлуки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«Пісне, моя ти підстрелене пташко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«Тричі мені являлася любов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атьяна</dc:creator>
  <dc:description/>
  <dc:language>en-US</dc:language>
  <cp:lastModifiedBy>Admin</cp:lastModifiedBy>
  <dcterms:modified xsi:type="dcterms:W3CDTF">2017-12-03T20:27:41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a06000000000001024140</vt:lpwstr>
  </property>
</Properties>
</file>