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759-2D63-4130-BF48-03253ECF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5CE-8D58-4F04-8900-E8849A0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761-B364-4B78-9138-739B0680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60E-86CA-4E9C-BAE3-BFAD017D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9D77-F4B4-4EC3-84D6-5D30F71C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BEB3-E1DF-4070-A80A-EF76705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E0B4-022D-4690-AFF9-5D458C0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1458-1998-4D46-983F-A8145DA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9B95-15EF-4FED-A51B-3612AA2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DB8-E854-4FA1-8552-3EE45B9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0493-7131-408E-A4A5-F35589B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407-B44B-44F5-8F91-080A7A7A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5C22-269B-4ADA-998A-29AB5BF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3C9A-FE73-4E75-A443-720370BA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E5A-D697-4558-A3B4-3897AF7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4F6C-ADD0-4AE0-9996-F5F5C68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24F2-0C78-49F6-95EA-9524EF83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AF6A-FDEE-45BE-B899-B90F709A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0217-8B07-4A04-8064-C4FD4B72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90D3-836A-4CD4-8C83-03A28F20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318E-BDB4-47A5-B594-C8BAD93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45D1-5E86-4956-B92A-098808A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235-7A08-4598-B4C4-DE577A1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04EF-830B-4A59-A39A-33D1860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CDAA-0792-408B-B3DC-8104518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E075-7DCB-49E2-96DE-B400743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E2F0-3272-43C2-BCB0-46AF628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D923-E2CB-4027-B168-23F4C9D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6AFC-6FC2-4CDD-8AF4-D94277C6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04F6-79BE-4F93-8D32-029A0088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F96C-6D88-4221-9EE8-6EC7240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66FD-A677-49BF-8028-53EF0D7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A349-AAFF-4101-976F-CDE4B67C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752-54D0-45D3-AEC1-9AD3576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F70B-FA88-4B32-A3D8-393625DC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0873-D7E5-4324-AF84-B8B90D9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DDFB-5868-4FBB-B2EF-4CE04A07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C71B-9A68-4998-8761-ACE0E5A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AA04-B4D8-42B9-9779-D0DB10F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A459-3186-41C6-A336-BCE090C6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DE84-F4CD-4534-9264-D9C2386C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E730-F65C-42E0-889F-5877F946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0C13-9C9D-4C38-8084-C0B68054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08C6-CF80-40D8-9A63-590DAFB5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632-179E-4FB7-81FC-3D207AE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C943-FBAB-494A-88DF-88BED71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B7C5-8D64-47F2-B139-81EF82CF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1939-8E16-4D07-A907-C2100B12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CF603-5090-49B0-9526-CF98C0F0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0A8C-69B0-4FA6-9D70-40CC7301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BD57-F2C0-46CA-9207-9B2265E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51CB-0526-4039-A480-F47CEA6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D605-41E1-439F-A321-D501887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DADDD-EC8E-4DE4-B0EF-60A885CA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4C1D-43C3-4D5E-9084-80F1D8A6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172-1A3C-4E8A-ABD3-AB34BD7F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98741-B275-4524-82F2-391A2D4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D7A66-41E5-46D6-87F7-936E3AA6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7146-49AA-48E5-BBD0-714954E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B55E-D94F-42DE-9249-5E33F06B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1B88-42D5-4806-B8E9-147B1B4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C54D-82A6-403A-8300-AD548CDD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16D8-4248-416C-ACDF-E98C88A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D3C8-AABE-45B6-A8E2-DF0F8FB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234D-2114-40AF-B8F7-7D26DBC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8C69-AD24-4261-9ABF-2FCA672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7FC-1FE1-41DF-A735-FE4B5AB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E63C-A0A8-4524-9817-9E91D49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F8DAD-92E7-46D9-9C77-F9244F47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C815D-5258-4097-8687-BBD6D686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9CEC2-C3E5-4F9D-B52A-C90F0371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D004-5F23-4CC1-AC40-CB19ED28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321C2-D945-4521-BFC3-4429ADD9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696B-3031-4967-A18A-2C76BE8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AB5E-BCAF-4C8C-97D1-BBBF9A7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D647-739C-4E38-8B82-C17A8CB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2DCC-3DBC-4FA4-9E58-0A1CEC4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8B2-11D9-485C-921C-464C79B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AD84-5422-4799-B42F-1C6563D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C7780-15A4-41F3-BF30-2C0CD62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7CA9D-BCC6-49AC-8476-4536D30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B12C-9725-4324-B70B-6C0139C9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11AEC-8863-4F06-9712-8459AE35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FDB-FB27-423A-8BE4-B13482E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6D5-BE91-4365-9FA8-DD8220A7752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B64D-2E17-4AF7-BD39-62533BFC8C3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F063-C087-4B12-9722-A8C35DBCA55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DF7-C42B-4A42-AE99-6B4011A6D5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3F3-D25A-4A1F-AA7A-A2572A1E86A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C92E-9430-4C13-9A1F-6B2E426F5CB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2859-1B30-4FDD-B014-79ACB58AF39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07920" y="4681440"/>
            <a:ext cx="7998120" cy="1646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55640" y="980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ЛІТНІ ТА ОСІЛІ ПТАХИ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ЗГРА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Picture 2" descr="Картинки по запросу зграя шпаків"/>
          <p:cNvPicPr/>
          <p:nvPr/>
        </p:nvPicPr>
        <p:blipFill>
          <a:blip r:embed="rId1"/>
          <a:stretch/>
        </p:blipFill>
        <p:spPr>
          <a:xfrm>
            <a:off x="684360" y="1484280"/>
            <a:ext cx="8178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0920" y="512640"/>
            <a:ext cx="8281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1eeff"/>
                </a:solidFill>
                <a:latin typeface="Consolas"/>
              </a:rPr>
              <a:t>Соловей, горихвістка (30-48км/год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2" descr="Картинки по запросу горихвістка"/>
          <p:cNvPicPr/>
          <p:nvPr/>
        </p:nvPicPr>
        <p:blipFill>
          <a:blip r:embed="rId1"/>
          <a:stretch/>
        </p:blipFill>
        <p:spPr>
          <a:xfrm>
            <a:off x="755640" y="1197000"/>
            <a:ext cx="7997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512280"/>
            <a:ext cx="8496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Стрижі, ластівки (130 км/год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2" descr="Картинки по запросу стрижі"/>
          <p:cNvPicPr/>
          <p:nvPr/>
        </p:nvPicPr>
        <p:blipFill>
          <a:blip r:embed="rId1"/>
          <a:stretch/>
        </p:blipFill>
        <p:spPr>
          <a:xfrm>
            <a:off x="611280" y="1268280"/>
            <a:ext cx="8208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Проходять пішки сотні к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2" descr="Картинки по запросу перепілка"/>
          <p:cNvPicPr/>
          <p:nvPr/>
        </p:nvPicPr>
        <p:blipFill>
          <a:blip r:embed="rId1"/>
          <a:stretch/>
        </p:blipFill>
        <p:spPr>
          <a:xfrm>
            <a:off x="1619280" y="1170000"/>
            <a:ext cx="5135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Північні гості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Picture 2" descr="Картинки по запросу снігурі"/>
          <p:cNvPicPr/>
          <p:nvPr/>
        </p:nvPicPr>
        <p:blipFill>
          <a:blip r:embed="rId1"/>
          <a:stretch/>
        </p:blipFill>
        <p:spPr>
          <a:xfrm>
            <a:off x="399960" y="1484280"/>
            <a:ext cx="8744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Північні гості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Picture 2" descr="Картинки по запросу омелюхи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Зозуля та вивільг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Picture 2" descr="Картинки по запросу зозуля"/>
          <p:cNvPicPr/>
          <p:nvPr/>
        </p:nvPicPr>
        <p:blipFill>
          <a:blip r:embed="rId1"/>
          <a:stretch/>
        </p:blipFill>
        <p:spPr>
          <a:xfrm>
            <a:off x="4924440" y="3813120"/>
            <a:ext cx="4219560" cy="3044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Картинки по запросу іволга"/>
          <p:cNvPicPr/>
          <p:nvPr/>
        </p:nvPicPr>
        <p:blipFill>
          <a:blip r:embed="rId2"/>
          <a:stretch/>
        </p:blipFill>
        <p:spPr>
          <a:xfrm>
            <a:off x="468360" y="1341360"/>
            <a:ext cx="4424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Сорока і глуха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Picture 2" descr="Картинки по запросу сорока"/>
          <p:cNvPicPr/>
          <p:nvPr/>
        </p:nvPicPr>
        <p:blipFill>
          <a:blip r:embed="rId1"/>
          <a:stretch/>
        </p:blipFill>
        <p:spPr>
          <a:xfrm>
            <a:off x="4257720" y="3890880"/>
            <a:ext cx="4886280" cy="2967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Картинки по запросу глухар"/>
          <p:cNvPicPr/>
          <p:nvPr/>
        </p:nvPicPr>
        <p:blipFill>
          <a:blip r:embed="rId2"/>
          <a:stretch/>
        </p:blipFill>
        <p:spPr>
          <a:xfrm>
            <a:off x="324000" y="1125360"/>
            <a:ext cx="4641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Картинки по запросу ластівки"/>
          <p:cNvPicPr/>
          <p:nvPr/>
        </p:nvPicPr>
        <p:blipFill>
          <a:blip r:embed="rId1"/>
          <a:stretch/>
        </p:blipFill>
        <p:spPr>
          <a:xfrm>
            <a:off x="684360" y="306360"/>
            <a:ext cx="76327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Картинки по запросу лелеки"/>
          <p:cNvPicPr/>
          <p:nvPr/>
        </p:nvPicPr>
        <p:blipFill>
          <a:blip r:embed="rId1"/>
          <a:stretch/>
        </p:blipFill>
        <p:spPr>
          <a:xfrm>
            <a:off x="539640" y="333360"/>
            <a:ext cx="84297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Картинки по запросу зозулі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Картинки по запросу шпаки"/>
          <p:cNvPicPr/>
          <p:nvPr/>
        </p:nvPicPr>
        <p:blipFill>
          <a:blip r:embed="rId1"/>
          <a:stretch/>
        </p:blipFill>
        <p:spPr>
          <a:xfrm>
            <a:off x="179280" y="260280"/>
            <a:ext cx="8474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Картинки по запросу солов'ї"/>
          <p:cNvPicPr/>
          <p:nvPr/>
        </p:nvPicPr>
        <p:blipFill>
          <a:blip r:embed="rId1"/>
          <a:stretch/>
        </p:blipFill>
        <p:spPr>
          <a:xfrm>
            <a:off x="250920" y="260280"/>
            <a:ext cx="8669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Картинки по запросу журавлі"/>
          <p:cNvPicPr/>
          <p:nvPr/>
        </p:nvPicPr>
        <p:blipFill>
          <a:blip r:embed="rId1"/>
          <a:stretch/>
        </p:blipFill>
        <p:spPr>
          <a:xfrm>
            <a:off x="179280" y="333360"/>
            <a:ext cx="8755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КЛ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2" descr="Картинки по запросу журавлі"/>
          <p:cNvPicPr/>
          <p:nvPr/>
        </p:nvPicPr>
        <p:blipFill>
          <a:blip r:embed="rId1"/>
          <a:stretch/>
        </p:blipFill>
        <p:spPr>
          <a:xfrm>
            <a:off x="1258920" y="1224000"/>
            <a:ext cx="751356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1eeff"/>
                </a:solidFill>
                <a:latin typeface="Consolas"/>
              </a:rPr>
              <a:t>КУТ, ШЕРЕНГ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2" descr="Картинки по запросу відліт лебеді"/>
          <p:cNvPicPr/>
          <p:nvPr/>
        </p:nvPicPr>
        <p:blipFill>
          <a:blip r:embed="rId1"/>
          <a:stretch/>
        </p:blipFill>
        <p:spPr>
          <a:xfrm>
            <a:off x="611280" y="1844640"/>
            <a:ext cx="786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4T19:54:40Z</dcterms:created>
  <dc:creator>User</dc:creator>
  <dc:description/>
  <dc:language>en-US</dc:language>
  <cp:lastModifiedBy>User</cp:lastModifiedBy>
  <dcterms:modified xsi:type="dcterms:W3CDTF">2017-11-14T20:35:32Z</dcterms:modified>
  <cp:revision>5</cp:revision>
  <dc:subject/>
  <dc:title>2 клас</dc:title>
</cp:coreProperties>
</file>