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8.png" ContentType="image/png"/>
  <Override PartName="/ppt/media/image1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0C44-4738-4721-8421-FE5B1FCE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820-675A-4FA1-A1D5-7F340606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FE9-F748-4403-A56D-D3F835D1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AFF-BC71-43D0-A0F6-4BACEDAF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0A9F-3F3E-45E2-9B98-6E9A8AB3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34A7-CC17-4F8F-8A14-C5100C2B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344A-BE8D-4A0A-BE1B-0778A982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41A5-C8E3-4E35-954E-7B33FD7B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160D-CFE1-45F1-AE98-A3662E5D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8C93-7907-40FC-9EC0-6811BD1A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8AFE-89B9-4E1E-A8BA-6A642AD7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044-FEA7-4D69-8BD3-D8563C8D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8050-CEEA-4F6C-8DD7-CC440768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E0BC-5193-4248-915C-45E9B586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5FC3-ADBA-4FD5-888B-3B2579E3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B9DE-F383-42D8-85D8-992BE129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3179-CC53-4E29-BC79-B895B8F3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88E-FB61-4BB6-BDA8-E7143E24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FCEC-0CE3-444A-9482-7E3C77E1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804-22BF-4559-A915-9BB7BF88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BD4-4677-49C3-9C7B-125592AA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585F-6FF2-4900-BDE3-440C10EA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7CE6-D32E-47D2-89B8-DA1D8AC1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416-F8E9-43BE-96D0-9F8F49A9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231E-8179-4264-875B-42D36AABC6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34F8-6A8A-4D25-90EA-24B342CFAA1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3789360" y="765000"/>
          <a:ext cx="394020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9360" y="765000"/>
                    <a:ext cx="394020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3"/>
          <p:cNvSpPr/>
          <p:nvPr/>
        </p:nvSpPr>
        <p:spPr>
          <a:xfrm>
            <a:off x="324000" y="333360"/>
            <a:ext cx="3465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Лисиця дійсно прийшла через кілька днів, сіла на березі і знову заговор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Скучила я за тобою, качечко… Виходь сюди, а якщо не хочешь, то я сама до тебе прийду. Я не горд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І лисиця почала повзти </a:t>
            </a:r>
            <a:r>
              <a:rPr b="1" i="1" lang="uk-UA" sz="2400" spc="-1" strike="noStrike">
                <a:solidFill>
                  <a:srgbClr val="c00000"/>
                </a:solidFill>
                <a:latin typeface="Arial"/>
              </a:rPr>
              <a:t>обережно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 по льоду до самої ополонки. У Сірої Шийки завмерло серце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Тиск в 1 Па малий. На практиці застосовують кратні одиниці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1 гектопаскаль = 100 Па = 1 г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1 кілопаскаль = 1000 Па = 1 к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1 мегапаскаль=1000000 Па=1 МП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Тиск кінчика жала оси   -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Тиск колеса легкового                                         автомобіля на дорогу       -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Нормальний атмосферний                                               тиск                                       -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Тиск трактора на грунт      -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Безымянный5"/>
          <p:cNvPicPr/>
          <p:nvPr/>
        </p:nvPicPr>
        <p:blipFill>
          <a:blip r:embed="rId1"/>
          <a:stretch/>
        </p:blipFill>
        <p:spPr>
          <a:xfrm>
            <a:off x="7453440" y="237960"/>
            <a:ext cx="1511280" cy="1175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014_04s"/>
          <p:cNvPicPr/>
          <p:nvPr/>
        </p:nvPicPr>
        <p:blipFill>
          <a:blip r:embed="rId2"/>
          <a:stretch/>
        </p:blipFill>
        <p:spPr>
          <a:xfrm>
            <a:off x="7513560" y="1806480"/>
            <a:ext cx="1451160" cy="1087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014_05s"/>
          <p:cNvPicPr/>
          <p:nvPr/>
        </p:nvPicPr>
        <p:blipFill>
          <a:blip r:embed="rId3"/>
          <a:stretch/>
        </p:blipFill>
        <p:spPr>
          <a:xfrm>
            <a:off x="7516800" y="3495600"/>
            <a:ext cx="1627200" cy="1220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014_06s"/>
          <p:cNvPicPr/>
          <p:nvPr/>
        </p:nvPicPr>
        <p:blipFill>
          <a:blip r:embed="rId4"/>
          <a:stretch/>
        </p:blipFill>
        <p:spPr>
          <a:xfrm>
            <a:off x="7500960" y="5308560"/>
            <a:ext cx="1643040" cy="141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оли тиск зменшую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Объект 4" descr=""/>
          <p:cNvPicPr/>
          <p:nvPr/>
        </p:nvPicPr>
        <p:blipFill>
          <a:blip r:embed="rId1"/>
          <a:stretch/>
        </p:blipFill>
        <p:spPr>
          <a:xfrm>
            <a:off x="0" y="1438200"/>
            <a:ext cx="5127480" cy="34131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"/>
          <p:cNvPicPr/>
          <p:nvPr/>
        </p:nvPicPr>
        <p:blipFill>
          <a:blip r:embed="rId2"/>
          <a:stretch/>
        </p:blipFill>
        <p:spPr>
          <a:xfrm>
            <a:off x="790560" y="3643200"/>
            <a:ext cx="3781440" cy="27385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" descr=""/>
          <p:cNvPicPr/>
          <p:nvPr/>
        </p:nvPicPr>
        <p:blipFill>
          <a:blip r:embed="rId3"/>
          <a:stretch/>
        </p:blipFill>
        <p:spPr>
          <a:xfrm>
            <a:off x="5092560" y="1438200"/>
            <a:ext cx="3600720" cy="2605320"/>
          </a:xfrm>
          <a:prstGeom prst="rect">
            <a:avLst/>
          </a:prstGeom>
          <a:ln w="0">
            <a:noFill/>
          </a:ln>
        </p:spPr>
      </p:pic>
      <p:pic>
        <p:nvPicPr>
          <p:cNvPr id="120" name="Объект 7" descr=""/>
          <p:cNvPicPr/>
          <p:nvPr/>
        </p:nvPicPr>
        <p:blipFill>
          <a:blip r:embed="rId4"/>
          <a:srcRect l="9461" t="0" r="10053" b="0"/>
          <a:stretch/>
        </p:blipFill>
        <p:spPr>
          <a:xfrm>
            <a:off x="4859280" y="3643200"/>
            <a:ext cx="4033800" cy="28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оли тиск збільшую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Объект 4" descr=""/>
          <p:cNvPicPr/>
          <p:nvPr/>
        </p:nvPicPr>
        <p:blipFill>
          <a:blip r:embed="rId1"/>
          <a:stretch/>
        </p:blipFill>
        <p:spPr>
          <a:xfrm>
            <a:off x="423720" y="1600200"/>
            <a:ext cx="3500640" cy="2379600"/>
          </a:xfrm>
          <a:prstGeom prst="rect">
            <a:avLst/>
          </a:prstGeom>
          <a:ln w="0">
            <a:noFill/>
          </a:ln>
        </p:spPr>
      </p:pic>
      <p:pic>
        <p:nvPicPr>
          <p:cNvPr id="123" name="Объект 6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3892680" cy="21794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3300480" cy="20318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7" descr=""/>
          <p:cNvPicPr/>
          <p:nvPr/>
        </p:nvPicPr>
        <p:blipFill>
          <a:blip r:embed="rId4"/>
          <a:stretch/>
        </p:blipFill>
        <p:spPr>
          <a:xfrm>
            <a:off x="4589640" y="4154400"/>
            <a:ext cx="3875040" cy="217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Объект 4" descr=""/>
          <p:cNvPicPr/>
          <p:nvPr/>
        </p:nvPicPr>
        <p:blipFill>
          <a:blip r:embed="rId1"/>
          <a:stretch/>
        </p:blipFill>
        <p:spPr>
          <a:xfrm>
            <a:off x="179280" y="1639800"/>
            <a:ext cx="4469040" cy="3483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788000" y="1639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ага українського боксера Олекса́ндра У́сика – 90 кг, а площа його взуття  600 см кв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ий тиск на ринг чинить відомий спортсме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Объект 4" descr=""/>
          <p:cNvPicPr/>
          <p:nvPr/>
        </p:nvPicPr>
        <p:blipFill>
          <a:blip r:embed="rId1"/>
          <a:stretch/>
        </p:blipFill>
        <p:spPr>
          <a:xfrm>
            <a:off x="900000" y="1800360"/>
            <a:ext cx="2951280" cy="4437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850920" y="1196640"/>
            <a:ext cx="50418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айдіть який тиск на лід чинить українська фігуристка Окса́на  Баю́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( перша олімпійська чемпіонка незалежної Україн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аса Оксани – 52 кг, а площа зіткнення леза її ковзанів 4 см2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user-1653-1177355155"/>
          <p:cNvPicPr/>
          <p:nvPr/>
        </p:nvPicPr>
        <p:blipFill>
          <a:blip r:embed="rId1"/>
          <a:stretch/>
        </p:blipFill>
        <p:spPr>
          <a:xfrm>
            <a:off x="250920" y="836640"/>
            <a:ext cx="8532720" cy="5565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340000" y="1484280"/>
            <a:ext cx="4968720" cy="2305080"/>
          </a:xfrm>
          <a:prstGeom prst="rect">
            <a:avLst/>
          </a:prstGeom>
          <a:solidFill>
            <a:srgbClr val="00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ffffff"/>
                </a:solidFill>
                <a:latin typeface="Script MT Bold"/>
              </a:rPr>
              <a:t>На кого з них ти був схож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ffffff"/>
                </a:solidFill>
                <a:latin typeface="Script MT Bold"/>
              </a:rPr>
              <a:t>сьогодні на уроці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292720" y="616572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66"/>
                </a:solidFill>
                <a:latin typeface="Tahoma"/>
              </a:rPr>
              <a:t>0 бал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492360" y="616572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66"/>
                </a:solidFill>
                <a:latin typeface="Tahoma"/>
              </a:rPr>
              <a:t>1 ба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979640" y="616572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66"/>
                </a:solidFill>
                <a:latin typeface="Tahoma"/>
              </a:rPr>
              <a:t>2 ба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24000" y="616572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66"/>
                </a:solidFill>
                <a:latin typeface="Tahoma"/>
              </a:rPr>
              <a:t>3 ба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600" spc="-1" strike="noStrike">
                <a:solidFill>
                  <a:srgbClr val="ff0000"/>
                </a:solidFill>
                <a:latin typeface="Tahoma"/>
              </a:rPr>
              <a:t>Тиск. </a:t>
            </a:r>
            <a:br>
              <a:rPr sz="6600"/>
            </a:br>
            <a:r>
              <a:rPr b="1" i="1" lang="uk-UA" sz="6600" spc="-1" strike="noStrike">
                <a:solidFill>
                  <a:srgbClr val="ff0000"/>
                </a:solidFill>
                <a:latin typeface="Tahoma"/>
              </a:rPr>
              <a:t>Сила тиску.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9900"/>
                </a:solidFill>
                <a:latin typeface="Tahoma"/>
              </a:rPr>
              <a:t>Тиск різко падає, можливі опад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9900"/>
                </a:solidFill>
                <a:latin typeface="Tahoma"/>
              </a:rPr>
              <a:t>Захисники команди “Спартака” не витримали тиску нападаючих команди “Динамо”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9900"/>
                </a:solidFill>
                <a:latin typeface="Tahoma"/>
              </a:rPr>
              <a:t>У хворого раптово підвищився тис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9900"/>
                </a:solidFill>
                <a:latin typeface="Tahoma"/>
              </a:rPr>
              <a:t>“</a:t>
            </a:r>
            <a:r>
              <a:rPr b="0" lang="uk-UA" sz="2800" spc="-1" strike="noStrike">
                <a:solidFill>
                  <a:srgbClr val="ff9900"/>
                </a:solidFill>
                <a:latin typeface="Tahoma"/>
              </a:rPr>
              <a:t>Наутилус” занурився в бездонні глибини, не зважаючи на великий тиск зовнішнього середовищ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9900"/>
                </a:solidFill>
                <a:latin typeface="Tahoma"/>
              </a:rPr>
              <a:t>- Це була жінка, - сказав комісар Мегре, - тільки тоненька шпилька жіночих черевичків могла спричинити такий тис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1042920" y="609300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жник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ішох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33cc"/>
                </a:solidFill>
                <a:latin typeface="Tahoma"/>
              </a:rPr>
              <a:t>Тиск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cc"/>
                </a:solidFill>
                <a:latin typeface="Tahoma"/>
              </a:rPr>
              <a:t>Фізичну величину, що характеризує  дію  сили на фізичне тіло і чисельно дорівнює  відношенню сили, яка діє перпендикулярно до поверхні, до  площі  цієї поверхні, називають тиск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" name="Прямоугольник 3"/>
          <p:cNvGrpSpPr/>
          <p:nvPr/>
        </p:nvGrpSpPr>
        <p:grpSpPr>
          <a:xfrm>
            <a:off x="171360" y="128520"/>
            <a:ext cx="8960040" cy="6527880"/>
            <a:chOff x="171360" y="128520"/>
            <a:chExt cx="8960040" cy="6527880"/>
          </a:xfrm>
        </p:grpSpPr>
        <p:pic>
          <p:nvPicPr>
            <p:cNvPr id="9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71360" y="128520"/>
              <a:ext cx="8960040" cy="65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93760" y="249120"/>
              <a:ext cx="871524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Результат дії сили залежить від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83628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Значення сили тиск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Площі опори, перпендикулярно якій діє сила тиск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24000" y="2868480"/>
            <a:ext cx="4632120" cy="1768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3335400" y="4818240"/>
            <a:ext cx="2519280" cy="1876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5854680" y="2800440"/>
            <a:ext cx="2843280" cy="199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Arial"/>
              </a:rPr>
              <a:t>Одиниця вимірювання тиску в системі 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3499920"/>
            <a:ext cx="8362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1 Паскаль – це такий тиск, що його чинить сила 1 Н на поверхню площею 1 м</a:t>
            </a:r>
            <a:r>
              <a:rPr b="0" lang="uk-UA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перпендикулярно до цієї площ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0" y="1197000"/>
            <a:ext cx="2305080" cy="1636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3419640" y="1125360"/>
            <a:ext cx="2232000" cy="48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2556000" y="1844640"/>
            <a:ext cx="1368360" cy="1068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4"/>
          <a:stretch/>
        </p:blipFill>
        <p:spPr>
          <a:xfrm>
            <a:off x="4500720" y="1773360"/>
            <a:ext cx="3600360" cy="115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99"/>
                </a:solidFill>
                <a:latin typeface="Arial"/>
              </a:rPr>
              <a:t>Блез Паскаль (1623 – 166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images1"/>
          <p:cNvPicPr/>
          <p:nvPr/>
        </p:nvPicPr>
        <p:blipFill>
          <a:blip r:embed="rId1"/>
          <a:stretch/>
        </p:blipFill>
        <p:spPr>
          <a:xfrm>
            <a:off x="812880" y="1628640"/>
            <a:ext cx="3116160" cy="38163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284720" y="1417680"/>
            <a:ext cx="4572000" cy="5251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2"/>
          <a:stretch/>
        </p:blipFill>
        <p:spPr>
          <a:xfrm>
            <a:off x="4834080" y="1989000"/>
            <a:ext cx="3852720" cy="264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18:20Z</dcterms:created>
  <dc:creator>Natalia</dc:creator>
  <dc:description/>
  <dc:language>en-US</dc:language>
  <cp:lastModifiedBy>User</cp:lastModifiedBy>
  <dcterms:modified xsi:type="dcterms:W3CDTF">2018-03-10T16:01:50Z</dcterms:modified>
  <cp:revision>21</cp:revision>
  <dc:subject/>
  <dc:title>Слайд 1</dc:title>
</cp:coreProperties>
</file>