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8.png" ContentType="image/png"/>
  <Override PartName="/ppt/media/image39.jpeg" ContentType="image/jpeg"/>
  <Override PartName="/ppt/media/image41.gif" ContentType="image/gif"/>
  <Override PartName="/ppt/media/image13.png" ContentType="image/png"/>
  <Override PartName="/ppt/media/image37.jpeg" ContentType="image/jpeg"/>
  <Override PartName="/ppt/media/image29.jpeg" ContentType="image/jpeg"/>
  <Override PartName="/ppt/media/image14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gif" ContentType="image/gif"/>
  <Override PartName="/ppt/media/image38.jpeg" ContentType="image/jpeg"/>
  <Override PartName="/ppt/media/image40.jpeg" ContentType="image/jpeg"/>
  <Override PartName="/ppt/media/image32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jpeg" ContentType="image/jpeg"/>
  <Override PartName="/ppt/media/image11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FB96-F012-4AEF-92C7-D03CA294E3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6"/>
          <p:cNvSpPr/>
          <p:nvPr/>
        </p:nvSpPr>
        <p:spPr>
          <a:xfrm>
            <a:off x="4278240" y="10155240"/>
            <a:ext cx="3264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92F41-1988-40C4-B294-2D3D4C1731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85861-4654-4E22-8E8E-ABE7BA71E2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5C694-812B-45F9-97D8-010F70B036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FCA04-812E-4873-8768-69C48CE6ED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DA68A-735C-464C-A0A0-2FAD54F2A0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1108080" y="812880"/>
            <a:ext cx="533412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ea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dobrochan.ru/src/jpg/1004/tea.jpg&amp;imgrefu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andwich 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imus.ru/i/catalog/big/502.jpg&amp;imgrefu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orridge 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beingdiabetic.co.nz/images/2010/porridge.jpg&amp;imgrefu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C98C-65F2-4425-A870-70E4AA4D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57D9-D613-4AE9-B1E8-966C22B4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EEE1-1F21-4C35-8EAF-8639B0AB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345-733A-4909-B29C-1ED0B320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9A58-6C70-478B-BC5F-4BFFB444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2A34-C588-44FC-879E-603D5F48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50E1-D9D9-426C-A337-3CCF0C1E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5B37-29F0-4093-A549-384D24E3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1162-F1EB-4BE2-ACDA-3702432A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702C-7E8C-41FB-986D-8F8D23BE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1143-F5C6-49B3-ADE7-8BE89B26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7AB5-7DA3-4ADA-94AF-227C5D34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CACD-2ED7-4F33-9AB5-84EE85D0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A8A2-CA17-4777-878A-17DF627C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E829-8D01-4F83-B1F3-5B5DB4D9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3FAE-093B-43B7-A26E-08EBC5A1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D3E2-AE26-463F-8677-DE40B766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522EA-CEF5-4E59-831E-C6439EBA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F435D-A586-4B67-9F95-DE94B66C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88B68-33E4-4D6A-B572-05733CA3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06CC3-0F26-4710-BA87-ED18CCC6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225FD-012F-468C-9203-EAEE48AF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8F3-1C5C-44B2-99DB-C9FB2400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D3A1F-B01B-46FE-AE63-55383B8E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C36EC-2FFC-4CA4-A997-68F0C22E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4DF14-474F-4540-A0B4-2F69174F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FDCCA-042E-43BB-B3A2-0E6C582E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BBEC5-434F-464B-8C38-9384CC66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9405D-D2F4-4712-BA4C-3B2FEB45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2B832-FE0F-48AE-9636-21F41FEF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57640-29B7-42A1-9DF9-998F1166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4B65A-ACAF-41AB-BA89-17A5CDF5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FAD6C-333F-42C3-8E8E-F7476919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1764-EC59-4FD5-983B-1A3B60A7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9A282-D935-4FF6-9041-2BE2433D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E4A07-7794-4165-8AF1-AEFC48FB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A410B-E7BC-4F5F-AEA3-26D86C08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92FB5-7B3D-4432-80F3-C7F4B5CD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1666A-CD32-47EE-A6F7-A22E3186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08668-233D-4998-8AB4-15BEE92B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D74FD-9863-4F07-B3AE-B9367972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EB038-2EBF-4CF2-AB1D-ECC2E6E2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3FDF4-C5AD-453B-9377-EB7942D7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0D8AC-FE5B-44E5-A15F-62CD9E2E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101-0028-4880-8272-1F9EA487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CDACAD-2A64-48B7-8032-2B29FADC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2117E-4843-428E-A141-A1794B5A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A850DE-8EFE-4D46-AF62-20E9050D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8BAF34-0080-4959-9089-69FEB2EE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F38268-565F-4516-9CF0-03A75069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DD866-CE06-4EC9-B53B-7E226E03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F654F6-71D8-4F1D-B853-BFC0672D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9AE683-1621-4BCE-851B-031513D2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9B1BD-9EFB-47E1-9029-AC003207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96E8D1-BD4F-43CC-8010-62536200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4605-5CB7-453F-B3B5-054DEBD4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978D28-95F1-4F90-B618-DDDB461C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AE0FA7-76F8-4E85-9378-32550254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0B24C-656F-40D8-966E-9B51B6E2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233C0F-37D0-400C-9B38-3DA2B680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806421-979F-4BA1-B361-AB8ED0A1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93959A-318A-470D-AEDA-5E8FFE32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7C1CB8-B4A5-47C8-90E3-0E2F119B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7F244D-742E-4946-A025-CE46E3F4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056DC6-175F-4C4A-9C96-E9062010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45FACB-6D3F-4CC1-BF10-75EA68E4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4F1-DC1D-4BA2-8E91-C987129C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900709-DF73-4316-AE2F-CC530458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8374E8-857A-4062-B7D0-2EE970D7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242B07-A412-44D7-BED6-8E830183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FFBF0-35C0-44D4-B9C6-713896EF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473F05-D880-459C-BB52-596C94D1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93A627-869E-4F7C-ACE6-B7609FDC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3417A-C6FA-47A4-92E2-6B285030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ED8DA2-8084-480C-A1F3-3AD73945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B90317-3A3B-43D0-B9EF-30B043F3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3CBE80-A485-46A1-B0C9-0F304C4D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58C-41B8-46D1-803E-7F3357B9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D7C02-3D61-417C-8982-E9D15B95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9A395A-FACD-4BEE-92AB-FF3CAB58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3C3A44-B9B8-45ED-82FC-A79C56A9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846F5A-C39C-4102-A6A9-CD6AD40D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0643A2-C687-4979-9D3E-5C84A1CA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5C65-F5C3-43A0-AA4B-28AB744D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D2CD-8E33-45DF-A0CB-D0AD464CDBA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6CEC-4855-470B-BF3C-B29D8D3A71F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6769-3578-45B3-8697-5760CB029B6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673F-1037-4C7E-9AE2-385F8F1DA60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93B4-5AC0-47D8-8424-84E076B960E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E26D-0A57-421D-9DE3-FA4C9EEFA6D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56C6-03E5-4280-8407-E0DC6A42E97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rana-sovetov.com/images/stories/tip/health/put-on-weight_b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hoto.naruto-portal.ru/_ph/1/2/469004852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4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7.jpeg"/><Relationship Id="rId7" Type="http://schemas.openxmlformats.org/officeDocument/2006/relationships/image" Target="../media/image33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http://strana-sovetov.com/images/stories/tip/health/put-on-weight_bi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8"/>
          <p:cNvSpPr/>
          <p:nvPr/>
        </p:nvSpPr>
        <p:spPr>
          <a:xfrm>
            <a:off x="2627280" y="549360"/>
            <a:ext cx="282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FOO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3"/>
          <p:cNvSpPr/>
          <p:nvPr/>
        </p:nvSpPr>
        <p:spPr>
          <a:xfrm>
            <a:off x="1905120" y="765000"/>
            <a:ext cx="5943600" cy="1008360"/>
          </a:xfrm>
          <a:prstGeom prst="rect">
            <a:avLst/>
          </a:prstGeom>
          <a:solidFill>
            <a:srgbClr val="a74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o you like …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http://photo.naruto-portal.ru/_ph/1/2/46900485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1844640"/>
            <a:ext cx="590544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00000"/>
                </a:solidFill>
                <a:latin typeface="Century Schoolbook"/>
              </a:rPr>
              <a:t>Do  you  like </a:t>
            </a:r>
            <a:r>
              <a:rPr b="1" lang="ru-RU" sz="4300" spc="-1" strike="noStrike">
                <a:solidFill>
                  <a:srgbClr val="c00000"/>
                </a:solidFill>
                <a:latin typeface="Century Schoolbook"/>
              </a:rPr>
              <a:t>… </a:t>
            </a:r>
            <a:r>
              <a:rPr b="1" lang="en-US" sz="4300" spc="-1" strike="noStrike">
                <a:solidFill>
                  <a:srgbClr val="c00000"/>
                </a:solidFill>
                <a:latin typeface="Century Schoolbook"/>
              </a:rPr>
              <a:t>?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2014560" y="1628640"/>
            <a:ext cx="506556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5" descr=""/>
          <p:cNvPicPr/>
          <p:nvPr/>
        </p:nvPicPr>
        <p:blipFill>
          <a:blip r:embed="rId1"/>
          <a:stretch/>
        </p:blipFill>
        <p:spPr>
          <a:xfrm>
            <a:off x="-936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5400" y="213840"/>
            <a:ext cx="847404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0000"/>
                </a:solidFill>
                <a:latin typeface="Adobe Caslon Pro Bold"/>
              </a:rPr>
              <a:t>        </a:t>
            </a:r>
            <a:r>
              <a:rPr b="1" lang="en-US" sz="4700" spc="-1" strike="noStrike">
                <a:solidFill>
                  <a:srgbClr val="ff0000"/>
                </a:solidFill>
                <a:latin typeface="Adobe Caslon Pro Bold"/>
              </a:rPr>
              <a:t>Find the odd word</a:t>
            </a:r>
            <a:r>
              <a:rPr b="0" lang="en-US" sz="4700" spc="-1" strike="noStrike">
                <a:solidFill>
                  <a:srgbClr val="ff0000"/>
                </a:solidFill>
                <a:latin typeface="Adobe Caslon Pro Bold"/>
              </a:rPr>
              <a:t>.</a:t>
            </a:r>
            <a:endParaRPr b="0" lang="en-US" sz="4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78920" y="1143000"/>
            <a:ext cx="87138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4800" spc="-1" strike="noStrike">
                <a:solidFill>
                  <a:srgbClr val="5a160b"/>
                </a:solidFill>
                <a:latin typeface="Century Schoolbook"/>
              </a:rPr>
              <a:t>milk, apple, lemon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a160b"/>
                </a:solidFill>
                <a:latin typeface="Century Schoolbook"/>
              </a:rPr>
              <a:t>  </a:t>
            </a:r>
            <a:r>
              <a:rPr b="1" lang="en-US" sz="4800" spc="-1" strike="noStrike">
                <a:solidFill>
                  <a:srgbClr val="5a160b"/>
                </a:solidFill>
                <a:latin typeface="Century Schoolbook"/>
              </a:rPr>
              <a:t>juice, butter, tea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a160b"/>
                </a:solidFill>
                <a:latin typeface="Century Schoolbook"/>
              </a:rPr>
              <a:t>  </a:t>
            </a:r>
            <a:r>
              <a:rPr b="1" lang="en-US" sz="4800" spc="-1" strike="noStrike">
                <a:solidFill>
                  <a:srgbClr val="5a160b"/>
                </a:solidFill>
                <a:latin typeface="Century Schoolbook"/>
              </a:rPr>
              <a:t>carrot, potato , bananas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a160b"/>
                </a:solidFill>
                <a:latin typeface="Century Schoolbook"/>
              </a:rPr>
              <a:t>  </a:t>
            </a:r>
            <a:r>
              <a:rPr b="1" lang="en-US" sz="4800" spc="-1" strike="noStrike">
                <a:solidFill>
                  <a:srgbClr val="5a160b"/>
                </a:solidFill>
                <a:latin typeface="Century Schoolbook"/>
              </a:rPr>
              <a:t>sweets, cakes, fish</a:t>
            </a:r>
            <a:r>
              <a:rPr b="1" lang="ru-RU" sz="4800" spc="-1" strike="noStrike">
                <a:solidFill>
                  <a:srgbClr val="5a160b"/>
                </a:solidFill>
                <a:latin typeface="Century Schoolbook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a160b"/>
                </a:solidFill>
                <a:latin typeface="Century Schoolbook"/>
              </a:rPr>
              <a:t>  </a:t>
            </a:r>
            <a:r>
              <a:rPr b="1" lang="en-US" sz="4800" spc="-1" strike="noStrike">
                <a:solidFill>
                  <a:srgbClr val="5a160b"/>
                </a:solidFill>
                <a:latin typeface="Century Schoolbook"/>
              </a:rPr>
              <a:t>honey</a:t>
            </a:r>
            <a:r>
              <a:rPr b="1" lang="ru-RU" sz="4800" spc="-1" strike="noStrike">
                <a:solidFill>
                  <a:srgbClr val="5a160b"/>
                </a:solidFill>
                <a:latin typeface="Century Schoolbook"/>
              </a:rPr>
              <a:t>,</a:t>
            </a:r>
            <a:r>
              <a:rPr b="1" lang="en-US" sz="4800" spc="-1" strike="noStrike">
                <a:solidFill>
                  <a:srgbClr val="5a160b"/>
                </a:solidFill>
                <a:latin typeface="Century Schoolbook"/>
              </a:rPr>
              <a:t>jam</a:t>
            </a:r>
            <a:r>
              <a:rPr b="1" lang="ru-RU" sz="4800" spc="-1" strike="noStrike">
                <a:solidFill>
                  <a:srgbClr val="5a160b"/>
                </a:solidFill>
                <a:latin typeface="Century Schoolbook"/>
              </a:rPr>
              <a:t>,</a:t>
            </a:r>
            <a:r>
              <a:rPr b="1" lang="en-US" sz="4800" spc="-1" strike="noStrike">
                <a:solidFill>
                  <a:srgbClr val="5a160b"/>
                </a:solidFill>
                <a:latin typeface="Century Schoolbook"/>
              </a:rPr>
              <a:t>meat</a:t>
            </a:r>
            <a:r>
              <a:rPr b="1" lang="ru-RU" sz="4800" spc="-1" strike="noStrike">
                <a:solidFill>
                  <a:srgbClr val="5a160b"/>
                </a:solidFill>
                <a:latin typeface="Century Schoolbook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a160b"/>
                </a:solidFill>
                <a:latin typeface="Century Schoolbook"/>
              </a:rPr>
              <a:t>  </a:t>
            </a:r>
            <a:r>
              <a:rPr b="1" lang="en-US" sz="4800" spc="-1" strike="noStrike">
                <a:solidFill>
                  <a:srgbClr val="5a160b"/>
                </a:solidFill>
                <a:latin typeface="Century Schoolbook"/>
              </a:rPr>
              <a:t>ham</a:t>
            </a:r>
            <a:r>
              <a:rPr b="1" lang="ru-RU" sz="4800" spc="-1" strike="noStrike">
                <a:solidFill>
                  <a:srgbClr val="5a160b"/>
                </a:solidFill>
                <a:latin typeface="Century Schoolbook"/>
              </a:rPr>
              <a:t>,</a:t>
            </a:r>
            <a:r>
              <a:rPr b="1" lang="en-US" sz="4800" spc="-1" strike="noStrike">
                <a:solidFill>
                  <a:srgbClr val="5a160b"/>
                </a:solidFill>
                <a:latin typeface="Century Schoolbook"/>
              </a:rPr>
              <a:t> corn</a:t>
            </a:r>
            <a:r>
              <a:rPr b="1" lang="ru-RU" sz="4800" spc="-1" strike="noStrike">
                <a:solidFill>
                  <a:srgbClr val="5a160b"/>
                </a:solidFill>
                <a:latin typeface="Century Schoolbook"/>
              </a:rPr>
              <a:t>,</a:t>
            </a:r>
            <a:r>
              <a:rPr b="1" lang="en-US" sz="4800" spc="-1" strike="noStrike">
                <a:solidFill>
                  <a:srgbClr val="5a160b"/>
                </a:solidFill>
                <a:latin typeface="Century Schoolbook"/>
              </a:rPr>
              <a:t> tomato</a:t>
            </a:r>
            <a:r>
              <a:rPr b="1" lang="ru-RU" sz="4800" spc="-1" strike="noStrike">
                <a:solidFill>
                  <a:srgbClr val="5a160b"/>
                </a:solidFill>
                <a:latin typeface="Century Schoolbook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722160" y="33336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dobe Caslon Pro Bold"/>
                <a:ea typeface="MS Gothic"/>
              </a:rPr>
              <a:t>READ AND CHOOS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611280" y="1197000"/>
            <a:ext cx="77724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AutoShape 4"/>
          <p:cNvGrpSpPr/>
          <p:nvPr/>
        </p:nvGrpSpPr>
        <p:grpSpPr>
          <a:xfrm>
            <a:off x="450720" y="1212840"/>
            <a:ext cx="6712200" cy="1225440"/>
            <a:chOff x="450720" y="1212840"/>
            <a:chExt cx="6712200" cy="1225440"/>
          </a:xfrm>
        </p:grpSpPr>
        <p:pic>
          <p:nvPicPr>
            <p:cNvPr id="389" name="AutoShape 4" descr=""/>
            <p:cNvPicPr/>
            <p:nvPr/>
          </p:nvPicPr>
          <p:blipFill>
            <a:blip r:embed="rId1"/>
            <a:stretch/>
          </p:blipFill>
          <p:spPr>
            <a:xfrm>
              <a:off x="450720" y="1212840"/>
              <a:ext cx="671220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663480" y="1320840"/>
              <a:ext cx="637704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1</a:t>
              </a:r>
              <a:r>
                <a:rPr b="0" lang="ru-RU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) </a:t>
              </a:r>
              <a:r>
                <a:rPr b="1" lang="en-US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The rabbit likes 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    </a:t>
              </a:r>
              <a:r>
                <a:rPr b="1" lang="en-US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a)ham  b)fis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AutoShape 5"/>
          <p:cNvGrpSpPr/>
          <p:nvPr/>
        </p:nvGrpSpPr>
        <p:grpSpPr>
          <a:xfrm>
            <a:off x="450720" y="2365200"/>
            <a:ext cx="6712200" cy="1298880"/>
            <a:chOff x="450720" y="2365200"/>
            <a:chExt cx="6712200" cy="1298880"/>
          </a:xfrm>
        </p:grpSpPr>
        <p:pic>
          <p:nvPicPr>
            <p:cNvPr id="392" name="AutoShape 5" descr=""/>
            <p:cNvPicPr/>
            <p:nvPr/>
          </p:nvPicPr>
          <p:blipFill>
            <a:blip r:embed="rId2"/>
            <a:stretch/>
          </p:blipFill>
          <p:spPr>
            <a:xfrm>
              <a:off x="450720" y="2365200"/>
              <a:ext cx="671220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666720" y="2476440"/>
              <a:ext cx="63705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2)</a:t>
              </a:r>
              <a:r>
                <a:rPr b="0" lang="ru-RU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 </a:t>
              </a:r>
              <a:r>
                <a:rPr b="1" lang="en-US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The bird likes</a:t>
              </a:r>
              <a:r>
                <a:rPr b="1" lang="ru-RU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 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    </a:t>
              </a:r>
              <a:r>
                <a:rPr b="1" lang="en-US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a)sweets</a:t>
              </a:r>
              <a:r>
                <a:rPr b="1" lang="ru-RU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          </a:t>
              </a:r>
              <a:r>
                <a:rPr b="1" lang="en-US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 </a:t>
              </a:r>
              <a:r>
                <a:rPr b="1" lang="ru-RU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          </a:t>
              </a:r>
              <a:r>
                <a:rPr b="1" lang="en-US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c)cabbag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AutoShape 6"/>
          <p:cNvGrpSpPr/>
          <p:nvPr/>
        </p:nvGrpSpPr>
        <p:grpSpPr>
          <a:xfrm>
            <a:off x="493560" y="3597120"/>
            <a:ext cx="6699240" cy="1492560"/>
            <a:chOff x="493560" y="3597120"/>
            <a:chExt cx="6699240" cy="1492560"/>
          </a:xfrm>
        </p:grpSpPr>
        <p:pic>
          <p:nvPicPr>
            <p:cNvPr id="395" name="AutoShape 6" descr=""/>
            <p:cNvPicPr/>
            <p:nvPr/>
          </p:nvPicPr>
          <p:blipFill>
            <a:blip r:embed="rId3"/>
            <a:stretch/>
          </p:blipFill>
          <p:spPr>
            <a:xfrm>
              <a:off x="493560" y="3597120"/>
              <a:ext cx="6699240" cy="149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709560" y="3710160"/>
              <a:ext cx="634860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3)The bear likes 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                   </a:t>
              </a:r>
              <a:r>
                <a:rPr b="1" lang="en-US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b)lemon  c)ice-crea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AutoShape 7"/>
          <p:cNvGrpSpPr/>
          <p:nvPr/>
        </p:nvGrpSpPr>
        <p:grpSpPr>
          <a:xfrm>
            <a:off x="476280" y="5029200"/>
            <a:ext cx="6753240" cy="1706400"/>
            <a:chOff x="476280" y="5029200"/>
            <a:chExt cx="6753240" cy="1706400"/>
          </a:xfrm>
        </p:grpSpPr>
        <p:pic>
          <p:nvPicPr>
            <p:cNvPr id="398" name="AutoShape 7" descr=""/>
            <p:cNvPicPr/>
            <p:nvPr/>
          </p:nvPicPr>
          <p:blipFill>
            <a:blip r:embed="rId4"/>
            <a:stretch/>
          </p:blipFill>
          <p:spPr>
            <a:xfrm>
              <a:off x="476280" y="5029200"/>
              <a:ext cx="675324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687240" y="5148360"/>
              <a:ext cx="640080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4) The cat likes 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     </a:t>
              </a:r>
              <a:r>
                <a:rPr b="1" lang="en-US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a</a:t>
              </a:r>
              <a:r>
                <a:rPr b="1" lang="ru-RU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)</a:t>
              </a:r>
              <a:r>
                <a:rPr b="1" lang="en-US" sz="3200" spc="-1" strike="noStrike">
                  <a:solidFill>
                    <a:srgbClr val="3333cc"/>
                  </a:solidFill>
                  <a:latin typeface="Constantia"/>
                  <a:ea typeface="MS Gothic"/>
                </a:rPr>
                <a:t>apple  b)ja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AutoShape 11"/>
          <p:cNvSpPr/>
          <p:nvPr/>
        </p:nvSpPr>
        <p:spPr>
          <a:xfrm>
            <a:off x="4000680" y="1785960"/>
            <a:ext cx="2643120" cy="5634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nstantia"/>
                <a:ea typeface="MS Gothic"/>
              </a:rPr>
              <a:t> </a:t>
            </a:r>
            <a:r>
              <a:rPr b="0" lang="uk-UA" sz="3200" spc="-1" strike="noStrike">
                <a:solidFill>
                  <a:srgbClr val="00b050"/>
                </a:solidFill>
                <a:latin typeface="Constantia"/>
                <a:ea typeface="MS Gothic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Constantia"/>
                <a:ea typeface="MS Gothic"/>
              </a:rPr>
              <a:t>c)</a:t>
            </a:r>
            <a:r>
              <a:rPr b="1" lang="uk-UA" sz="3200" spc="-1" strike="noStrike">
                <a:solidFill>
                  <a:srgbClr val="3333cc"/>
                </a:solidFill>
                <a:latin typeface="Constantia"/>
                <a:ea typeface="MS Gothic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nstantia"/>
                <a:ea typeface="MS Gothic"/>
              </a:rPr>
              <a:t>carr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2"/>
          <p:cNvSpPr/>
          <p:nvPr/>
        </p:nvSpPr>
        <p:spPr>
          <a:xfrm>
            <a:off x="2786040" y="2924280"/>
            <a:ext cx="1928880" cy="57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nstantia"/>
                <a:ea typeface="MS Gothic"/>
              </a:rPr>
              <a:t>b)c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3"/>
          <p:cNvSpPr/>
          <p:nvPr/>
        </p:nvSpPr>
        <p:spPr>
          <a:xfrm>
            <a:off x="714240" y="4149720"/>
            <a:ext cx="1928880" cy="64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nstantia"/>
                <a:ea typeface="MS Gothic"/>
              </a:rPr>
              <a:t>a)h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4"/>
          <p:cNvSpPr/>
          <p:nvPr/>
        </p:nvSpPr>
        <p:spPr>
          <a:xfrm>
            <a:off x="4357800" y="5715000"/>
            <a:ext cx="2571480" cy="785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nstantia"/>
                <a:ea typeface="MS Gothic"/>
              </a:rPr>
              <a:t>c)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6" descr=""/>
          <p:cNvPicPr/>
          <p:nvPr/>
        </p:nvPicPr>
        <p:blipFill>
          <a:blip r:embed="rId5"/>
          <a:stretch/>
        </p:blipFill>
        <p:spPr>
          <a:xfrm>
            <a:off x="7008840" y="900000"/>
            <a:ext cx="1754280" cy="1592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7" descr=""/>
          <p:cNvPicPr/>
          <p:nvPr/>
        </p:nvPicPr>
        <p:blipFill>
          <a:blip r:embed="rId6"/>
          <a:stretch/>
        </p:blipFill>
        <p:spPr>
          <a:xfrm>
            <a:off x="6751800" y="3527280"/>
            <a:ext cx="1468440" cy="1349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8" descr=""/>
          <p:cNvPicPr/>
          <p:nvPr/>
        </p:nvPicPr>
        <p:blipFill>
          <a:blip r:embed="rId7"/>
          <a:stretch/>
        </p:blipFill>
        <p:spPr>
          <a:xfrm>
            <a:off x="7305840" y="4876920"/>
            <a:ext cx="1369800" cy="15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9" descr=""/>
          <p:cNvPicPr/>
          <p:nvPr/>
        </p:nvPicPr>
        <p:blipFill>
          <a:blip r:embed="rId8"/>
          <a:stretch/>
        </p:blipFill>
        <p:spPr>
          <a:xfrm>
            <a:off x="7313760" y="2238480"/>
            <a:ext cx="1549080" cy="14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2" descr="453148341ebb.jpg"/>
          <p:cNvPicPr/>
          <p:nvPr/>
        </p:nvPicPr>
        <p:blipFill>
          <a:blip r:embed="rId1"/>
          <a:stretch/>
        </p:blipFill>
        <p:spPr>
          <a:xfrm>
            <a:off x="6996240" y="3735360"/>
            <a:ext cx="1757160" cy="1041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09" name="Рисунок 3" descr="8893312_Ph02803j.jpg"/>
          <p:cNvPicPr/>
          <p:nvPr/>
        </p:nvPicPr>
        <p:blipFill>
          <a:blip r:embed="rId2"/>
          <a:stretch/>
        </p:blipFill>
        <p:spPr>
          <a:xfrm>
            <a:off x="1201680" y="1836720"/>
            <a:ext cx="1273320" cy="10209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410" name="Рисунок 4" descr="sm_f_492999d1171ef.jpg"/>
          <p:cNvPicPr/>
          <p:nvPr/>
        </p:nvPicPr>
        <p:blipFill>
          <a:blip r:embed="rId3"/>
          <a:stretch/>
        </p:blipFill>
        <p:spPr>
          <a:xfrm>
            <a:off x="7113600" y="244440"/>
            <a:ext cx="1379520" cy="13557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411" name="Рисунок 5" descr="000655.1.jpg"/>
          <p:cNvPicPr/>
          <p:nvPr/>
        </p:nvPicPr>
        <p:blipFill>
          <a:blip r:embed="rId4"/>
          <a:stretch/>
        </p:blipFill>
        <p:spPr>
          <a:xfrm>
            <a:off x="1201680" y="5143680"/>
            <a:ext cx="1362240" cy="12236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412" name="Рисунок 6" descr="2593.jpg"/>
          <p:cNvPicPr/>
          <p:nvPr/>
        </p:nvPicPr>
        <p:blipFill>
          <a:blip r:embed="rId5"/>
          <a:stretch/>
        </p:blipFill>
        <p:spPr>
          <a:xfrm>
            <a:off x="1201680" y="3429000"/>
            <a:ext cx="1244520" cy="1219320"/>
          </a:xfrm>
          <a:prstGeom prst="rect">
            <a:avLst/>
          </a:prstGeom>
          <a:ln w="9360">
            <a:solidFill>
              <a:srgbClr val="e6892c"/>
            </a:solidFill>
            <a:miter/>
          </a:ln>
        </p:spPr>
      </p:pic>
      <p:pic>
        <p:nvPicPr>
          <p:cNvPr id="413" name="Рисунок 7" descr="439.jpg"/>
          <p:cNvPicPr/>
          <p:nvPr/>
        </p:nvPicPr>
        <p:blipFill>
          <a:blip r:embed="rId6"/>
          <a:stretch/>
        </p:blipFill>
        <p:spPr>
          <a:xfrm>
            <a:off x="6996240" y="2021040"/>
            <a:ext cx="1620720" cy="11919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414" name="Рисунок 8" descr="33264311.jpg"/>
          <p:cNvPicPr/>
          <p:nvPr/>
        </p:nvPicPr>
        <p:blipFill>
          <a:blip r:embed="rId7"/>
          <a:stretch/>
        </p:blipFill>
        <p:spPr>
          <a:xfrm>
            <a:off x="7113600" y="5205240"/>
            <a:ext cx="1655640" cy="139248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0"/>
          <p:cNvSpPr/>
          <p:nvPr/>
        </p:nvSpPr>
        <p:spPr>
          <a:xfrm>
            <a:off x="3862440" y="490680"/>
            <a:ext cx="1596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1"/>
          <p:cNvSpPr/>
          <p:nvPr/>
        </p:nvSpPr>
        <p:spPr>
          <a:xfrm>
            <a:off x="4165560" y="1477800"/>
            <a:ext cx="1596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2"/>
          <p:cNvSpPr/>
          <p:nvPr/>
        </p:nvSpPr>
        <p:spPr>
          <a:xfrm>
            <a:off x="3981600" y="5816520"/>
            <a:ext cx="18907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r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3745080" y="1041480"/>
            <a:ext cx="29700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ta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4"/>
          <p:cNvSpPr/>
          <p:nvPr/>
        </p:nvSpPr>
        <p:spPr>
          <a:xfrm>
            <a:off x="3214800" y="1836720"/>
            <a:ext cx="289404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ma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5"/>
          <p:cNvSpPr/>
          <p:nvPr/>
        </p:nvSpPr>
        <p:spPr>
          <a:xfrm>
            <a:off x="3214800" y="2693880"/>
            <a:ext cx="301284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abbag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6"/>
          <p:cNvSpPr/>
          <p:nvPr/>
        </p:nvSpPr>
        <p:spPr>
          <a:xfrm>
            <a:off x="3745080" y="3490920"/>
            <a:ext cx="24825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p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7"/>
          <p:cNvSpPr/>
          <p:nvPr/>
        </p:nvSpPr>
        <p:spPr>
          <a:xfrm>
            <a:off x="3921120" y="4348080"/>
            <a:ext cx="212868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rr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8"/>
          <p:cNvSpPr/>
          <p:nvPr/>
        </p:nvSpPr>
        <p:spPr>
          <a:xfrm>
            <a:off x="3921120" y="5081760"/>
            <a:ext cx="20700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9"/>
          <p:cNvSpPr/>
          <p:nvPr/>
        </p:nvSpPr>
        <p:spPr>
          <a:xfrm>
            <a:off x="2857680" y="244440"/>
            <a:ext cx="331128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ucumb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Рисунок 20" descr="Potatoes.jpg"/>
          <p:cNvPicPr/>
          <p:nvPr/>
        </p:nvPicPr>
        <p:blipFill>
          <a:blip r:embed="rId8"/>
          <a:stretch/>
        </p:blipFill>
        <p:spPr>
          <a:xfrm>
            <a:off x="1201680" y="122400"/>
            <a:ext cx="1182600" cy="1225440"/>
          </a:xfrm>
          <a:prstGeom prst="rect">
            <a:avLst/>
          </a:prstGeom>
          <a:ln w="12600">
            <a:solidFill>
              <a:srgbClr val="e6892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73 -0.01547 L -0.32227 0.01151 E">
                                      <p:cBhvr>
                                        <p:cTn id="195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96 -0.02143 L -0.33204 -0.12064 E">
                                      <p:cBhvr>
                                        <p:cTn id="199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11 -0.00179 L -0.34181 -0.09187 E">
                                      <p:cBhvr>
                                        <p:cTn id="203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25 0.06646 L -0.34181 0.61547 E">
                                      <p:cBhvr>
                                        <p:cTn id="207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368 -0.06766 L 0.31308 -0.20258 E">
                                      <p:cBhvr>
                                        <p:cTn id="211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506 -0.02977 L 0.29368 -0.19167 E">
                                      <p:cBhvr>
                                        <p:cTn id="215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6 -0.0369 L 0.31969 -0.17202 E">
                                      <p:cBhvr>
                                        <p:cTn id="219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107 0.06449 L 0.34555 0.86548 E">
                                      <p:cBhvr>
                                        <p:cTn id="22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1"/>
          <p:cNvSpPr/>
          <p:nvPr/>
        </p:nvSpPr>
        <p:spPr>
          <a:xfrm>
            <a:off x="428760" y="214200"/>
            <a:ext cx="8358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a160b"/>
                </a:solidFill>
                <a:latin typeface="Arial"/>
              </a:rPr>
              <a:t>bones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a160b"/>
                </a:solidFill>
                <a:latin typeface="Arial"/>
              </a:rPr>
              <a:t>healthy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a160b"/>
                </a:solidFill>
                <a:latin typeface="Arial"/>
              </a:rPr>
              <a:t>skin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a160b"/>
                </a:solidFill>
                <a:latin typeface="Arial"/>
              </a:rPr>
              <a:t>skip a meal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a160b"/>
                </a:solidFill>
                <a:latin typeface="Arial"/>
              </a:rPr>
              <a:t>be rich in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2"/>
          <p:cNvSpPr/>
          <p:nvPr/>
        </p:nvSpPr>
        <p:spPr>
          <a:xfrm>
            <a:off x="214200" y="214200"/>
            <a:ext cx="87156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a160b"/>
                </a:solidFill>
                <a:latin typeface="Arial"/>
              </a:rPr>
              <a:t>bones  -</a:t>
            </a:r>
            <a:r>
              <a:rPr b="1" lang="uk-UA" sz="6000" spc="-1" strike="noStrike">
                <a:solidFill>
                  <a:srgbClr val="5a160b"/>
                </a:solidFill>
                <a:latin typeface="Arial"/>
              </a:rPr>
              <a:t> кіст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a160b"/>
                </a:solidFill>
                <a:latin typeface="Arial"/>
              </a:rPr>
              <a:t>healthy  </a:t>
            </a:r>
            <a:r>
              <a:rPr b="1" lang="uk-UA" sz="6000" spc="-1" strike="noStrike">
                <a:solidFill>
                  <a:srgbClr val="5a160b"/>
                </a:solidFill>
                <a:latin typeface="Arial"/>
              </a:rPr>
              <a:t>- здоров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a160b"/>
                </a:solidFill>
                <a:latin typeface="Arial"/>
              </a:rPr>
              <a:t>skin  </a:t>
            </a:r>
            <a:r>
              <a:rPr b="1" lang="uk-UA" sz="6000" spc="-1" strike="noStrike">
                <a:solidFill>
                  <a:srgbClr val="5a160b"/>
                </a:solidFill>
                <a:latin typeface="Arial"/>
              </a:rPr>
              <a:t>-  шкіра</a:t>
            </a:r>
            <a:r>
              <a:rPr b="1" lang="en-US" sz="6000" spc="-1" strike="noStrike">
                <a:solidFill>
                  <a:srgbClr val="5a160b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a160b"/>
                </a:solidFill>
                <a:latin typeface="Arial"/>
              </a:rPr>
              <a:t>skip a meal </a:t>
            </a:r>
            <a:r>
              <a:rPr b="1" lang="uk-UA" sz="5400" spc="-1" strike="noStrike">
                <a:solidFill>
                  <a:srgbClr val="5a160b"/>
                </a:solidFill>
                <a:latin typeface="Arial"/>
              </a:rPr>
              <a:t>-  пропустити прийом їж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a160b"/>
                </a:solidFill>
                <a:latin typeface="Arial"/>
              </a:rPr>
              <a:t>be rich in </a:t>
            </a:r>
            <a:r>
              <a:rPr b="1" lang="uk-UA" sz="6000" spc="-1" strike="noStrike">
                <a:solidFill>
                  <a:srgbClr val="5a160b"/>
                </a:solidFill>
                <a:latin typeface="Arial"/>
              </a:rPr>
              <a:t>-    бути    багатим н</a:t>
            </a: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74692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  </a:t>
            </a:r>
            <a:r>
              <a:rPr b="0" lang="en-US" sz="3000" spc="-1" strike="noStrike">
                <a:solidFill>
                  <a:srgbClr val="ff0066"/>
                </a:solidFill>
                <a:latin typeface="Century Schoolbook"/>
              </a:rPr>
              <a:t>TEXT FOR READ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6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Hi! My name is Jane. My favourite food is ice-cream. I can eat it every day. I also love chocolate, cakes and fruits. They are tasty. Apples and bananas are very nice. But I never eat the kiwifruit, because it is not sweet. Vegetables salads are OK. I eat them with rice and potatoes. But I don’t eat meat because I’m vegetarian. I usually drink a lot of juice and water. Orange juice is very nic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456840" y="285480"/>
            <a:ext cx="825804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ay what food Jane eats and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what food she doesn’t e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9a3d01"/>
                </a:solidFill>
                <a:latin typeface="Century Schoolbook"/>
              </a:rPr>
              <a:t>Chocolate</a:t>
            </a:r>
            <a:r>
              <a:rPr b="1" lang="en-US" sz="6000" spc="-1" strike="noStrike">
                <a:solidFill>
                  <a:srgbClr val="000000"/>
                </a:solidFill>
                <a:latin typeface="Century Schoolbook"/>
              </a:rPr>
              <a:t>   </a:t>
            </a:r>
            <a:r>
              <a:rPr b="1" lang="en-US" sz="6000" spc="-1" strike="noStrike">
                <a:solidFill>
                  <a:srgbClr val="ffc000"/>
                </a:solidFill>
                <a:latin typeface="Century Schoolbook"/>
              </a:rPr>
              <a:t>Bananas</a:t>
            </a:r>
            <a:br>
              <a:rPr sz="6000"/>
            </a:br>
            <a:r>
              <a:rPr b="1" lang="en-US" sz="6000" spc="-1" strike="noStrike">
                <a:solidFill>
                  <a:srgbClr val="862110"/>
                </a:solidFill>
                <a:latin typeface="Century Schoolbook"/>
              </a:rPr>
              <a:t>Cakes</a:t>
            </a:r>
            <a:r>
              <a:rPr b="1" lang="en-US" sz="6000" spc="-1" strike="noStrike">
                <a:solidFill>
                  <a:srgbClr val="000000"/>
                </a:solidFill>
                <a:latin typeface="Century Schoolbook"/>
              </a:rPr>
              <a:t>        </a:t>
            </a:r>
            <a:r>
              <a:rPr b="1" lang="en-US" sz="6000" spc="-1" strike="noStrike">
                <a:solidFill>
                  <a:srgbClr val="00b050"/>
                </a:solidFill>
                <a:latin typeface="Century Schoolbook"/>
              </a:rPr>
              <a:t>Kiwi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              </a:t>
            </a:r>
            <a:r>
              <a:rPr b="1" lang="en-US" sz="6600" spc="-1" strike="noStrike">
                <a:solidFill>
                  <a:srgbClr val="009900"/>
                </a:solidFill>
                <a:latin typeface="Century Schoolbook"/>
              </a:rPr>
              <a:t>Vegetable sala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6600" spc="-1" strike="noStrike">
                <a:solidFill>
                  <a:srgbClr val="e75c01"/>
                </a:solidFill>
                <a:latin typeface="Century Schoolbook"/>
              </a:rPr>
              <a:t>Fruit</a:t>
            </a:r>
            <a:r>
              <a:rPr b="1" lang="en-US" sz="6600" spc="-1" strike="noStrike">
                <a:solidFill>
                  <a:srgbClr val="000000"/>
                </a:solidFill>
                <a:latin typeface="Century Schoolbook"/>
              </a:rPr>
              <a:t>          </a:t>
            </a:r>
            <a:r>
              <a:rPr b="1" lang="en-US" sz="6600" spc="-1" strike="noStrike">
                <a:solidFill>
                  <a:srgbClr val="c00000"/>
                </a:solidFill>
                <a:latin typeface="Century Schoolbook"/>
              </a:rPr>
              <a:t>Me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en-US" sz="6600" spc="-1" strike="noStrike">
                <a:solidFill>
                  <a:srgbClr val="ff0000"/>
                </a:solidFill>
                <a:latin typeface="Century Schoolbook"/>
              </a:rPr>
              <a:t>Apple</a:t>
            </a:r>
            <a:r>
              <a:rPr b="1" lang="en-US" sz="6600" spc="-1" strike="noStrike">
                <a:solidFill>
                  <a:srgbClr val="000000"/>
                </a:solidFill>
                <a:latin typeface="Century Schoolbook"/>
              </a:rPr>
              <a:t>     </a:t>
            </a:r>
            <a:r>
              <a:rPr b="1" lang="en-US" sz="6600" spc="-1" strike="noStrike">
                <a:solidFill>
                  <a:srgbClr val="ffff00"/>
                </a:solidFill>
                <a:latin typeface="Century Schoolbook"/>
              </a:rPr>
              <a:t>Juice</a:t>
            </a: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                                   </a:t>
            </a:r>
            <a:r>
              <a:rPr b="1" lang="en-US" sz="6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7598d9"/>
                </a:solidFill>
                <a:latin typeface="Century Schoolbook"/>
              </a:rPr>
              <a:t>  </a:t>
            </a:r>
            <a:r>
              <a:rPr b="1" lang="en-US" sz="7200" spc="-1" strike="noStrike">
                <a:solidFill>
                  <a:srgbClr val="7598d9"/>
                </a:solidFill>
                <a:latin typeface="Century Schoolbook"/>
              </a:rPr>
              <a:t>Ice-cream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935160" y="328680"/>
            <a:ext cx="3477960" cy="5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entury Schoolbook"/>
              </a:rPr>
              <a:t>DIALOGUE: </a:t>
            </a:r>
            <a:r>
              <a:rPr b="1" lang="en-US" sz="1700" spc="-1" strike="noStrike">
                <a:solidFill>
                  <a:srgbClr val="00cc00"/>
                </a:solidFill>
                <a:latin typeface="Century Schoolbook"/>
              </a:rPr>
              <a:t>Let’s have lunch!</a:t>
            </a:r>
            <a:endParaRPr b="0" lang="en-US" sz="1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228600" y="228600"/>
          <a:ext cx="3352680" cy="508788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entury Schoolbook"/>
                        </a:rPr>
                        <a:t>- I’m sorry. I don’t like porridge. I would like some tea and a sandwic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- Good afternoon, …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- Good. Take your sandwich and t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entury Schoolbook"/>
                        </a:rPr>
                        <a:t>- Good afternoon, mum! I am hung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entury Schoolbook"/>
                        </a:rPr>
                        <a:t>- Thank yo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- Would you like some porridg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Text Box 112"/>
          <p:cNvSpPr/>
          <p:nvPr/>
        </p:nvSpPr>
        <p:spPr>
          <a:xfrm>
            <a:off x="3886200" y="1071720"/>
            <a:ext cx="3581280" cy="48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ood afternoon, …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- Good afternoon, mum! I am hung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- Would you like some porrid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- I’m sorry. I don’t like porridge. I would like some tea and a sandw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- Good. Take your sandwich and t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"/>
          <p:cNvPicPr/>
          <p:nvPr/>
        </p:nvPicPr>
        <p:blipFill>
          <a:blip r:embed="rId1"/>
          <a:stretch/>
        </p:blipFill>
        <p:spPr>
          <a:xfrm>
            <a:off x="6781680" y="5288040"/>
            <a:ext cx="2362320" cy="156996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29" descr="Описание: http://www.cimus.ru/i/catalog/big/502.jpg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8" descr="Описание: http://www.beingdiabetic.co.nz/images/2010/porridge.jpg"/>
          <p:cNvPicPr/>
          <p:nvPr/>
        </p:nvPicPr>
        <p:blipFill>
          <a:blip r:embed="rId3"/>
          <a:stretch/>
        </p:blipFill>
        <p:spPr>
          <a:xfrm>
            <a:off x="7224840" y="3048120"/>
            <a:ext cx="1919160" cy="1622160"/>
          </a:xfrm>
          <a:prstGeom prst="rect">
            <a:avLst/>
          </a:prstGeom>
          <a:ln w="0">
            <a:noFill/>
          </a:ln>
        </p:spPr>
      </p:pic>
      <p:sp>
        <p:nvSpPr>
          <p:cNvPr id="437" name="Номер слайда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82F1-CDED-47C6-904A-43E07EF61FA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38088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haroni"/>
                <a:ea typeface="Aharoni"/>
              </a:rPr>
              <a:t>            </a:t>
            </a:r>
            <a:r>
              <a:rPr b="1" lang="en-US" sz="3400" spc="-1" strike="noStrike">
                <a:solidFill>
                  <a:srgbClr val="006600"/>
                </a:solidFill>
                <a:latin typeface="Aharoni"/>
                <a:ea typeface="Aharoni"/>
              </a:rPr>
              <a:t>Answer the questions</a:t>
            </a: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4300" spc="-1" strike="noStrike">
                <a:solidFill>
                  <a:srgbClr val="ff00ff"/>
                </a:solidFill>
                <a:latin typeface="Comic Sans MS"/>
              </a:rPr>
              <a:t>Do you like</a:t>
            </a:r>
            <a:r>
              <a:rPr b="1" lang="en-US" sz="4300" spc="-1" strike="noStrike">
                <a:solidFill>
                  <a:srgbClr val="ff00ff"/>
                </a:solidFill>
                <a:latin typeface="Century Schoolbook"/>
              </a:rPr>
              <a:t>…</a:t>
            </a:r>
            <a:r>
              <a:rPr b="1" lang="en-US" sz="4300" spc="-1" strike="noStrike">
                <a:solidFill>
                  <a:srgbClr val="ff00ff"/>
                </a:solidFill>
                <a:latin typeface="Comic Sans MS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33520" y="403848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Yes, I 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4952880" y="40384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Comic Sans MS"/>
              </a:rPr>
              <a:t>No, I do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5"/>
          <p:cNvSpPr/>
          <p:nvPr/>
        </p:nvSpPr>
        <p:spPr>
          <a:xfrm flipH="1">
            <a:off x="1676160" y="1981080"/>
            <a:ext cx="2361960" cy="19814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"/>
          <p:cNvSpPr/>
          <p:nvPr/>
        </p:nvSpPr>
        <p:spPr>
          <a:xfrm>
            <a:off x="4114800" y="1981080"/>
            <a:ext cx="2362320" cy="20574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83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Century Schoolbook"/>
              </a:rPr>
              <a:t>SHOPS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987120" y="1484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Green sho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Sweet sho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0" name="Picture 2" descr="C:\Users\днс\Downloads\i (3).jpg"/>
          <p:cNvPicPr/>
          <p:nvPr/>
        </p:nvPicPr>
        <p:blipFill>
          <a:blip r:embed="rId1"/>
          <a:stretch/>
        </p:blipFill>
        <p:spPr>
          <a:xfrm>
            <a:off x="468360" y="1916280"/>
            <a:ext cx="2306520" cy="16333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C:\Users\днс\Downloads\i (6).jpg"/>
          <p:cNvPicPr/>
          <p:nvPr/>
        </p:nvPicPr>
        <p:blipFill>
          <a:blip r:embed="rId2"/>
          <a:stretch/>
        </p:blipFill>
        <p:spPr>
          <a:xfrm>
            <a:off x="1935000" y="2222640"/>
            <a:ext cx="2441880" cy="18000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C:\Users\днс\Downloads\i (11).jpg"/>
          <p:cNvPicPr/>
          <p:nvPr/>
        </p:nvPicPr>
        <p:blipFill>
          <a:blip r:embed="rId3"/>
          <a:stretch/>
        </p:blipFill>
        <p:spPr>
          <a:xfrm>
            <a:off x="5580000" y="907920"/>
            <a:ext cx="3191040" cy="23590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C:\Users\днс\Downloads\i (19).jpg"/>
          <p:cNvPicPr/>
          <p:nvPr/>
        </p:nvPicPr>
        <p:blipFill>
          <a:blip r:embed="rId4"/>
          <a:stretch/>
        </p:blipFill>
        <p:spPr>
          <a:xfrm>
            <a:off x="971640" y="4797360"/>
            <a:ext cx="2549520" cy="14288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C:\Users\днс\Downloads\i (29).jpg"/>
          <p:cNvPicPr/>
          <p:nvPr/>
        </p:nvPicPr>
        <p:blipFill>
          <a:blip r:embed="rId5"/>
          <a:stretch/>
        </p:blipFill>
        <p:spPr>
          <a:xfrm>
            <a:off x="4732200" y="4041720"/>
            <a:ext cx="3584880" cy="2184480"/>
          </a:xfrm>
          <a:prstGeom prst="rect">
            <a:avLst/>
          </a:prstGeom>
          <a:ln w="0">
            <a:noFill/>
          </a:ln>
        </p:spPr>
      </p:pic>
      <p:sp>
        <p:nvSpPr>
          <p:cNvPr id="445" name="TextBox 4"/>
          <p:cNvSpPr/>
          <p:nvPr/>
        </p:nvSpPr>
        <p:spPr>
          <a:xfrm>
            <a:off x="5580000" y="563400"/>
            <a:ext cx="26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White 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5"/>
          <p:cNvSpPr/>
          <p:nvPr/>
        </p:nvSpPr>
        <p:spPr>
          <a:xfrm>
            <a:off x="4768920" y="3592440"/>
            <a:ext cx="40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School 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00"/>
                </a:solidFill>
                <a:latin typeface="Century Schoolbook"/>
              </a:rPr>
              <a:t>            </a:t>
            </a:r>
            <a:r>
              <a:rPr b="1" lang="en-US" sz="2600" spc="-1" strike="noStrike">
                <a:solidFill>
                  <a:srgbClr val="00cc00"/>
                </a:solidFill>
                <a:latin typeface="Century Schoolbook"/>
              </a:rPr>
              <a:t>When do we go to the shop?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Schoolbook"/>
              </a:rPr>
              <a:t>On Sunda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 go to the … Shop and buy …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Schoolbook"/>
              </a:rPr>
              <a:t>On Monda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 go to the … Shop and buy …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Schoolbook"/>
              </a:rPr>
              <a:t>On Tuesda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 go to the … Shop and buy …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Schoolbook"/>
              </a:rPr>
              <a:t>On Wednesda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 go to the … Shop and buy …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Schoolbook"/>
              </a:rPr>
              <a:t>On Thursda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 go to the … Shop and buy …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Schoolbook"/>
              </a:rPr>
              <a:t>On Frida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 go to the … Shop and buy …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Schoolbook"/>
              </a:rPr>
              <a:t>On Saturda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 go to the … Shop and buy …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228600" y="4343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The Green Shop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e Sweet Shop,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The White Sho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The School Shop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Номер слайда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6014-4391-470B-85C5-300F183273C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entury Schoolbook"/>
              </a:rPr>
              <a:t>MENU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entury Schoolbook"/>
              </a:rPr>
              <a:t>Sunday-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entury Schoolbook"/>
              </a:rPr>
              <a:t>Monday-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entury Schoolbook"/>
              </a:rPr>
              <a:t>Tuesday-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entury Schoolbook"/>
              </a:rPr>
              <a:t>Wednesday-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entury Schoolbook"/>
              </a:rPr>
              <a:t>Thursday-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entury Schoolbook"/>
              </a:rPr>
              <a:t>Friday-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entury Schoolbook"/>
              </a:rPr>
              <a:t>Saturday-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2" descr="C:\Users\днс\Downloads\i (1).jpg"/>
          <p:cNvPicPr/>
          <p:nvPr/>
        </p:nvPicPr>
        <p:blipFill>
          <a:blip r:embed="rId1"/>
          <a:stretch/>
        </p:blipFill>
        <p:spPr>
          <a:xfrm>
            <a:off x="4334040" y="5251320"/>
            <a:ext cx="1447560" cy="14288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" descr="C:\Users\днс\Downloads\Food_Meat_and_barbecue_Ham_012323_.jpg"/>
          <p:cNvPicPr/>
          <p:nvPr/>
        </p:nvPicPr>
        <p:blipFill>
          <a:blip r:embed="rId2"/>
          <a:stretch/>
        </p:blipFill>
        <p:spPr>
          <a:xfrm>
            <a:off x="755640" y="260280"/>
            <a:ext cx="2478240" cy="1224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" descr="C:\Users\днс\Downloads\i (3).jpg"/>
          <p:cNvPicPr/>
          <p:nvPr/>
        </p:nvPicPr>
        <p:blipFill>
          <a:blip r:embed="rId3"/>
          <a:stretch/>
        </p:blipFill>
        <p:spPr>
          <a:xfrm>
            <a:off x="6732720" y="1720800"/>
            <a:ext cx="2019240" cy="14288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" descr="C:\Users\днс\Downloads\i (6).jpg"/>
          <p:cNvPicPr/>
          <p:nvPr/>
        </p:nvPicPr>
        <p:blipFill>
          <a:blip r:embed="rId4"/>
          <a:stretch/>
        </p:blipFill>
        <p:spPr>
          <a:xfrm>
            <a:off x="5048280" y="693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6" descr="C:\Users\днс\Downloads\i (11).jpg"/>
          <p:cNvPicPr/>
          <p:nvPr/>
        </p:nvPicPr>
        <p:blipFill>
          <a:blip r:embed="rId5"/>
          <a:stretch/>
        </p:blipFill>
        <p:spPr>
          <a:xfrm>
            <a:off x="3876840" y="3822840"/>
            <a:ext cx="2038320" cy="1428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7" descr="C:\Users\днс\Downloads\i (17).jpg"/>
          <p:cNvPicPr/>
          <p:nvPr/>
        </p:nvPicPr>
        <p:blipFill>
          <a:blip r:embed="rId6"/>
          <a:stretch/>
        </p:blipFill>
        <p:spPr>
          <a:xfrm>
            <a:off x="3876840" y="2205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8" descr="C:\Users\днс\Downloads\i (19).jpg"/>
          <p:cNvPicPr/>
          <p:nvPr/>
        </p:nvPicPr>
        <p:blipFill>
          <a:blip r:embed="rId7"/>
          <a:stretch/>
        </p:blipFill>
        <p:spPr>
          <a:xfrm>
            <a:off x="6300720" y="31082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9" descr="C:\Users\днс\Downloads\i (21).jpg"/>
          <p:cNvPicPr/>
          <p:nvPr/>
        </p:nvPicPr>
        <p:blipFill>
          <a:blip r:embed="rId8"/>
          <a:stretch/>
        </p:blipFill>
        <p:spPr>
          <a:xfrm>
            <a:off x="6477120" y="5544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0" descr="C:\Users\днс\Downloads\imgpreview.jpg"/>
          <p:cNvPicPr/>
          <p:nvPr/>
        </p:nvPicPr>
        <p:blipFill>
          <a:blip r:embed="rId9"/>
          <a:stretch/>
        </p:blipFill>
        <p:spPr>
          <a:xfrm>
            <a:off x="6515280" y="4869000"/>
            <a:ext cx="2104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196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66"/>
                </a:solidFill>
                <a:latin typeface="Century Schoolbook"/>
              </a:rPr>
              <a:t>AN  APPLE  A  DAY </a:t>
            </a:r>
            <a:br>
              <a:rPr sz="3000"/>
            </a:br>
            <a:r>
              <a:rPr b="0" i="1" lang="en-US" sz="3000" spc="-1" strike="noStrike">
                <a:solidFill>
                  <a:srgbClr val="ff0066"/>
                </a:solidFill>
                <a:latin typeface="Century Schoolbook"/>
              </a:rPr>
              <a:t>KEEPS  THE  DOCTORS  AWA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3" name="Содержимое 14" descr="diatez-3.jpg"/>
          <p:cNvPicPr/>
          <p:nvPr/>
        </p:nvPicPr>
        <p:blipFill>
          <a:blip r:embed="rId1"/>
          <a:stretch/>
        </p:blipFill>
        <p:spPr>
          <a:xfrm>
            <a:off x="2124000" y="2492280"/>
            <a:ext cx="5113440" cy="39610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"/>
          <p:cNvPicPr/>
          <p:nvPr/>
        </p:nvPicPr>
        <p:blipFill>
          <a:blip r:embed="rId2"/>
          <a:stretch/>
        </p:blipFill>
        <p:spPr>
          <a:xfrm>
            <a:off x="214200" y="4429080"/>
            <a:ext cx="2016360" cy="22050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6" descr=""/>
          <p:cNvPicPr/>
          <p:nvPr/>
        </p:nvPicPr>
        <p:blipFill>
          <a:blip r:embed="rId3"/>
          <a:stretch/>
        </p:blipFill>
        <p:spPr>
          <a:xfrm>
            <a:off x="285840" y="-142920"/>
            <a:ext cx="2016000" cy="2205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" descr=""/>
          <p:cNvPicPr/>
          <p:nvPr/>
        </p:nvPicPr>
        <p:blipFill>
          <a:blip r:embed="rId4"/>
          <a:stretch/>
        </p:blipFill>
        <p:spPr>
          <a:xfrm>
            <a:off x="6715080" y="0"/>
            <a:ext cx="2016000" cy="22050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"/>
          <p:cNvPicPr/>
          <p:nvPr/>
        </p:nvPicPr>
        <p:blipFill>
          <a:blip r:embed="rId5"/>
          <a:stretch/>
        </p:blipFill>
        <p:spPr>
          <a:xfrm>
            <a:off x="6858000" y="4429080"/>
            <a:ext cx="2016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8229600" cy="10080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Do you like</a:t>
            </a:r>
            <a:r>
              <a:rPr b="1" lang="en-US" sz="43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Объект 6" descr=""/>
          <p:cNvPicPr/>
          <p:nvPr/>
        </p:nvPicPr>
        <p:blipFill>
          <a:blip r:embed="rId1"/>
          <a:stretch/>
        </p:blipFill>
        <p:spPr>
          <a:xfrm>
            <a:off x="1382760" y="2205000"/>
            <a:ext cx="637848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457200" y="620640"/>
            <a:ext cx="8229600" cy="1079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Do you like</a:t>
            </a:r>
            <a:r>
              <a:rPr b="1" lang="en-US" sz="43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3" descr="yabloko_300"/>
          <p:cNvPicPr/>
          <p:nvPr/>
        </p:nvPicPr>
        <p:blipFill>
          <a:blip r:embed="rId1"/>
          <a:stretch/>
        </p:blipFill>
        <p:spPr>
          <a:xfrm>
            <a:off x="1905120" y="1905120"/>
            <a:ext cx="49528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457200" y="692280"/>
            <a:ext cx="8229600" cy="1008000"/>
          </a:xfrm>
          <a:prstGeom prst="rect">
            <a:avLst/>
          </a:prstGeom>
          <a:solidFill>
            <a:srgbClr val="f54e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Do you like</a:t>
            </a:r>
            <a:r>
              <a:rPr b="1" lang="en-US" sz="43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Рисунок 4" descr="000655.1.jpg"/>
          <p:cNvPicPr/>
          <p:nvPr/>
        </p:nvPicPr>
        <p:blipFill>
          <a:blip r:embed="rId1"/>
          <a:stretch/>
        </p:blipFill>
        <p:spPr>
          <a:xfrm>
            <a:off x="2484360" y="2205000"/>
            <a:ext cx="3786120" cy="32860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457200" y="620640"/>
            <a:ext cx="82296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Do you like</a:t>
            </a:r>
            <a:r>
              <a:rPr b="1" lang="en-US" sz="43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0d5448081afec6821ed6dabc0d9231e3"/>
          <p:cNvPicPr/>
          <p:nvPr/>
        </p:nvPicPr>
        <p:blipFill>
          <a:blip r:embed="rId1"/>
          <a:stretch/>
        </p:blipFill>
        <p:spPr>
          <a:xfrm>
            <a:off x="2971800" y="2133720"/>
            <a:ext cx="31417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457200" y="476280"/>
            <a:ext cx="8229600" cy="895320"/>
          </a:xfrm>
          <a:prstGeom prst="rect">
            <a:avLst/>
          </a:prstGeom>
          <a:solidFill>
            <a:srgbClr val="ecaa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Do you like</a:t>
            </a:r>
            <a:r>
              <a:rPr b="1" lang="en-US" sz="43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?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" descr="366"/>
          <p:cNvPicPr/>
          <p:nvPr/>
        </p:nvPicPr>
        <p:blipFill>
          <a:blip r:embed="rId1"/>
          <a:stretch/>
        </p:blipFill>
        <p:spPr>
          <a:xfrm>
            <a:off x="3352680" y="1447920"/>
            <a:ext cx="3032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260280"/>
            <a:ext cx="8229600" cy="1111320"/>
          </a:xfrm>
          <a:prstGeom prst="rect">
            <a:avLst/>
          </a:prstGeom>
          <a:solidFill>
            <a:srgbClr val="fea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Do you like</a:t>
            </a:r>
            <a:r>
              <a:rPr b="1" lang="en-US" sz="43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pic4"/>
          <p:cNvPicPr/>
          <p:nvPr/>
        </p:nvPicPr>
        <p:blipFill>
          <a:blip r:embed="rId1"/>
          <a:stretch/>
        </p:blipFill>
        <p:spPr>
          <a:xfrm>
            <a:off x="2514600" y="1981080"/>
            <a:ext cx="34830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549360"/>
            <a:ext cx="8229600" cy="1008000"/>
          </a:xfrm>
          <a:prstGeom prst="rect">
            <a:avLst/>
          </a:prstGeom>
          <a:solidFill>
            <a:srgbClr val="d55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Do you like</a:t>
            </a:r>
            <a:r>
              <a:rPr b="1" lang="en-US" sz="43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3" descr="1186774621_br00002"/>
          <p:cNvPicPr/>
          <p:nvPr/>
        </p:nvPicPr>
        <p:blipFill>
          <a:blip r:embed="rId1"/>
          <a:stretch/>
        </p:blipFill>
        <p:spPr>
          <a:xfrm>
            <a:off x="1371600" y="2057400"/>
            <a:ext cx="617220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3:22:43Z</dcterms:created>
  <dc:creator>днс</dc:creator>
  <dc:description/>
  <dc:language>en-US</dc:language>
  <cp:lastModifiedBy>zzz</cp:lastModifiedBy>
  <dcterms:modified xsi:type="dcterms:W3CDTF">2018-01-21T11:46:30Z</dcterms:modified>
  <cp:revision>47</cp:revision>
  <dc:subject/>
  <dc:title>Food</dc:title>
</cp:coreProperties>
</file>