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7CF1-2694-4DC1-9CE0-12077A075F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6AE3-1C7C-44E8-B8A1-2BE0EBFE3FB1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C042-A653-409A-9567-275263DA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C2C-16E0-41AC-9E50-FD8134BB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7AB8-A937-435A-A806-6029DA85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569-975B-44C9-A51C-233EA9BE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AA86-1DD3-42C2-9E4D-C5331DB2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955B-5569-4980-A23F-28A26AEF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8FB0-126D-45B0-BB19-B6021A45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A619-F41D-4B73-9169-E72F5054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60FA-FEB0-445D-B431-416D78FF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B68C-214A-4410-A8EF-937C44D7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2931-A4EE-42B4-B21F-99682E39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A46-5490-44F7-9EB5-89201245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F9EE-9112-4257-9E00-AB216E84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9013-72D2-471B-804E-7854A839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9FA6-A0F2-4492-AC96-421C32B9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C9CE-CCF0-4CD0-88B1-362C0D29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24F3-56D5-47E0-8BEF-1FBD4790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C6CD7-5D28-46C5-8C13-510D037B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A6B55-6A17-458E-A7C7-CE562C2F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4548-3709-4BFC-9CE1-D4E1E2F7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E3F52-34A2-4910-BE89-6C4A8E15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A818A-8E34-41C8-9970-D796F70E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EFD-F56F-43CD-BF61-C5F1A7A6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6BC5F-072F-44BF-918F-E806F23F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38CD6-CEB8-4478-AD27-62B50EE7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52199-3613-4ACD-9655-CBE5C82A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B0A71-1482-4582-AE01-C14FC871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18791-343D-49D6-8197-0175DF1B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5722D-38C0-498D-9D2E-CEB5BF9D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61C50-AE38-4176-A98D-8E2314E9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2CE47-73BA-4E48-9EBD-E4290D3C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0C106-A9F8-4204-8902-8F770714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C69CC-8993-4670-9E06-6703D721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66D-0624-4589-8E15-0E10A1D4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5FC84-908F-4D6F-A6D6-EFDB02B3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6C8B5-5D32-4865-9FB8-C250C6EF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47F40-4939-4982-AAEE-3C6E27B0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1D57D-E131-44A4-89B2-B0A1DA98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882FF-6C1A-4FFD-85D0-D6CB6433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E2631-C2E6-429D-BDC9-E3C369F0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73E50-BEDA-43B0-9641-02E24EC6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0F614-9F96-48AC-97FC-30865A8D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F9632-FC5D-46E0-980B-1F5632CC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AF0F-EBF8-417C-A9F9-1BF8A502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C4F8-EDF6-40DB-B1D0-F25AE75F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2D3-232F-4B1E-B95A-00FE163F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279-8257-4210-B3B1-5BE00BFF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535-7CA4-4940-AEEC-8C5F8507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FF5E-3589-49C2-B279-B283DF1F6C5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38D7-720D-4951-AA02-FBD85DB12A6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C69F-8152-4EAD-BB72-068B0262AD9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0066-1919-4C83-B3B3-05E18B0AFC3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Прямоугольник 4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461360" cy="920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219640" y="4292280"/>
            <a:ext cx="28288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ознавство 1 клас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читель початкових класів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сенко Л.В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90c226"/>
                </a:solidFill>
                <a:latin typeface="Trebuchet MS"/>
              </a:rPr>
              <a:t>       </a:t>
            </a:r>
            <a:r>
              <a:rPr b="1" lang="uk-UA" sz="3600" spc="-1" strike="noStrike">
                <a:solidFill>
                  <a:srgbClr val="90c226"/>
                </a:solidFill>
                <a:latin typeface="Trebuchet MS"/>
              </a:rPr>
              <a:t>Одомашнення риби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13880" y="1447920"/>
            <a:ext cx="4002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Короп, якого людина розводить штучно, походить від </a:t>
            </a: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сазана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Різноманітні породи золотих рибок виведено в Китаї від сріблястого карася майже 5 тис. років тому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Рисунок 3" descr="sazan.jpg"/>
          <p:cNvPicPr/>
          <p:nvPr/>
        </p:nvPicPr>
        <p:blipFill>
          <a:blip r:embed="rId1"/>
          <a:stretch/>
        </p:blipFill>
        <p:spPr>
          <a:xfrm>
            <a:off x="5572080" y="1428840"/>
            <a:ext cx="3073320" cy="148572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4" descr="ab691bff14d2.jpg"/>
          <p:cNvPicPr/>
          <p:nvPr/>
        </p:nvPicPr>
        <p:blipFill>
          <a:blip r:embed="rId2"/>
          <a:stretch/>
        </p:blipFill>
        <p:spPr>
          <a:xfrm>
            <a:off x="5357880" y="3429000"/>
            <a:ext cx="2643120" cy="2290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95440" y="-100440"/>
            <a:ext cx="6346800" cy="34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400" spc="-1" strike="noStrike">
                <a:solidFill>
                  <a:srgbClr val="90c226"/>
                </a:solidFill>
                <a:latin typeface="Trebuchet MS"/>
              </a:rPr>
              <a:t>         </a:t>
            </a:r>
            <a:r>
              <a:rPr b="0" lang="uk-UA" sz="4400" spc="-1" strike="noStrike">
                <a:solidFill>
                  <a:srgbClr val="90c226"/>
                </a:solidFill>
                <a:latin typeface="Trebuchet MS"/>
              </a:rPr>
              <a:t>Висновок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93280" y="549000"/>
            <a:ext cx="634860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Деякий час по тому, коли почалася посуха, і тварини, гнані жаданням, увійшли до поселе- ння людей в пошуках води, почалося твари- нництво. Первісна людина зрозуміла, що роз- водити тварин набагато легше, ніж, розрахо- вуючи  тільки удачу, ходити на полюванн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19000" y="76500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90c226"/>
                </a:solidFill>
                <a:latin typeface="Trebuchet MS"/>
              </a:rPr>
              <a:t>     </a:t>
            </a:r>
            <a:r>
              <a:rPr b="1" lang="uk-UA" sz="3600" spc="-1" strike="noStrike">
                <a:solidFill>
                  <a:srgbClr val="90c226"/>
                </a:solidFill>
                <a:latin typeface="Trebuchet MS"/>
              </a:rPr>
              <a:t>Одомашнення – що це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78920" y="1550880"/>
            <a:ext cx="818676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Люди вже в давнину зрозуміли, що без допомоги тварин жити їм буде дуже важко. Тому й вирішил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приручи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 диких звірі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7624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90c226"/>
                </a:solidFill>
                <a:latin typeface="Trebuchet MS"/>
              </a:rPr>
              <a:t>       </a:t>
            </a:r>
            <a:r>
              <a:rPr b="1" lang="uk-UA" sz="3600" spc="-1" strike="noStrike">
                <a:solidFill>
                  <a:srgbClr val="90c226"/>
                </a:solidFill>
                <a:latin typeface="Trebuchet MS"/>
              </a:rPr>
              <a:t>Одомашнення собак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571480" y="1557360"/>
            <a:ext cx="36558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Одним із перших був приручений собака, якого людина спочатку використовувала для захисту і як помічника на полюванні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Вважають, що  предка- ми собаки були деякі види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вовків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Рисунок 4" descr="41713059_3013.jpg"/>
          <p:cNvPicPr/>
          <p:nvPr/>
        </p:nvPicPr>
        <p:blipFill>
          <a:blip r:embed="rId1"/>
          <a:stretch/>
        </p:blipFill>
        <p:spPr>
          <a:xfrm>
            <a:off x="500040" y="2214720"/>
            <a:ext cx="1809720" cy="27144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5" descr="26.jpg"/>
          <p:cNvPicPr/>
          <p:nvPr/>
        </p:nvPicPr>
        <p:blipFill>
          <a:blip r:embed="rId2"/>
          <a:stretch/>
        </p:blipFill>
        <p:spPr>
          <a:xfrm>
            <a:off x="6643800" y="3571920"/>
            <a:ext cx="207144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90c226"/>
                </a:solidFill>
                <a:latin typeface="Trebuchet MS"/>
              </a:rPr>
              <a:t>      </a:t>
            </a:r>
            <a:r>
              <a:rPr b="1" lang="uk-UA" sz="3600" spc="-1" strike="noStrike">
                <a:solidFill>
                  <a:srgbClr val="90c226"/>
                </a:solidFill>
                <a:latin typeface="Trebuchet MS"/>
              </a:rPr>
              <a:t>Одомашнення коней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8360" y="115416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Дикий предок домашніх коней – </a:t>
            </a: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тарпан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Останній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тарпан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 був знищений у 1814 р. на території сучасної Росії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0" name="Picture 5" descr="Тарпан"/>
          <p:cNvPicPr/>
          <p:nvPr/>
        </p:nvPicPr>
        <p:blipFill>
          <a:blip r:embed="rId1"/>
          <a:stretch/>
        </p:blipFill>
        <p:spPr>
          <a:xfrm>
            <a:off x="5072040" y="3571920"/>
            <a:ext cx="2868480" cy="2293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Владимирская"/>
          <p:cNvPicPr/>
          <p:nvPr/>
        </p:nvPicPr>
        <p:blipFill>
          <a:blip r:embed="rId2"/>
          <a:stretch/>
        </p:blipFill>
        <p:spPr>
          <a:xfrm flipH="1" rot="21573000">
            <a:off x="1009080" y="3726000"/>
            <a:ext cx="2895480" cy="2557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90c226"/>
                </a:solidFill>
                <a:latin typeface="Trebuchet MS"/>
              </a:rPr>
              <a:t>Одомашнення великої рогатої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42960" y="1447560"/>
            <a:ext cx="804384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Диким предком великої рогатої худоби був </a:t>
            </a: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тур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 — велика тварина, з важкою головою, довгими розвиненими рогами, високими, міцними кінцівками, що відзначався великою силою, швидкістю, злим норовом. Він досягав живої маси 800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-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 1200 кг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Тур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 був одомашнений в Греції. Остання самка тура б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у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ла вбита в 1624 р. в Польщ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Picture 4" descr="Ярославская"/>
          <p:cNvPicPr/>
          <p:nvPr/>
        </p:nvPicPr>
        <p:blipFill>
          <a:blip r:embed="rId1"/>
          <a:stretch/>
        </p:blipFill>
        <p:spPr>
          <a:xfrm>
            <a:off x="5786280" y="4714920"/>
            <a:ext cx="2846520" cy="1593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Тур"/>
          <p:cNvPicPr/>
          <p:nvPr/>
        </p:nvPicPr>
        <p:blipFill>
          <a:blip r:embed="rId2"/>
          <a:stretch/>
        </p:blipFill>
        <p:spPr>
          <a:xfrm flipH="1" rot="21064200">
            <a:off x="2890800" y="4844880"/>
            <a:ext cx="2714760" cy="1554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90c226"/>
                </a:solidFill>
                <a:latin typeface="Trebuchet MS"/>
              </a:rPr>
              <a:t>    </a:t>
            </a:r>
            <a:r>
              <a:rPr b="1" lang="uk-UA" sz="3600" spc="-1" strike="noStrike">
                <a:solidFill>
                  <a:srgbClr val="90c226"/>
                </a:solidFill>
                <a:latin typeface="Trebuchet MS"/>
              </a:rPr>
              <a:t>Одомашнення свиней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56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Родоначальниками домашніх свиней були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дикі кабани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кількох видів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Picture 5" descr="Кабан"/>
          <p:cNvPicPr/>
          <p:nvPr/>
        </p:nvPicPr>
        <p:blipFill>
          <a:blip r:embed="rId1"/>
          <a:stretch/>
        </p:blipFill>
        <p:spPr>
          <a:xfrm>
            <a:off x="5143680" y="3714840"/>
            <a:ext cx="3078000" cy="2211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Крупная белая"/>
          <p:cNvPicPr/>
          <p:nvPr/>
        </p:nvPicPr>
        <p:blipFill>
          <a:blip r:embed="rId2"/>
          <a:stretch/>
        </p:blipFill>
        <p:spPr>
          <a:xfrm flipH="1" rot="21462000">
            <a:off x="785160" y="3419640"/>
            <a:ext cx="3178080" cy="1578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90c226"/>
                </a:solidFill>
                <a:latin typeface="Trebuchet MS"/>
              </a:rPr>
              <a:t>Приручення малої рогатої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4240" y="1447920"/>
            <a:ext cx="7972560" cy="27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Одним із перших об'єктів тваринництва були вівці й кози. </a:t>
            </a: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Гірські кози 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– предки свійських кіз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Родоначальником всіх сучасних порід овець вважають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муфлон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 – різновид гірського барана архар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Picture 5" descr="Scan0002"/>
          <p:cNvPicPr/>
          <p:nvPr/>
        </p:nvPicPr>
        <p:blipFill>
          <a:blip r:embed="rId1"/>
          <a:stretch/>
        </p:blipFill>
        <p:spPr>
          <a:xfrm>
            <a:off x="5424480" y="3929040"/>
            <a:ext cx="2314440" cy="2379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Меринос"/>
          <p:cNvPicPr/>
          <p:nvPr/>
        </p:nvPicPr>
        <p:blipFill>
          <a:blip r:embed="rId2"/>
          <a:stretch/>
        </p:blipFill>
        <p:spPr>
          <a:xfrm>
            <a:off x="1785960" y="4286160"/>
            <a:ext cx="2448000" cy="2059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90c226"/>
                </a:solidFill>
                <a:latin typeface="Trebuchet MS"/>
              </a:rPr>
              <a:t>         </a:t>
            </a:r>
            <a:r>
              <a:rPr b="1" lang="uk-UA" sz="3600" spc="-1" strike="noStrike">
                <a:solidFill>
                  <a:srgbClr val="90c226"/>
                </a:solidFill>
                <a:latin typeface="Trebuchet MS"/>
              </a:rPr>
              <a:t>Приручення котів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680" y="1447920"/>
            <a:ext cx="8115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Предок свійських котів - </a:t>
            </a: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дика африканська кішка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.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4000 років тому в Єгипті вперше дикі кішки прийшли до людини. Це сталося після того, як єгиптяни стали хлібо- робами. Люди збирали великі врожаї зерна. Під час зберігання запасів з'явилася проблема: туди забира-         лися гризуни і поїдали зерно. Одного разу дика кішка піддалася спокусі і прийшла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на мишачий бенкет. Так люди з кішками і почали взаємодіяти.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4" descr="1279882116.png"/>
          <p:cNvPicPr/>
          <p:nvPr/>
        </p:nvPicPr>
        <p:blipFill>
          <a:blip r:embed="rId1"/>
          <a:stretch/>
        </p:blipFill>
        <p:spPr>
          <a:xfrm>
            <a:off x="3276720" y="4869000"/>
            <a:ext cx="2365200" cy="1852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90c226"/>
                </a:solidFill>
                <a:latin typeface="Trebuchet MS"/>
              </a:rPr>
              <a:t>      </a:t>
            </a:r>
            <a:r>
              <a:rPr b="1" lang="uk-UA" sz="3600" spc="-1" strike="noStrike">
                <a:solidFill>
                  <a:srgbClr val="90c226"/>
                </a:solidFill>
                <a:latin typeface="Trebuchet MS"/>
              </a:rPr>
              <a:t>Одомашнення птахів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13880" y="1447560"/>
            <a:ext cx="471492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Свійські кури походять від </a:t>
            </a: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диких курей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Verdana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Рисунок 3" descr="187.jpg"/>
          <p:cNvPicPr/>
          <p:nvPr/>
        </p:nvPicPr>
        <p:blipFill>
          <a:blip r:embed="rId1"/>
          <a:stretch/>
        </p:blipFill>
        <p:spPr>
          <a:xfrm>
            <a:off x="5286240" y="1928880"/>
            <a:ext cx="3195720" cy="187488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4" descr="dikie-utki_1.jpg"/>
          <p:cNvPicPr/>
          <p:nvPr/>
        </p:nvPicPr>
        <p:blipFill>
          <a:blip r:embed="rId2"/>
          <a:stretch/>
        </p:blipFill>
        <p:spPr>
          <a:xfrm>
            <a:off x="1928880" y="4500720"/>
            <a:ext cx="1820880" cy="1617480"/>
          </a:xfrm>
          <a:prstGeom prst="rect">
            <a:avLst/>
          </a:prstGeom>
          <a:ln w="0">
            <a:noFill/>
          </a:ln>
        </p:spPr>
      </p:pic>
      <p:sp>
        <p:nvSpPr>
          <p:cNvPr id="251" name="Содержимое 2"/>
          <p:cNvSpPr/>
          <p:nvPr/>
        </p:nvSpPr>
        <p:spPr>
          <a:xfrm>
            <a:off x="4429080" y="4500720"/>
            <a:ext cx="37148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0c2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ійська качка походить від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ої кач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жн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0c2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6:16:45Z</dcterms:created>
  <dc:creator>Admin</dc:creator>
  <dc:description/>
  <dc:language>en-US</dc:language>
  <cp:lastModifiedBy>Пользователь_ПК</cp:lastModifiedBy>
  <dcterms:modified xsi:type="dcterms:W3CDTF">2018-03-03T12:08:50Z</dcterms:modified>
  <cp:revision>99</cp:revision>
  <dc:subject/>
  <dc:title>Презентация PowerPoint</dc:title>
</cp:coreProperties>
</file>