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1.jpeg" ContentType="image/jpeg"/>
  <Override PartName="/ppt/media/image6.gif" ContentType="image/gif"/>
  <Override PartName="/ppt/media/image32.wmf" ContentType="image/x-wmf"/>
  <Override PartName="/ppt/media/image19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2.jpeg" ContentType="image/jpeg"/>
  <Override PartName="/ppt/media/image7.png" ContentType="image/png"/>
  <Override PartName="/ppt/media/image11.jpeg" ContentType="image/jpeg"/>
  <Override PartName="/ppt/media/image35.gif" ContentType="image/gif"/>
  <Override PartName="/ppt/media/image13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10080625" cy="7559675"/>
  <p:notesSz cx="6811963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11200" cy="9939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11920" cy="9939240"/>
          </a:xfrm>
          <a:custGeom>
            <a:avLst/>
            <a:gdLst>
              <a:gd name="textAreaLeft" fmla="*/ 360 w 6811920"/>
              <a:gd name="textAreaRight" fmla="*/ 6811560 w 6811920"/>
              <a:gd name="textAreaTop" fmla="*/ 360 h 9939240"/>
              <a:gd name="textAreaBottom" fmla="*/ 9938880 h 9939240"/>
            </a:gdLst>
            <a:ahLst/>
            <a:rect l="textAreaLeft" t="textAreaTop" r="textAreaRight" b="textAreaBottom"/>
            <a:pathLst>
              <a:path w="21600" h="31516">
                <a:moveTo>
                  <a:pt x="5" y="0"/>
                </a:moveTo>
                <a:arcTo wR="5" hR="5" stAng="16200000" swAng="-5400000"/>
                <a:lnTo>
                  <a:pt x="0" y="31511"/>
                </a:lnTo>
                <a:arcTo wR="5" hR="5" stAng="10800000" swAng="-5400000"/>
                <a:lnTo>
                  <a:pt x="21595" y="3151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11920" cy="9939240"/>
          </a:xfrm>
          <a:custGeom>
            <a:avLst/>
            <a:gdLst>
              <a:gd name="textAreaLeft" fmla="*/ 360 w 6811920"/>
              <a:gd name="textAreaRight" fmla="*/ 6811560 w 6811920"/>
              <a:gd name="textAreaTop" fmla="*/ 360 h 9939240"/>
              <a:gd name="textAreaBottom" fmla="*/ 9938880 h 9939240"/>
            </a:gdLst>
            <a:ahLst/>
            <a:rect l="textAreaLeft" t="textAreaTop" r="textAreaRight" b="textAreaBottom"/>
            <a:pathLst>
              <a:path w="21600" h="31516">
                <a:moveTo>
                  <a:pt x="5" y="0"/>
                </a:moveTo>
                <a:arcTo wR="5" hR="5" stAng="16200000" swAng="-5400000"/>
                <a:lnTo>
                  <a:pt x="0" y="31511"/>
                </a:lnTo>
                <a:arcTo wR="5" hR="5" stAng="10800000" swAng="-5400000"/>
                <a:lnTo>
                  <a:pt x="21595" y="3151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811920" cy="9939240"/>
          </a:xfrm>
          <a:custGeom>
            <a:avLst/>
            <a:gdLst>
              <a:gd name="textAreaLeft" fmla="*/ 360 w 6811920"/>
              <a:gd name="textAreaRight" fmla="*/ 6811560 w 6811920"/>
              <a:gd name="textAreaTop" fmla="*/ 360 h 9939240"/>
              <a:gd name="textAreaBottom" fmla="*/ 9938880 h 9939240"/>
            </a:gdLst>
            <a:ahLst/>
            <a:rect l="textAreaLeft" t="textAreaTop" r="textAreaRight" b="textAreaBottom"/>
            <a:pathLst>
              <a:path w="21600" h="31516">
                <a:moveTo>
                  <a:pt x="5" y="0"/>
                </a:moveTo>
                <a:arcTo wR="5" hR="5" stAng="16200000" swAng="-5400000"/>
                <a:lnTo>
                  <a:pt x="0" y="31511"/>
                </a:lnTo>
                <a:arcTo wR="5" hR="5" stAng="10800000" swAng="-5400000"/>
                <a:lnTo>
                  <a:pt x="21595" y="3151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811920" cy="9939240"/>
          </a:xfrm>
          <a:custGeom>
            <a:avLst/>
            <a:gdLst>
              <a:gd name="textAreaLeft" fmla="*/ 360 w 6811920"/>
              <a:gd name="textAreaRight" fmla="*/ 6811560 w 6811920"/>
              <a:gd name="textAreaTop" fmla="*/ 360 h 9939240"/>
              <a:gd name="textAreaBottom" fmla="*/ 9938880 h 9939240"/>
            </a:gdLst>
            <a:ahLst/>
            <a:rect l="textAreaLeft" t="textAreaTop" r="textAreaRight" b="textAreaBottom"/>
            <a:pathLst>
              <a:path w="21600" h="31516">
                <a:moveTo>
                  <a:pt x="5" y="0"/>
                </a:moveTo>
                <a:arcTo wR="5" hR="5" stAng="16200000" swAng="-5400000"/>
                <a:lnTo>
                  <a:pt x="0" y="31511"/>
                </a:lnTo>
                <a:arcTo wR="5" hR="5" stAng="10800000" swAng="-5400000"/>
                <a:lnTo>
                  <a:pt x="21595" y="3151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11920" cy="9939240"/>
          </a:xfrm>
          <a:custGeom>
            <a:avLst/>
            <a:gdLst>
              <a:gd name="textAreaLeft" fmla="*/ 360 w 6811920"/>
              <a:gd name="textAreaRight" fmla="*/ 6811560 w 6811920"/>
              <a:gd name="textAreaTop" fmla="*/ 360 h 9939240"/>
              <a:gd name="textAreaBottom" fmla="*/ 9938880 h 9939240"/>
            </a:gdLst>
            <a:ahLst/>
            <a:rect l="textAreaLeft" t="textAreaTop" r="textAreaRight" b="textAreaBottom"/>
            <a:pathLst>
              <a:path w="21600" h="31516">
                <a:moveTo>
                  <a:pt x="5" y="0"/>
                </a:moveTo>
                <a:arcTo wR="5" hR="5" stAng="16200000" swAng="-5400000"/>
                <a:lnTo>
                  <a:pt x="0" y="31511"/>
                </a:lnTo>
                <a:arcTo wR="5" hR="5" stAng="10800000" swAng="-5400000"/>
                <a:lnTo>
                  <a:pt x="21595" y="3151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11920" cy="9939240"/>
          </a:xfrm>
          <a:custGeom>
            <a:avLst/>
            <a:gdLst>
              <a:gd name="textAreaLeft" fmla="*/ 360 w 6811920"/>
              <a:gd name="textAreaRight" fmla="*/ 6811560 w 6811920"/>
              <a:gd name="textAreaTop" fmla="*/ 360 h 9939240"/>
              <a:gd name="textAreaBottom" fmla="*/ 9938880 h 9939240"/>
            </a:gdLst>
            <a:ahLst/>
            <a:rect l="textAreaLeft" t="textAreaTop" r="textAreaRight" b="textAreaBottom"/>
            <a:pathLst>
              <a:path w="21600" h="31516">
                <a:moveTo>
                  <a:pt x="5" y="0"/>
                </a:moveTo>
                <a:arcTo wR="5" hR="5" stAng="16200000" swAng="-5400000"/>
                <a:lnTo>
                  <a:pt x="0" y="31511"/>
                </a:lnTo>
                <a:arcTo wR="5" hR="5" stAng="10800000" swAng="-5400000"/>
                <a:lnTo>
                  <a:pt x="21595" y="3151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11920" cy="9939240"/>
          </a:xfrm>
          <a:custGeom>
            <a:avLst/>
            <a:gdLst>
              <a:gd name="textAreaLeft" fmla="*/ 360 w 6811920"/>
              <a:gd name="textAreaRight" fmla="*/ 6811560 w 6811920"/>
              <a:gd name="textAreaTop" fmla="*/ 360 h 9939240"/>
              <a:gd name="textAreaBottom" fmla="*/ 9938880 h 9939240"/>
            </a:gdLst>
            <a:ahLst/>
            <a:rect l="textAreaLeft" t="textAreaTop" r="textAreaRight" b="textAreaBottom"/>
            <a:pathLst>
              <a:path w="21600" h="31516">
                <a:moveTo>
                  <a:pt x="5" y="0"/>
                </a:moveTo>
                <a:arcTo wR="5" hR="5" stAng="16200000" swAng="-5400000"/>
                <a:lnTo>
                  <a:pt x="0" y="31511"/>
                </a:lnTo>
                <a:arcTo wR="5" hR="5" stAng="10800000" swAng="-5400000"/>
                <a:lnTo>
                  <a:pt x="21595" y="3151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20520" y="755280"/>
            <a:ext cx="4956120" cy="37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3708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29541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55960" y="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9441000"/>
            <a:ext cx="29541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3"/>
          </p:nvPr>
        </p:nvSpPr>
        <p:spPr>
          <a:xfrm>
            <a:off x="3855960" y="9440640"/>
            <a:ext cx="294336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F18B3-306B-46F4-A484-110B89F2C477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855960" y="944100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020D9-D019-4539-ABAA-A671D1088DA3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20880" y="755640"/>
            <a:ext cx="4968720" cy="3726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1120" y="4721400"/>
            <a:ext cx="544968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20880" y="75564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1120" y="4721400"/>
            <a:ext cx="544824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55960" y="944100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75684-B53C-4F84-A229-E9C04DADAE14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0880" y="75564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1120" y="4721400"/>
            <a:ext cx="544824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55960" y="944100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A067E-629F-4AE0-9600-654136B2BDF4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855960" y="944100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A88E6-9174-450C-98FF-AB1A4F0E6658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20880" y="755640"/>
            <a:ext cx="4968720" cy="3726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1120" y="4721400"/>
            <a:ext cx="544968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855960" y="944100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FFEC2-C4CF-4132-A7CD-B94969439605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20880" y="755640"/>
            <a:ext cx="4968720" cy="3726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1120" y="4721400"/>
            <a:ext cx="544968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A2029-458B-4A98-A751-8483495407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67880"/>
            <a:ext cx="90583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00083-4465-4C86-AE1C-0B991C78EE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6788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120" y="436788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4BE6C-F87C-446F-BDA7-24FC8DAA2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800" y="176796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8320" y="176796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6788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800" y="436788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8320" y="436788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49776-4641-4957-926A-C33C713C28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8E592-B3EE-4B24-AD8B-3630D2ED34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83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784FA-BD1F-462E-B3C9-C14F94E6CD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931BA-0A70-4FAE-AD62-1308E0629A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6FF9B-4BD1-4AC8-B381-D7A991E14F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0927F-8087-46A3-A29B-0C666AE8C3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5832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AF94B-50EE-4D89-92AF-0F97A78951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36788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CB00D-2C70-46AC-B93A-5CB11C15D2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83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30B92-F96F-4CDD-B9DE-78FCFC4C2F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5120" y="436788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D1289-34E7-4E1A-A6A6-5DB3250DD2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367880"/>
            <a:ext cx="90583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52522-82FD-413A-ACA3-AFAC12FD38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367880"/>
            <a:ext cx="90583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9CA1F-5D80-4A7A-BEE6-C1E6F11110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36788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5120" y="436788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AB80F-CD3D-49D5-9205-B9343A7714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5800" y="176796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8320" y="176796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36788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5800" y="436788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8320" y="436788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D619F-20EE-4586-9F27-4F4083DBC3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09F10-D3B3-43A0-893E-04B837FD53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4B31F-C3AD-4BD2-90E1-3475C21DE1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31449-0F70-441B-8A92-34CEEFA580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5832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F1D23-FA46-4F5D-A282-7F3CDCB272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6788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CFE1E-6E50-45C9-A7D9-E97C68545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120" y="436788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E633D-6305-4D3B-96F4-536610F47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67880"/>
            <a:ext cx="90583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65058-4DE3-4C33-B1E5-50A6B6A948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83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36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914BB-938B-4159-8217-E386D3BD7E8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7227720" y="6886440"/>
            <a:ext cx="23371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49011-1386-41B3-A43E-32911356743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jpeg"/><Relationship Id="rId18" Type="http://schemas.openxmlformats.org/officeDocument/2006/relationships/image" Target="../media/image22.jpe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011240" y="347760"/>
            <a:ext cx="4535640" cy="2560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968720" y="4284720"/>
            <a:ext cx="142920" cy="142920"/>
          </a:xfrm>
          <a:prstGeom prst="ellipse">
            <a:avLst/>
          </a:prstGeom>
          <a:solidFill>
            <a:srgbClr val="0070c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64000" y="2266920"/>
            <a:ext cx="4752720" cy="4753080"/>
          </a:xfrm>
          <a:prstGeom prst="ellipse">
            <a:avLst/>
          </a:prstGeom>
          <a:noFill/>
          <a:ln cap="sq"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819920" y="3462480"/>
            <a:ext cx="1109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7280" y="0"/>
            <a:ext cx="9506160" cy="62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4000" spc="-1" strike="noStrike">
                <a:solidFill>
                  <a:srgbClr val="32946a"/>
                </a:solidFill>
                <a:latin typeface="Georgia"/>
              </a:rPr>
              <a:t>К о л о </a:t>
            </a: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– </a:t>
            </a:r>
            <a:r>
              <a:rPr b="1" lang="uk-UA" sz="2800" spc="-1" strike="noStrike">
                <a:solidFill>
                  <a:srgbClr val="2d2db9"/>
                </a:solidFill>
                <a:latin typeface="Century Schoolbook"/>
              </a:rPr>
              <a:t>це замкнена ліні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2d2db9"/>
                </a:solidFill>
                <a:latin typeface="Century Schoolbook"/>
              </a:rPr>
              <a:t>яка складається з усіх точок площини, рівновіддалених від заданої точ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2d2db9"/>
                </a:solidFill>
                <a:latin typeface="Century Schoolbook"/>
              </a:rPr>
              <a:t>Точка</a:t>
            </a: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uk-UA" sz="2800" spc="-1" strike="noStrike">
                <a:solidFill>
                  <a:srgbClr val="c00000"/>
                </a:solidFill>
                <a:latin typeface="Century Schoolbook"/>
              </a:rPr>
              <a:t>О</a:t>
            </a: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i="1" lang="uk-UA" sz="2800" spc="-1" strike="noStrike">
                <a:solidFill>
                  <a:srgbClr val="32946a"/>
                </a:solidFill>
                <a:latin typeface="Georgia"/>
              </a:rPr>
              <a:t>центр к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BB37F-1BEA-411A-8631-0173E9D8757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256360" y="3715560"/>
            <a:ext cx="647640" cy="9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entury Schoolbook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4000" spc="-1" strike="noStrike">
                <a:solidFill>
                  <a:srgbClr val="32946a"/>
                </a:solidFill>
                <a:latin typeface="Georgia"/>
              </a:rPr>
              <a:t>К р у г </a:t>
            </a: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– </a:t>
            </a:r>
            <a:r>
              <a:rPr b="1" lang="uk-UA" sz="2800" spc="-1" strike="noStrike">
                <a:solidFill>
                  <a:srgbClr val="2d2db9"/>
                </a:solidFill>
                <a:latin typeface="Century Schoolbook"/>
              </a:rPr>
              <a:t>це всі точки площини, обмеженої ко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69120-585A-4559-98DE-179BD2A7634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48000" y="2124000"/>
            <a:ext cx="4680000" cy="4824360"/>
          </a:xfrm>
          <a:prstGeom prst="ellipse">
            <a:avLst/>
          </a:prstGeom>
          <a:solidFill>
            <a:srgbClr val="00b8ff"/>
          </a:solidFill>
          <a:ln cap="sq"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 flipH="1">
            <a:off x="1600200" y="3422520"/>
            <a:ext cx="2022480" cy="2071800"/>
          </a:xfrm>
          <a:prstGeom prst="line">
            <a:avLst/>
          </a:prstGeom>
          <a:ln cap="sq" w="57240">
            <a:solidFill>
              <a:srgbClr val="0099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2529000" y="910800"/>
            <a:ext cx="1093680" cy="2451240"/>
          </a:xfrm>
          <a:prstGeom prst="line">
            <a:avLst/>
          </a:prstGeom>
          <a:ln cap="sq" w="57240">
            <a:solidFill>
              <a:srgbClr val="0099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40240" y="3351240"/>
            <a:ext cx="142920" cy="142920"/>
          </a:xfrm>
          <a:prstGeom prst="ellipse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16360" y="2994120"/>
            <a:ext cx="4856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2560" y="708120"/>
            <a:ext cx="5643720" cy="5500440"/>
          </a:xfrm>
          <a:prstGeom prst="ellipse">
            <a:avLst/>
          </a:prstGeom>
          <a:noFill/>
          <a:ln cap="sq" w="76320">
            <a:solidFill>
              <a:srgbClr val="262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819920" y="3462480"/>
            <a:ext cx="1109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39720" y="208080"/>
            <a:ext cx="6336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68520" y="779400"/>
            <a:ext cx="157320" cy="157320"/>
          </a:xfrm>
          <a:prstGeom prst="ellipse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96760" y="5494320"/>
            <a:ext cx="5558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39720" y="5423040"/>
            <a:ext cx="142920" cy="142560"/>
          </a:xfrm>
          <a:prstGeom prst="ellipse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69080" y="2266920"/>
            <a:ext cx="305748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Century Schoolbook"/>
              </a:rPr>
              <a:t>1.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Виберіть на колі будь-які дві точки </a:t>
            </a:r>
            <a:r>
              <a:rPr b="1" lang="uk-UA" sz="2400" spc="-1" strike="noStrike">
                <a:solidFill>
                  <a:srgbClr val="c00000"/>
                </a:solidFill>
                <a:latin typeface="Century Schoolbook"/>
              </a:rPr>
              <a:t>А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 та </a:t>
            </a:r>
            <a:r>
              <a:rPr b="1" lang="uk-UA" sz="2400" spc="-1" strike="noStrike">
                <a:solidFill>
                  <a:srgbClr val="c00000"/>
                </a:solidFill>
                <a:latin typeface="Century Schoolbook"/>
              </a:rPr>
              <a:t>М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69080" y="4284720"/>
            <a:ext cx="33116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Century Schoolbook"/>
              </a:rPr>
              <a:t>3.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Як називаються відрізки </a:t>
            </a:r>
            <a:r>
              <a:rPr b="1" lang="uk-UA" sz="2400" spc="-1" strike="noStrike">
                <a:solidFill>
                  <a:srgbClr val="c00000"/>
                </a:solidFill>
                <a:latin typeface="Century Schoolbook"/>
              </a:rPr>
              <a:t>ОА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 та </a:t>
            </a:r>
            <a:r>
              <a:rPr b="1" lang="uk-UA" sz="2400" spc="-1" strike="noStrike">
                <a:solidFill>
                  <a:srgbClr val="c00000"/>
                </a:solidFill>
                <a:latin typeface="Century Schoolbook"/>
              </a:rPr>
              <a:t>ОМ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, які ви отрима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4160" y="6372360"/>
            <a:ext cx="7810200" cy="773640"/>
          </a:xfrm>
          <a:prstGeom prst="rect">
            <a:avLst/>
          </a:prstGeom>
          <a:noFill/>
          <a:ln cap="sq"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Відрізок, який з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’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єднує центр кола з будь-якою точкою на колі, називається </a:t>
            </a:r>
            <a:r>
              <a:rPr b="1" lang="uk-UA" sz="2400" spc="-1" strike="noStrike">
                <a:solidFill>
                  <a:srgbClr val="c00000"/>
                </a:solidFill>
                <a:latin typeface="Century Schoolbook"/>
              </a:rPr>
              <a:t>р а д і у с о м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69080" y="3492360"/>
            <a:ext cx="33116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entury Schoolbook"/>
              </a:rPr>
              <a:t>2.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’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єднайте то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та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М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та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88E68-E3FA-4808-903F-D06189571E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96000" y="324000"/>
            <a:ext cx="518472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 u="sng">
                <a:solidFill>
                  <a:srgbClr val="32946a"/>
                </a:solidFill>
                <a:uFillTx/>
                <a:latin typeface="Georgia"/>
              </a:rPr>
              <a:t>Завдання №2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dur="indefinite" fill="hold">
                      <p:stCondLst>
                        <p:cond delay="indefinite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 flipH="1" flipV="1">
            <a:off x="2529000" y="839520"/>
            <a:ext cx="1093680" cy="2593800"/>
          </a:xfrm>
          <a:prstGeom prst="line">
            <a:avLst/>
          </a:prstGeom>
          <a:ln cap="sq"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600200" y="3422520"/>
            <a:ext cx="2022480" cy="2071800"/>
          </a:xfrm>
          <a:prstGeom prst="line">
            <a:avLst/>
          </a:prstGeom>
          <a:ln cap="sq"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40240" y="3351240"/>
            <a:ext cx="142920" cy="142920"/>
          </a:xfrm>
          <a:prstGeom prst="ellipse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25720" y="2994120"/>
            <a:ext cx="4762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2560" y="708120"/>
            <a:ext cx="5643720" cy="5500440"/>
          </a:xfrm>
          <a:prstGeom prst="ellipse">
            <a:avLst/>
          </a:prstGeom>
          <a:noFill/>
          <a:ln cap="sq" w="76320">
            <a:solidFill>
              <a:srgbClr val="262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819920" y="3462480"/>
            <a:ext cx="1109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39720" y="208080"/>
            <a:ext cx="6336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68520" y="779400"/>
            <a:ext cx="157320" cy="157320"/>
          </a:xfrm>
          <a:prstGeom prst="ellipse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96760" y="5494320"/>
            <a:ext cx="5558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83360" y="422280"/>
            <a:ext cx="350028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Скільки радіусів у кола на малюн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97560" y="3267000"/>
            <a:ext cx="335772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Що можна сказати про ни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84720" y="6056280"/>
            <a:ext cx="637056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entury Schoolbook"/>
              </a:rPr>
              <a:t>ОА = ОМ = </a:t>
            </a:r>
            <a:r>
              <a:rPr b="1" lang="en-US" sz="5400" spc="-1" strike="noStrike">
                <a:solidFill>
                  <a:srgbClr val="c00000"/>
                </a:solidFill>
                <a:latin typeface="Century Schoolbook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39720" y="5423040"/>
            <a:ext cx="142920" cy="142560"/>
          </a:xfrm>
          <a:prstGeom prst="ellipse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6E30E-49D6-491C-BA1E-6E84FF4552F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dur="indefinite" fill="hold">
                      <p:stCondLst>
                        <p:cond delay="indefinite"/>
                      </p:stCondLst>
                      <p:childTnLst>
                        <p:par>
                          <p:cTn id="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31640" y="900000"/>
            <a:ext cx="889020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7200" spc="-1" strike="noStrike">
                <a:solidFill>
                  <a:srgbClr val="32946a"/>
                </a:solidFill>
                <a:latin typeface="Georgia"/>
              </a:rPr>
              <a:t>Перевір себ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1366D-A20D-4D66-980B-8381F37C4E8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rcRect l="0" t="0" r="0" b="10622"/>
          <a:stretch/>
        </p:blipFill>
        <p:spPr>
          <a:xfrm>
            <a:off x="2336760" y="2523960"/>
            <a:ext cx="4248360" cy="4211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7819920" y="3462480"/>
            <a:ext cx="1109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3280" y="466560"/>
            <a:ext cx="906948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2d2db9"/>
                </a:solidFill>
                <a:latin typeface="Century Schoolbook"/>
              </a:rPr>
              <a:t>Радіус кола залежить від розхилу циркуля. Який радіус матиме коло, якщо розхил циркуля буде таким, як показано на малюнк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40723-33F8-4E2F-B95E-B625995BB24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295280" y="2050920"/>
            <a:ext cx="7201080" cy="4897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 flipH="1" flipV="1">
            <a:off x="2814120" y="1125360"/>
            <a:ext cx="1094040" cy="2594160"/>
          </a:xfrm>
          <a:prstGeom prst="line">
            <a:avLst/>
          </a:prstGeom>
          <a:ln cap="sq"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886040" y="3708360"/>
            <a:ext cx="2022480" cy="2071800"/>
          </a:xfrm>
          <a:prstGeom prst="line">
            <a:avLst/>
          </a:prstGeom>
          <a:ln cap="sq"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25720" y="3637080"/>
            <a:ext cx="142920" cy="142920"/>
          </a:xfrm>
          <a:prstGeom prst="ellipse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68400" y="993600"/>
            <a:ext cx="5643360" cy="5500800"/>
          </a:xfrm>
          <a:prstGeom prst="ellipse">
            <a:avLst/>
          </a:prstGeom>
          <a:noFill/>
          <a:ln cap="sq" w="76320">
            <a:solidFill>
              <a:srgbClr val="262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819920" y="3462480"/>
            <a:ext cx="1109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39760" y="565200"/>
            <a:ext cx="6336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54360" y="1065240"/>
            <a:ext cx="156960" cy="156960"/>
          </a:xfrm>
          <a:prstGeom prst="ellipse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82600" y="5780160"/>
            <a:ext cx="5558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25560" y="5708520"/>
            <a:ext cx="142920" cy="142920"/>
          </a:xfrm>
          <a:prstGeom prst="ellipse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769080" y="1474920"/>
            <a:ext cx="33116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entury Schoolbook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довж відрізок АО до перетину з ко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11560" y="3279600"/>
            <a:ext cx="4762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1885680" y="1779480"/>
            <a:ext cx="3879720" cy="4000680"/>
          </a:xfrm>
          <a:prstGeom prst="line">
            <a:avLst/>
          </a:prstGeom>
          <a:ln cap="sq"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769080" y="2843280"/>
            <a:ext cx="305748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Century Schoolbook"/>
              </a:rPr>
              <a:t>2. 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Познач точку перети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буквою 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683320" y="1708200"/>
            <a:ext cx="156960" cy="156960"/>
          </a:xfrm>
          <a:prstGeom prst="ellipse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54600" y="1208160"/>
            <a:ext cx="5558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69080" y="4211640"/>
            <a:ext cx="359712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entury Schoolbook"/>
              </a:rPr>
              <a:t>3.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ідрізок  АК  називає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д і а м е т р о м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82520" y="6588000"/>
            <a:ext cx="91440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Д і а м е т р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– це відрізок, що з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’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єднує дві точки на кол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і проходить через його цен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D8439-4842-449C-868A-5BD46FF77A6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753080" y="324000"/>
            <a:ext cx="712764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 u="sng">
                <a:solidFill>
                  <a:srgbClr val="32946a"/>
                </a:solidFill>
                <a:uFillTx/>
                <a:latin typeface="Georgia"/>
              </a:rPr>
              <a:t>Завдання №3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dur="indefinite" fill="hold">
                      <p:stCondLst>
                        <p:cond delay="indefinite"/>
                      </p:stCondLst>
                      <p:childTnLst>
                        <p:par>
                          <p:cTn id="1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dur="indefinite" fill="hold">
                      <p:stCondLst>
                        <p:cond delay="indefinite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 flipH="1" flipV="1">
            <a:off x="2529000" y="839520"/>
            <a:ext cx="1093680" cy="2593800"/>
          </a:xfrm>
          <a:prstGeom prst="line">
            <a:avLst/>
          </a:prstGeom>
          <a:ln cap="sq"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1600200" y="3422520"/>
            <a:ext cx="2022480" cy="2071800"/>
          </a:xfrm>
          <a:prstGeom prst="line">
            <a:avLst/>
          </a:prstGeom>
          <a:ln cap="sq"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540240" y="3351240"/>
            <a:ext cx="142920" cy="142920"/>
          </a:xfrm>
          <a:prstGeom prst="ellipse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2560" y="708120"/>
            <a:ext cx="5643720" cy="5500440"/>
          </a:xfrm>
          <a:prstGeom prst="ellipse">
            <a:avLst/>
          </a:prstGeom>
          <a:noFill/>
          <a:ln cap="sq" w="76320">
            <a:solidFill>
              <a:srgbClr val="262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819920" y="3462480"/>
            <a:ext cx="1109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39720" y="208080"/>
            <a:ext cx="6336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68520" y="779400"/>
            <a:ext cx="157320" cy="157320"/>
          </a:xfrm>
          <a:prstGeom prst="ellipse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96760" y="5494320"/>
            <a:ext cx="5558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39720" y="5423040"/>
            <a:ext cx="142920" cy="142560"/>
          </a:xfrm>
          <a:prstGeom prst="ellipse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25720" y="2994120"/>
            <a:ext cx="4762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599840" y="1494000"/>
            <a:ext cx="3879720" cy="4000320"/>
          </a:xfrm>
          <a:prstGeom prst="line">
            <a:avLst/>
          </a:prstGeom>
          <a:ln cap="sq"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7480" y="1422360"/>
            <a:ext cx="157320" cy="157320"/>
          </a:xfrm>
          <a:prstGeom prst="ellipse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7480" y="779400"/>
            <a:ext cx="5554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977080" y="466560"/>
            <a:ext cx="352728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entury Schoolbook"/>
              </a:rPr>
              <a:t>АК = </a:t>
            </a:r>
            <a:r>
              <a:rPr b="1" lang="en-US" sz="5400" spc="-1" strike="noStrike">
                <a:solidFill>
                  <a:srgbClr val="ff0000"/>
                </a:solidFill>
                <a:latin typeface="Century Schoolbook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611760" y="1851120"/>
            <a:ext cx="314352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Порівняйте діаметр кола з його радіу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408720" y="4253040"/>
            <a:ext cx="33130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entury Schoolbook"/>
              </a:rPr>
              <a:t>d</a:t>
            </a:r>
            <a:r>
              <a:rPr b="1" lang="uk-UA" sz="54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Century Schoolbook"/>
              </a:rPr>
              <a:t>=</a:t>
            </a:r>
            <a:r>
              <a:rPr b="1" lang="uk-UA" sz="54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Century Schoolbook"/>
              </a:rPr>
              <a:t>2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D7FD5-6426-4485-A847-440AFB44FE0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152360" y="1830240"/>
            <a:ext cx="73080" cy="3105360"/>
          </a:xfrm>
          <a:prstGeom prst="line">
            <a:avLst/>
          </a:prstGeom>
          <a:ln cap="sq"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76360" y="4859280"/>
            <a:ext cx="5554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47640" y="1187280"/>
            <a:ext cx="5558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480000" y="3311640"/>
            <a:ext cx="338472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ВС — хорда</a:t>
            </a:r>
            <a:r>
              <a:rPr b="1" lang="ru-RU" sz="4800" spc="-1" strike="noStrike">
                <a:solidFill>
                  <a:srgbClr val="ff0000"/>
                </a:solidFill>
                <a:latin typeface="Century Schoolboo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08000" y="6335640"/>
            <a:ext cx="70563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Хорда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– в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ідрізок, що сполучає дві точки 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dur="indefinite" fill="hold">
                      <p:stCondLst>
                        <p:cond delay="indefinite"/>
                      </p:stCondLst>
                      <p:childTnLst>
                        <p:par>
                          <p:cTn id="2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dur="indefinite" fill="hold">
                      <p:stCondLst>
                        <p:cond delay="indefinite"/>
                      </p:stCondLst>
                      <p:childTnLst>
                        <p:par>
                          <p:cTn id="2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dur="indefinite" fill="hold">
                      <p:stCondLst>
                        <p:cond delay="indefinite"/>
                      </p:stCondLst>
                      <p:childTnLst>
                        <p:par>
                          <p:cTn id="2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19280" y="324000"/>
            <a:ext cx="856908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4400" spc="-1" strike="noStrike" u="sng">
                <a:solidFill>
                  <a:srgbClr val="32946a"/>
                </a:solidFill>
                <a:uFillTx/>
                <a:latin typeface="Georgia"/>
              </a:rPr>
              <a:t>Будьте   дослідникам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60360" y="1547640"/>
            <a:ext cx="871236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503280" indent="-503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Century Schoolbook"/>
              <a:buAutoNum type="arabicPeriod"/>
              <a:tabLst>
                <a:tab algn="l" pos="5032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2d2db9"/>
                </a:solidFill>
                <a:latin typeface="Century Schoolbook"/>
              </a:rPr>
              <a:t>Візьміть паперовий круг. Перегніть його навпіл так, щоб обидві половинки сумістили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503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Century Schoolbook"/>
              <a:buAutoNum type="arabicPeriod"/>
              <a:tabLst>
                <a:tab algn="l" pos="5032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2d2db9"/>
                </a:solidFill>
                <a:latin typeface="Century Schoolbook"/>
              </a:rPr>
              <a:t>Розкрийте круг і подивіться на лінію згину. Що вона показує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503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Century Schoolbook"/>
              <a:buAutoNum type="arabicPeriod"/>
              <a:tabLst>
                <a:tab algn="l" pos="5032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2d2db9"/>
                </a:solidFill>
                <a:latin typeface="Century Schoolbook"/>
              </a:rPr>
              <a:t>Складіть круг вчетверо. Розгляньте лінії згину. Що можна визначити на фігурі тепе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EFC6F-067C-4EBD-A675-908FB3B428D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565200"/>
            <a:ext cx="10080720" cy="15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457200" indent="-446040">
              <a:lnSpc>
                <a:spcPct val="93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46040">
              <a:lnSpc>
                <a:spcPct val="93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46040">
              <a:lnSpc>
                <a:spcPct val="93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6040">
              <a:lnSpc>
                <a:spcPct val="93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32946a"/>
                </a:solidFill>
                <a:latin typeface="Georgia"/>
              </a:rPr>
              <a:t>Ц</a:t>
            </a:r>
            <a:r>
              <a:rPr b="1" i="1" lang="uk-UA" sz="4400" spc="-1" strike="noStrike">
                <a:solidFill>
                  <a:srgbClr val="32946a"/>
                </a:solidFill>
                <a:latin typeface="Georgia"/>
              </a:rPr>
              <a:t>ікаво знати!</a:t>
            </a:r>
            <a:br>
              <a:rPr sz="4400"/>
            </a:br>
            <a:r>
              <a:rPr b="0" lang="uk-UA" sz="4400" spc="-1" strike="noStrike">
                <a:solidFill>
                  <a:srgbClr val="ff0000"/>
                </a:solidFill>
                <a:latin typeface="Century Schoolbook"/>
              </a:rPr>
              <a:t>Слова - родич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31920" indent="-331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2946a"/>
                </a:solidFill>
                <a:latin typeface="Arial"/>
              </a:rPr>
              <a:t>Від латинськог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ircus</a:t>
            </a:r>
            <a:r>
              <a:rPr b="0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 -  круг, ко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93954-984B-4D94-9ABA-AECB832E9E1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179280"/>
            <a:ext cx="10080720" cy="15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457200" indent="-446040">
              <a:lnSpc>
                <a:spcPct val="93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46040">
              <a:lnSpc>
                <a:spcPct val="93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46040">
              <a:lnSpc>
                <a:spcPct val="93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6040">
              <a:lnSpc>
                <a:spcPct val="93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287280" y="2771640"/>
            <a:ext cx="4721400" cy="37134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5111640" y="2771640"/>
            <a:ext cx="3619440" cy="3810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55640" y="250920"/>
            <a:ext cx="856944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800" spc="-1" strike="noStrike">
                <a:solidFill>
                  <a:srgbClr val="2d2db9"/>
                </a:solidFill>
                <a:latin typeface="Century Schoolbook"/>
              </a:rPr>
              <a:t>Девіз уроку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6000" y="1619280"/>
            <a:ext cx="8856720" cy="1836720"/>
          </a:xfrm>
          <a:prstGeom prst="rect">
            <a:avLst/>
          </a:prstGeom>
          <a:solidFill>
            <a:srgbClr val="cceedf"/>
          </a:solidFill>
          <a:ln cap="sq" w="57240">
            <a:solidFill>
              <a:srgbClr val="2d2d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очаток є – кінця пізнанню немає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7BBA8-BAF1-48D4-8D84-09C81710170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0" t="0" r="0" b="10622"/>
          <a:stretch/>
        </p:blipFill>
        <p:spPr>
          <a:xfrm>
            <a:off x="6900840" y="4202280"/>
            <a:ext cx="3024360" cy="3419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-144360" y="3384720"/>
            <a:ext cx="69832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Епіграф уроку:</a:t>
            </a:r>
            <a:r>
              <a:rPr b="1" i="1" lang="uk-UA" sz="40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1" i="1" lang="uk-UA" sz="4000" spc="-1" strike="noStrike">
                <a:solidFill>
                  <a:srgbClr val="c00000"/>
                </a:solidFill>
                <a:latin typeface="Century Schoolboo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ло – найпростіша і найдосконаліша фігура.  Прок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224000" y="0"/>
            <a:ext cx="734544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 u="sng">
                <a:solidFill>
                  <a:srgbClr val="32946a"/>
                </a:solidFill>
                <a:uFillTx/>
                <a:latin typeface="Georgia"/>
              </a:rPr>
              <a:t>Підсумки   уро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24000" y="5075280"/>
            <a:ext cx="2284200" cy="1968480"/>
          </a:xfrm>
          <a:prstGeom prst="smileyFace">
            <a:avLst>
              <a:gd name="adj" fmla="val 4653"/>
            </a:avLst>
          </a:prstGeom>
          <a:solidFill>
            <a:srgbClr val="ffc000"/>
          </a:solidFill>
          <a:ln cap="sq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19640" y="5075280"/>
            <a:ext cx="2205360" cy="1968480"/>
          </a:xfrm>
          <a:prstGeom prst="smileyFace">
            <a:avLst>
              <a:gd name="adj" fmla="val -4652"/>
            </a:avLst>
          </a:prstGeom>
          <a:solidFill>
            <a:srgbClr val="ffc000"/>
          </a:solidFill>
          <a:ln cap="sq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11280" y="1258920"/>
            <a:ext cx="9109080" cy="37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d2db9"/>
                </a:solidFill>
                <a:latin typeface="Century Schoolbook"/>
              </a:rPr>
              <a:t>За допомогою циркуля намалюй смайли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d2db9"/>
                </a:solidFill>
                <a:latin typeface="Century Schoolbook"/>
              </a:rPr>
              <a:t>Не забудь домалювати своєм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d2db9"/>
                </a:solidFill>
                <a:latin typeface="Century Schoolbook"/>
              </a:rPr>
              <a:t>смайлику личк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entury Schoolbook"/>
              </a:rPr>
              <a:t>Мені сподобався               </a:t>
            </a:r>
            <a:r>
              <a:rPr b="1" lang="uk-UA" sz="2800" spc="-1" strike="noStrike">
                <a:solidFill>
                  <a:srgbClr val="606060"/>
                </a:solidFill>
                <a:latin typeface="Century Schoolbook"/>
              </a:rPr>
              <a:t>Мені не сподобав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entury Schoolbook"/>
              </a:rPr>
              <a:t>цей урок! Дякую!              </a:t>
            </a:r>
            <a:r>
              <a:rPr b="1" lang="uk-UA" sz="2800" spc="-1" strike="noStrike">
                <a:solidFill>
                  <a:srgbClr val="606060"/>
                </a:solidFill>
                <a:latin typeface="Century Schoolbook"/>
              </a:rPr>
              <a:t>урок. Мені сум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E9423-24E0-4ADD-A5FF-AE1D75316E4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dur="indefinite" fill="hold">
                      <p:stCondLst>
                        <p:cond delay="0"/>
                      </p:stCondLst>
                      <p:childTnLst>
                        <p:par>
                          <p:cTn id="2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dur="indefinite" fill="hold">
                      <p:stCondLst>
                        <p:cond delay="indefinite"/>
                      </p:stCondLst>
                      <p:childTnLst>
                        <p:par>
                          <p:cTn id="2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dur="indefinite" fill="hold">
                      <p:stCondLst>
                        <p:cond delay="indefinite"/>
                      </p:stCondLst>
                      <p:childTnLst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6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500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287280" y="216000"/>
            <a:ext cx="9576000" cy="7127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01A7E-8C0D-46F7-979B-86DE3B47BCC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281160" y="-396720"/>
            <a:ext cx="9375480" cy="42735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1800360" y="3492360"/>
            <a:ext cx="6296040" cy="38293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7486560" y="103320"/>
            <a:ext cx="2521080" cy="1912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4160" y="208080"/>
            <a:ext cx="932328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4400" spc="-1" strike="noStrike" u="sng">
                <a:solidFill>
                  <a:srgbClr val="32946a"/>
                </a:solidFill>
                <a:uFillTx/>
                <a:latin typeface="Georgia"/>
              </a:rPr>
              <a:t>Пригадай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2d2db9"/>
                </a:solidFill>
                <a:latin typeface="Century Schoolbook"/>
              </a:rPr>
              <a:t>Яка фігура зайва? Чо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604EC-09EB-4FE7-9EED-F28CE182E83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08000" y="3564000"/>
            <a:ext cx="1368360" cy="115236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00b8f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03640" y="5219640"/>
            <a:ext cx="1296720" cy="1297080"/>
          </a:xfrm>
          <a:custGeom>
            <a:avLst/>
            <a:gdLst>
              <a:gd name="textAreaLeft" fmla="*/ 216000 w 1296720"/>
              <a:gd name="textAreaRight" fmla="*/ 1080720 w 1296720"/>
              <a:gd name="textAreaTop" fmla="*/ 216000 h 1297080"/>
              <a:gd name="textAreaBottom" fmla="*/ 1297440 h 1297080"/>
            </a:gdLst>
            <a:ahLst/>
            <a:rect l="textAreaLeft" t="textAreaTop" r="textAreaRight" b="textAreaBottom"/>
            <a:pathLst>
              <a:path w="1296987" h="1296988">
                <a:moveTo>
                  <a:pt x="0" y="1296988"/>
                </a:moveTo>
                <a:lnTo>
                  <a:pt x="324247" y="0"/>
                </a:lnTo>
                <a:lnTo>
                  <a:pt x="972740" y="0"/>
                </a:lnTo>
                <a:lnTo>
                  <a:pt x="1296987" y="1296988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71640" y="1403280"/>
            <a:ext cx="1727280" cy="1511280"/>
          </a:xfrm>
          <a:prstGeom prst="triangle">
            <a:avLst>
              <a:gd name="adj" fmla="val 50000"/>
            </a:avLst>
          </a:prstGeom>
          <a:solidFill>
            <a:srgbClr val="00b8f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04000" y="3348000"/>
            <a:ext cx="1297080" cy="1295280"/>
          </a:xfrm>
          <a:prstGeom prst="ellipse">
            <a:avLst/>
          </a:prstGeom>
          <a:solidFill>
            <a:srgbClr val="00b8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77080" y="1474920"/>
            <a:ext cx="1368360" cy="1368360"/>
          </a:xfrm>
          <a:prstGeom prst="rect">
            <a:avLst/>
          </a:prstGeom>
          <a:solidFill>
            <a:srgbClr val="00b8f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32360" y="3419640"/>
            <a:ext cx="2376360" cy="1439640"/>
          </a:xfrm>
          <a:prstGeom prst="rect">
            <a:avLst/>
          </a:prstGeom>
          <a:solidFill>
            <a:srgbClr val="00b8f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92720" y="5435640"/>
            <a:ext cx="1800360" cy="863640"/>
          </a:xfrm>
          <a:prstGeom prst="parallelogram">
            <a:avLst>
              <a:gd name="adj" fmla="val 25015"/>
            </a:avLst>
          </a:prstGeom>
          <a:solidFill>
            <a:srgbClr val="00b8f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 flipH="1">
            <a:off x="5184000" y="4067280"/>
            <a:ext cx="3095640" cy="3166920"/>
          </a:xfrm>
          <a:prstGeom prst="ellipse">
            <a:avLst/>
          </a:prstGeom>
          <a:noFill/>
          <a:ln cap="sq"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70c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792000" y="3924360"/>
            <a:ext cx="3516480" cy="3300480"/>
            <a:chOff x="792000" y="3924360"/>
            <a:chExt cx="3516480" cy="3300480"/>
          </a:xfrm>
        </p:grpSpPr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792000" y="3924360"/>
              <a:ext cx="3516480" cy="33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365120" y="4435560"/>
              <a:ext cx="2376720" cy="22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503280" y="1835280"/>
            <a:ext cx="9069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2d2db9"/>
                </a:solidFill>
                <a:latin typeface="Century Schoolbook"/>
              </a:rPr>
              <a:t>У круга </a:t>
            </a:r>
            <a:r>
              <a:rPr b="1" lang="uk-UA" sz="36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2d2db9"/>
                </a:solidFill>
                <a:latin typeface="Century Schoolbook"/>
              </a:rPr>
              <a:t>є</a:t>
            </a:r>
            <a:r>
              <a:rPr b="1" lang="uk-UA" sz="36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2d2db9"/>
                </a:solidFill>
                <a:latin typeface="Century Schoolbook"/>
              </a:rPr>
              <a:t> близький знайомий –</a:t>
            </a:r>
            <a:br>
              <a:rPr sz="3600"/>
            </a:br>
            <a:r>
              <a:rPr b="1" lang="uk-UA" sz="3600" spc="-1" strike="noStrike">
                <a:solidFill>
                  <a:srgbClr val="2d2db9"/>
                </a:solidFill>
                <a:latin typeface="Century Schoolbook"/>
              </a:rPr>
              <a:t>Його впізнають всі довкола.</a:t>
            </a:r>
            <a:br>
              <a:rPr sz="3600"/>
            </a:br>
            <a:r>
              <a:rPr b="1" lang="uk-UA" sz="3600" spc="-1" strike="noStrike">
                <a:solidFill>
                  <a:srgbClr val="2d2db9"/>
                </a:solidFill>
                <a:latin typeface="Century Schoolbook"/>
              </a:rPr>
              <a:t>Показує він межі круга,</a:t>
            </a:r>
            <a:br>
              <a:rPr sz="3600"/>
            </a:br>
            <a:r>
              <a:rPr b="1" lang="uk-UA" sz="3600" spc="-1" strike="noStrike">
                <a:solidFill>
                  <a:srgbClr val="2d2db9"/>
                </a:solidFill>
                <a:latin typeface="Century Schoolbook"/>
              </a:rPr>
              <a:t>І звуть його, звичайно,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093DD-7BFC-4F21-9D68-302B21D73B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0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96720" y="208080"/>
            <a:ext cx="942984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2d2db9"/>
                </a:solidFill>
                <a:latin typeface="Century Schoolbook"/>
              </a:rPr>
              <a:t>Які знайомі вам предмети мають форму круга, а які форму кола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600360" y="6012000"/>
            <a:ext cx="1727280" cy="1224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60360" y="1692360"/>
            <a:ext cx="2143080" cy="1684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2611440" y="1994040"/>
            <a:ext cx="1711440" cy="1357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4248000" y="2771640"/>
            <a:ext cx="1428840" cy="1095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rcRect l="25195" t="0" r="19048" b="0"/>
          <a:stretch/>
        </p:blipFill>
        <p:spPr>
          <a:xfrm>
            <a:off x="6264360" y="2484360"/>
            <a:ext cx="796680" cy="1428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6985080" y="3995640"/>
            <a:ext cx="1871640" cy="1297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CDF59-187F-44B4-8C1E-6A92BF0E4DF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8"/>
          <a:srcRect l="0" t="8683" r="0" b="17425"/>
          <a:stretch/>
        </p:blipFill>
        <p:spPr>
          <a:xfrm>
            <a:off x="360360" y="3132000"/>
            <a:ext cx="2016000" cy="1224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6912000" y="1692360"/>
            <a:ext cx="1787400" cy="1670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0"/>
          <a:srcRect l="5094" t="15630" r="55917" b="13819"/>
          <a:stretch/>
        </p:blipFill>
        <p:spPr>
          <a:xfrm>
            <a:off x="216000" y="5724360"/>
            <a:ext cx="1655640" cy="1511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1"/>
          <a:srcRect l="0" t="13826" r="0" b="26040"/>
          <a:stretch/>
        </p:blipFill>
        <p:spPr>
          <a:xfrm>
            <a:off x="4680000" y="1619280"/>
            <a:ext cx="1644480" cy="1008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2"/>
          <a:srcRect l="0" t="0" r="17526" b="0"/>
          <a:stretch/>
        </p:blipFill>
        <p:spPr>
          <a:xfrm>
            <a:off x="7201080" y="5508720"/>
            <a:ext cx="1368360" cy="936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3"/>
          <a:stretch/>
        </p:blipFill>
        <p:spPr>
          <a:xfrm>
            <a:off x="5616720" y="6227640"/>
            <a:ext cx="1439640" cy="792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4"/>
          <a:stretch/>
        </p:blipFill>
        <p:spPr>
          <a:xfrm>
            <a:off x="2519280" y="3419640"/>
            <a:ext cx="1513080" cy="1439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5"/>
          <a:srcRect l="0" t="16186" r="0" b="19141"/>
          <a:stretch/>
        </p:blipFill>
        <p:spPr>
          <a:xfrm>
            <a:off x="287280" y="4572000"/>
            <a:ext cx="1584360" cy="863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6"/>
          <a:stretch/>
        </p:blipFill>
        <p:spPr>
          <a:xfrm>
            <a:off x="8353440" y="2843280"/>
            <a:ext cx="1604880" cy="1152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7"/>
          <a:stretch/>
        </p:blipFill>
        <p:spPr>
          <a:xfrm>
            <a:off x="4535640" y="3924360"/>
            <a:ext cx="1873080" cy="1871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8"/>
          <a:stretch/>
        </p:blipFill>
        <p:spPr>
          <a:xfrm>
            <a:off x="2016000" y="4932360"/>
            <a:ext cx="1303560" cy="2303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0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011240" y="347760"/>
            <a:ext cx="4535640" cy="2560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dur="indefinite" fill="hold">
                      <p:stCondLst>
                        <p:cond delay="0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54160" y="208080"/>
            <a:ext cx="9323280" cy="74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4400" spc="-1" strike="noStrike" u="sng">
                <a:solidFill>
                  <a:srgbClr val="32946a"/>
                </a:solidFill>
                <a:uFillTx/>
                <a:latin typeface="Georgia"/>
              </a:rPr>
              <a:t>Завдання уро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entury Schoolbook"/>
              </a:rPr>
              <a:t>1. </a:t>
            </a:r>
            <a:r>
              <a:rPr b="1" lang="uk-UA" sz="3600" spc="-1" strike="noStrike">
                <a:solidFill>
                  <a:srgbClr val="2d2db9"/>
                </a:solidFill>
                <a:latin typeface="Century Schoolbook"/>
              </a:rPr>
              <a:t>З</a:t>
            </a:r>
            <a:r>
              <a:rPr b="1" lang="en-US" sz="3600" spc="-1" strike="noStrike">
                <a:solidFill>
                  <a:srgbClr val="2d2db9"/>
                </a:solidFill>
                <a:latin typeface="Century Schoolbook"/>
              </a:rPr>
              <a:t>’</a:t>
            </a:r>
            <a:r>
              <a:rPr b="1" lang="uk-UA" sz="3600" spc="-1" strike="noStrike">
                <a:solidFill>
                  <a:srgbClr val="2d2db9"/>
                </a:solidFill>
                <a:latin typeface="Century Schoolbook"/>
              </a:rPr>
              <a:t>ясувати відмінності між колом та кругом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entury Schoolbook"/>
              </a:rPr>
              <a:t>2. </a:t>
            </a:r>
            <a:r>
              <a:rPr b="1" lang="uk-UA" sz="3600" spc="-1" strike="noStrike">
                <a:solidFill>
                  <a:srgbClr val="2d2db9"/>
                </a:solidFill>
                <a:latin typeface="Century Schoolbook"/>
              </a:rPr>
              <a:t>Вдосконалювати навички користування креслярським приладдям для побудови кол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entury Schoolbook"/>
              </a:rPr>
              <a:t>3.</a:t>
            </a:r>
            <a:r>
              <a:rPr b="1" lang="uk-UA" sz="3600" spc="-1" strike="noStrike">
                <a:solidFill>
                  <a:srgbClr val="2d2db9"/>
                </a:solidFill>
                <a:latin typeface="Century Schoolbook"/>
              </a:rPr>
              <a:t> Повторити відомі та вивчити нові елементи фігур та їх властивості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56CAD-5781-4A60-8C2D-C85428D039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3280" y="0"/>
            <a:ext cx="90694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2d2db9"/>
                </a:solidFill>
                <a:latin typeface="Century Schoolbook"/>
              </a:rPr>
              <a:t>Який креслярський інструмент потрібний, щоб зобразити на папері круг або кол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4D67A-28CF-4A40-90FB-1657340EE4A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60360" y="1547640"/>
            <a:ext cx="2592360" cy="2500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rcRect l="0" t="7559" r="0" b="0"/>
          <a:stretch/>
        </p:blipFill>
        <p:spPr>
          <a:xfrm>
            <a:off x="3095640" y="1547640"/>
            <a:ext cx="2857320" cy="2641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6264360" y="1619280"/>
            <a:ext cx="2857320" cy="2521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rcRect l="20229" t="0" r="19077" b="0"/>
          <a:stretch/>
        </p:blipFill>
        <p:spPr>
          <a:xfrm>
            <a:off x="360360" y="4211640"/>
            <a:ext cx="2374920" cy="2881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3024360" y="4427640"/>
            <a:ext cx="2016000" cy="1728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5184720" y="4356000"/>
            <a:ext cx="3168720" cy="2835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095640" y="3924360"/>
            <a:ext cx="142920" cy="142920"/>
          </a:xfrm>
          <a:prstGeom prst="ellipse">
            <a:avLst/>
          </a:prstGeom>
          <a:solidFill>
            <a:srgbClr val="0070c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63640" y="1763640"/>
            <a:ext cx="4681440" cy="4824360"/>
          </a:xfrm>
          <a:prstGeom prst="ellipse">
            <a:avLst/>
          </a:prstGeom>
          <a:noFill/>
          <a:ln cap="sq"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19920" y="3462480"/>
            <a:ext cx="1109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19640" y="208080"/>
            <a:ext cx="363564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entury Schoolbook"/>
              </a:rPr>
              <a:t>1.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 Позначте на папері точку </a:t>
            </a: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92720" y="1258920"/>
            <a:ext cx="388800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entury Schoolbook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Розхилі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«ніжки» циркуля на будь-яку шир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92720" y="2987640"/>
            <a:ext cx="3888000" cy="32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entury Schoolbook"/>
              </a:rPr>
              <a:t>3.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оставте голку циркуля в точку </a:t>
            </a: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, а другою «ніжкою» з олівцем проведіть замкнену ліні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A6DD0-2FF9-4B44-ADB5-34952DB80F4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0" y="3348000"/>
            <a:ext cx="576360" cy="9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entury Schoolbook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92000" y="179280"/>
            <a:ext cx="51850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 u="sng">
                <a:solidFill>
                  <a:srgbClr val="32946a"/>
                </a:solidFill>
                <a:uFillTx/>
                <a:latin typeface="Georgia"/>
              </a:rPr>
              <a:t>Завдання 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dur="indefinite" fill="hold">
                      <p:stCondLst>
                        <p:cond delay="0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8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2:11:11Z</dcterms:created>
  <dc:creator/>
  <dc:description/>
  <dc:language>en-US</dc:language>
  <cp:lastModifiedBy>Сидоренко </cp:lastModifiedBy>
  <dcterms:modified xsi:type="dcterms:W3CDTF">2017-04-03T18:45:37Z</dcterms:modified>
  <cp:revision>105</cp:revision>
  <dc:subject/>
  <dc:title>Слайд 1</dc:title>
</cp:coreProperties>
</file>