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523-98F9-4AC4-B398-99D7E555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B69-CC09-4527-800A-A188204B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F16-7A99-4172-9BFE-A3910E12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CAA-EAB2-44A7-84B0-EC6DBB4D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F187-7E77-4D0E-BEBA-E18DA156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2678-9B12-4989-BAB3-ED26A30C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6718-6887-4B2C-8D48-619A6D3D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FB72-BF44-47EA-AD69-832F71AA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01A0-F99A-40F9-849B-B9D1BEA2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ACC6-2B2B-4D2F-8B0A-3EE901ED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EF79-836A-4ED9-BA64-581147F3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6DB-1924-4B97-833A-0ED3617A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B4A8-DC55-44A0-B0EC-3D279EB0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39CD-CDBD-4884-BB01-C228D259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EAF1-2416-4636-995B-A0D37C2A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F88A-BF31-4089-91EC-D696337A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DF55-61D2-4D0C-B019-C73EC2AA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E3E3-E29D-4C8F-B72F-5EBCF594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11B-3F1C-4F1F-8543-5E49B0BD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A71-4414-4BE3-9C39-C408632B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EAF-89CE-470C-85E3-78B0A132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99F-6AB0-4C9D-85CF-626EEF0A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0BD-3BEA-43D3-99EC-81D0912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105-CD12-4B1F-B964-B4F445E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Book Antiqu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9628-723A-4114-8A1E-E64BBB2B34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Book Antiqu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4F7C-1DF9-41E6-9802-006325DE96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aforismo.com.ua/authors/392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000000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dventure"/>
              </a:rPr>
              <a:t>КРАЇНА ДРУЖБИ</a:t>
            </a:r>
            <a:endParaRPr b="0" lang="en-US" sz="54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390840"/>
            <a:ext cx="6400800" cy="1524240"/>
          </a:xfrm>
          <a:prstGeom prst="rect">
            <a:avLst/>
          </a:prstGeom>
          <a:solidFill>
            <a:srgbClr val="000000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0066"/>
                </a:solidFill>
                <a:latin typeface="Book Antiqua"/>
              </a:rPr>
              <a:t>Привітання</a:t>
            </a: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0" name="Picture 5" descr="ANd9GcS5G8DApPbzKTGwX8cSgbPr2QikTWJ3HXJne-6HNbCiqG97Yma1"/>
          <p:cNvPicPr/>
          <p:nvPr/>
        </p:nvPicPr>
        <p:blipFill>
          <a:blip r:embed="rId1"/>
          <a:stretch/>
        </p:blipFill>
        <p:spPr>
          <a:xfrm>
            <a:off x="2556000" y="1268280"/>
            <a:ext cx="5903640" cy="3961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2411280" y="5587920"/>
            <a:ext cx="84074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лизьке спілкування - ось звідки беруть поча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іжної дружби і сильна  ненави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084720" y="6165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e4005c"/>
                </a:solidFill>
                <a:uFillTx/>
                <a:latin typeface="Arial"/>
                <a:hlinkClick r:id="rId2"/>
              </a:rPr>
              <a:t>Антуан де Ривар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60066"/>
                </a:solidFill>
                <a:latin typeface="Book Antiqua"/>
              </a:rPr>
              <a:t>Від уміння спілкуватися залежить дуже багато в нашому житті</a:t>
            </a:r>
            <a:endParaRPr b="0" lang="en-US" sz="28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пілкування є містом до 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набуття справжніх друзів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отримання бажаної роботи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досягнення мети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чи будеш ти цікавий для людей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Тому слушно сказати що спілкування - це ціле мистецтво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60066"/>
                </a:solidFill>
                <a:latin typeface="Book Antiqua"/>
              </a:rPr>
              <a:t>Що таке спілкування?</a:t>
            </a:r>
            <a:endParaRPr b="0" lang="en-US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Спілкування – складний процес взаємодії між людьми, що полягає в обміні інформацією, а також у сприйнятті і розумінні партнерами один одного.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Які були у Вас відчуття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який настрій у Вас був під час спільної роботи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який ви зробили висновок з цієї роботи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660066"/>
              </a:solidFill>
              <a:latin typeface="Book Antiqu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38280" y="1413000"/>
            <a:ext cx="6400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Щоб мову свою 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ід помилок вберегт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’ять речей пам’ятай завжди 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ому ти говориш, 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ро кого говориш, 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Та як, і де, і коли. 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(Омар Хайям)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     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00:14:50Z</dcterms:created>
  <dc:creator>Paradise</dc:creator>
  <dc:description/>
  <dc:language>en-US</dc:language>
  <cp:lastModifiedBy>Paradise</cp:lastModifiedBy>
  <dcterms:modified xsi:type="dcterms:W3CDTF">2000-12-31T23:23:30Z</dcterms:modified>
  <cp:revision>8</cp:revision>
  <dc:subject/>
  <dc:title>КРАЇНА ДРУЖБИ</dc:title>
</cp:coreProperties>
</file>