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2422-D507-43BB-8D43-AEF5ADA1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1430-7477-41F5-82DA-5BBA8B37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19D-06C7-4E76-AD38-99E2DF58D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5CBE-6F17-4ECC-8A0F-6D9018B2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D599-9303-4659-B3E9-15BA8A4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0004-780B-41C4-9173-268353B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F09A-D226-44B5-94E5-E0368FF6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D41F-9130-49F1-8A2B-74326923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7658-9438-4CD8-A942-4197771F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B24A-EF98-4B28-A80E-72C6AF0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2D84-348A-4A9B-AD79-44731A6C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7AD-86BF-4150-83D6-726E302E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D285-ACB4-4D15-83EC-49427D5F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8718-3BFF-46FF-959C-98A83E8B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2C60D-DBE2-4CA8-B4F5-E7223FF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5FC6-78AE-4C80-BD1F-5A784C20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FC78-512B-4D6F-BB37-6FCC11DF5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BC95-C96A-4DD6-A8B4-4D772708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88E-425C-4FDD-9402-A5161199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41A-C809-47D8-815E-6D5F646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421-F7E8-4959-8600-B17127FC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56A-EE44-4CEC-AE29-0F357BA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4580-99DD-4478-B820-1B0CEFA3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107-69C7-4ADE-8000-73C10E83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E3D9-0C1D-4E21-BC19-54E34DE31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E392-3EC2-4A5D-B092-0E4D313FF9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Шевченко - художник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718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творив 60 власних автопортреті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а якими можна вивча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сю історію його житт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87640" y="2133720"/>
            <a:ext cx="338472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3656160" cy="4681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258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699000" cy="4530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3672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10920" y="475920"/>
            <a:ext cx="74278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етична спадщ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Шевченка налічує 240 творі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мистецька майже 1200 робі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 rot="20933400">
            <a:off x="468360" y="3357360"/>
            <a:ext cx="2273400" cy="2808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 rot="624600">
            <a:off x="6443640" y="3428640"/>
            <a:ext cx="2340000" cy="2735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843280" y="2421000"/>
            <a:ext cx="345600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777564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арас Григорович писа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портре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600720" cy="50403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81636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тюрмор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772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ейзажі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258920" y="907920"/>
            <a:ext cx="684216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олодів різноманітними техніками образотворчого мистец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конува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гравюр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26920" y="836640"/>
            <a:ext cx="74883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44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фор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480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64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епії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687840" cy="50338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932360" y="1197000"/>
            <a:ext cx="36576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7:10:00Z</dcterms:created>
  <dc:creator>Home</dc:creator>
  <dc:description/>
  <dc:language>en-US</dc:language>
  <cp:lastModifiedBy>Home</cp:lastModifiedBy>
  <dcterms:modified xsi:type="dcterms:W3CDTF">2014-02-09T07:49:35Z</dcterms:modified>
  <cp:revision>3</cp:revision>
  <dc:subject/>
  <dc:title>Шевченко - художник</dc:title>
</cp:coreProperties>
</file>