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975-6313-490C-9467-566389A4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FC5-F43C-424B-8B2E-5735E404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520-9E49-4E9E-94D1-D28388D8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6C0-C10A-41DA-B769-E7D2B509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591-FF1F-42FA-A325-3DCFEC56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1C2-1BDE-4640-A384-7B09619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355-AE94-4ADB-A8DB-5DBC53E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832-8823-4A45-9B92-636A2492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04B-4A0F-4B58-B502-CA27F078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E51-03F4-467E-9A62-76F504B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DAD-83D5-4578-90EB-7F80E8A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CBF-CBF2-453F-ADCA-FA774CA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4003-F5BA-4957-9CAD-7607E9C12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868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alibri"/>
              </a:rPr>
              <a:t>At the doctor’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olga\Documents\7 form karpiuk\41 health service\youtube.com).jpg"/>
          <p:cNvPicPr/>
          <p:nvPr/>
        </p:nvPicPr>
        <p:blipFill>
          <a:blip r:embed="rId1"/>
          <a:stretch/>
        </p:blipFill>
        <p:spPr>
          <a:xfrm>
            <a:off x="714240" y="1171440"/>
            <a:ext cx="7691400" cy="4614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428760" y="285840"/>
            <a:ext cx="8358120" cy="157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Home Task</a:t>
            </a:r>
            <a:br>
              <a:rPr sz="4400"/>
            </a:br>
            <a:r>
              <a:rPr b="1" i="1" lang="en-US" sz="4000" spc="-1" strike="noStrike">
                <a:solidFill>
                  <a:srgbClr val="632523"/>
                </a:solidFill>
                <a:latin typeface="Calibri"/>
              </a:rPr>
              <a:t>Exercise , pa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olga\Documents\7 form karpiuk\44 at the doctor's\tumblr.com advice.jpg"/>
          <p:cNvPicPr/>
          <p:nvPr/>
        </p:nvPicPr>
        <p:blipFill>
          <a:blip r:embed="rId1"/>
          <a:stretch/>
        </p:blipFill>
        <p:spPr>
          <a:xfrm>
            <a:off x="1428840" y="2071800"/>
            <a:ext cx="6262560" cy="4370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714240" y="357120"/>
            <a:ext cx="7786800" cy="2643120"/>
          </a:xfrm>
          <a:prstGeom prst="rect">
            <a:avLst/>
          </a:prstGeom>
          <a:solidFill>
            <a:srgbClr val="ffff61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Greeting</a:t>
            </a:r>
            <a:br>
              <a:rPr sz="3600"/>
            </a:br>
            <a:r>
              <a:rPr b="1" lang="en-US" sz="3600" spc="-1" strike="noStrike">
                <a:solidFill>
                  <a:srgbClr val="632523"/>
                </a:solidFill>
                <a:latin typeface="Arial Black"/>
              </a:rPr>
              <a:t>─</a:t>
            </a:r>
            <a:r>
              <a:rPr b="0" lang="en-US" sz="3600" spc="-1" strike="noStrike">
                <a:solidFill>
                  <a:srgbClr val="632523"/>
                </a:solidFill>
                <a:latin typeface="Arial"/>
              </a:rPr>
              <a:t> Hello, stud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Arial"/>
              </a:rPr>
              <a:t>— </a:t>
            </a:r>
            <a:r>
              <a:rPr b="0" lang="en-US" sz="3200" spc="-1" strike="noStrike">
                <a:solidFill>
                  <a:srgbClr val="632523"/>
                </a:solidFill>
                <a:latin typeface="Arial"/>
              </a:rPr>
              <a:t>I’m glad to see you.</a:t>
            </a:r>
            <a:br>
              <a:rPr sz="3200"/>
            </a:br>
            <a:r>
              <a:rPr b="0" lang="en-US" sz="3200" spc="-1" strike="noStrike">
                <a:solidFill>
                  <a:srgbClr val="632523"/>
                </a:solidFill>
                <a:latin typeface="Arial"/>
              </a:rPr>
              <a:t>— How are yo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Users\olga\Documents\7 form karpiuk\1 unit\01 in school\activities 7 grade\symbols-n-emoticons.com greeting.gif"/>
          <p:cNvPicPr/>
          <p:nvPr/>
        </p:nvPicPr>
        <p:blipFill>
          <a:blip r:embed="rId1"/>
          <a:stretch/>
        </p:blipFill>
        <p:spPr>
          <a:xfrm>
            <a:off x="3214800" y="4000680"/>
            <a:ext cx="2757240" cy="2284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ealth Vocabulary for Kids - Kids Learning Videos (Fun Children-s Learning)_xvid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00040" y="500040"/>
          <a:ext cx="8358120" cy="5670720"/>
        </p:xfrm>
        <a:graphic>
          <a:graphicData uri="http://schemas.openxmlformats.org/drawingml/2006/table">
            <a:tbl>
              <a:tblPr/>
              <a:tblGrid>
                <a:gridCol w="4219560"/>
                <a:gridCol w="4138560"/>
              </a:tblGrid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1. I’ve got a head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a) give up smo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2. I’ve got a tooth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b) have it X­ra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53460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3. I’m coug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c) apply some oin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4. My nose is block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d) consult a surge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5. My nose is ru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e) use some garg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6. I’ve got a temp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f) take some aspir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7. I’ve broken my 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g) stay in bed for a 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8. My stomach 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h) take some medi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9. I’ve burnt my h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i) go to the dent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10. I’ve cut my fi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j) lie in the sun for a day or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11. I can’t move my l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k) use nasal dr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  <a:tr h="466920"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12. I’ve got a sore thr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43200" rIns="43200" tIns="432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32523"/>
                          </a:solidFill>
                          <a:latin typeface="Calibri"/>
                          <a:ea typeface="Times New Roman"/>
                        </a:rPr>
                        <a:t>l) use some antisep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928960" y="14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32523"/>
                </a:solidFill>
                <a:latin typeface="Calibri"/>
                <a:ea typeface="Times New Roman"/>
              </a:rPr>
              <a:t>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785880" y="6000840"/>
            <a:ext cx="7772400" cy="642960"/>
          </a:xfrm>
          <a:prstGeom prst="rect">
            <a:avLst/>
          </a:prstGeom>
          <a:solidFill>
            <a:srgbClr val="953735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Key: 1 f; 2 i; 3 a; 4 k; 5 j; 6 g; 7 d; 8 h; 9 c; 10 l; 11 b; 12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у лікаря.wmv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071720" y="114300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’s the problem to pati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did the doctor prescrib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the woman d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58435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32523"/>
                </a:solidFill>
                <a:latin typeface="Calibri"/>
              </a:rPr>
              <a:t>Example:</a:t>
            </a:r>
            <a:br>
              <a:rPr sz="3600"/>
            </a:br>
            <a:r>
              <a:rPr b="0" i="1" lang="en-US" sz="3600" spc="-1" strike="noStrike">
                <a:solidFill>
                  <a:srgbClr val="632523"/>
                </a:solidFill>
                <a:latin typeface="Calibri"/>
              </a:rPr>
              <a:t>— I’ve got a headache.</a:t>
            </a:r>
            <a:br>
              <a:rPr sz="3600"/>
            </a:br>
            <a:r>
              <a:rPr b="0" i="1" lang="en-US" sz="3600" spc="-1" strike="noStrike">
                <a:solidFill>
                  <a:srgbClr val="632523"/>
                </a:solidFill>
                <a:latin typeface="Calibri"/>
              </a:rPr>
              <a:t>— Take some aspir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4429080" y="214200"/>
            <a:ext cx="448632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Make up dialog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C:\Users\olga\Documents\7 form karpiuk\44 at the doctor's\featurepics.com dialogue.jpg"/>
          <p:cNvPicPr/>
          <p:nvPr/>
        </p:nvPicPr>
        <p:blipFill>
          <a:blip r:embed="rId1"/>
          <a:stretch/>
        </p:blipFill>
        <p:spPr>
          <a:xfrm>
            <a:off x="0" y="0"/>
            <a:ext cx="1928880" cy="124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olga\Documents\7 form karpiuk\44 at the doctor's\girl-in-pink-shirt-looking-at-pills-on-table.jpg"/>
          <p:cNvPicPr/>
          <p:nvPr/>
        </p:nvPicPr>
        <p:blipFill>
          <a:blip r:embed="rId2"/>
          <a:stretch/>
        </p:blipFill>
        <p:spPr>
          <a:xfrm>
            <a:off x="4929120" y="2928960"/>
            <a:ext cx="3743280" cy="359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000760" y="214200"/>
            <a:ext cx="3929040" cy="357480"/>
          </a:xfrm>
          <a:prstGeom prst="rect">
            <a:avLst/>
          </a:prstGeom>
          <a:solidFill>
            <a:srgbClr val="ffff99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Exercise 2, page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olga\Documents\7 form karpiuk\44 at the doctor's\pinterest.com writing.jpg"/>
          <p:cNvPicPr/>
          <p:nvPr/>
        </p:nvPicPr>
        <p:blipFill>
          <a:blip r:embed="rId1"/>
          <a:stretch/>
        </p:blipFill>
        <p:spPr>
          <a:xfrm>
            <a:off x="0" y="214200"/>
            <a:ext cx="1357200" cy="1538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5"/>
          <p:cNvSpPr/>
          <p:nvPr/>
        </p:nvSpPr>
        <p:spPr>
          <a:xfrm>
            <a:off x="0" y="20228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octor was a nice woman. She visited John at his ho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istened to his breathing. Then she examined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y'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was bright 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hn'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was rather high. She said it wasn'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just a bad c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w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oughing all the time. But the doctor promi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e would be better in several days. 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medicine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headache and h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 asked mother to buy the medic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John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3 days. She told John he had to drink warm mil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butter, honey and mineral water. Then he 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se words the doctor left the roo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1428840" y="35712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1428840" y="100008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1428840" y="150012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3214800" y="35712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5"/>
          <p:cNvSpPr/>
          <p:nvPr/>
        </p:nvSpPr>
        <p:spPr>
          <a:xfrm>
            <a:off x="3214800" y="100008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nee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6"/>
          <p:cNvSpPr/>
          <p:nvPr/>
        </p:nvSpPr>
        <p:spPr>
          <a:xfrm>
            <a:off x="3214800" y="150012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y in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5072040" y="71424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5000760" y="1214280"/>
            <a:ext cx="16430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9"/>
          <p:cNvSpPr/>
          <p:nvPr/>
        </p:nvSpPr>
        <p:spPr>
          <a:xfrm>
            <a:off x="6929280" y="714240"/>
            <a:ext cx="1643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re thr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0"/>
          <p:cNvSpPr/>
          <p:nvPr/>
        </p:nvSpPr>
        <p:spPr>
          <a:xfrm>
            <a:off x="6929280" y="1214280"/>
            <a:ext cx="1643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ok a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6 -0.08634 L -0.78073 0.17616 E">
                                      <p:cBhvr>
                                        <p:cTn id="5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1 0.03866 L -0.23264 0.36412 E">
                                      <p:cBhvr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0.03866 L 0.06493 0.41667 E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43316 0.29398 E">
                                      <p:cBhvr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3959 L -0.22326 0.34422 E">
                                      <p:cBhvr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3936 L -0.15399 0.42778 E">
                                      <p:cBhvr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11025 0.4412 E"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73351 0.6375 E">
                                      <p:cBhvr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31927 0.57546 E">
                                      <p:cBhvr>
                                        <p:cTn id="8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15487 0.75301 E">
                                      <p:cBhvr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4214880" y="357120"/>
            <a:ext cx="4629240" cy="85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What happened to Joh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olga\Documents\7 form karpiuk\44 at the doctor's\featurepics.com dialogue.jpg"/>
          <p:cNvPicPr/>
          <p:nvPr/>
        </p:nvPicPr>
        <p:blipFill>
          <a:blip r:embed="rId1"/>
          <a:stretch/>
        </p:blipFill>
        <p:spPr>
          <a:xfrm>
            <a:off x="0" y="0"/>
            <a:ext cx="2100240" cy="13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olga\Documents\7 form karpiuk\44 at the doctor's\caho-hospitals.com ex 4.jpg"/>
          <p:cNvPicPr/>
          <p:nvPr/>
        </p:nvPicPr>
        <p:blipFill>
          <a:blip r:embed="rId2"/>
          <a:stretch/>
        </p:blipFill>
        <p:spPr>
          <a:xfrm>
            <a:off x="4929120" y="3929040"/>
            <a:ext cx="369252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olga\Documents\7 form karpiuk\44 at the doctor's\fares.be ex 4.jpg"/>
          <p:cNvPicPr/>
          <p:nvPr/>
        </p:nvPicPr>
        <p:blipFill>
          <a:blip r:embed="rId3"/>
          <a:stretch/>
        </p:blipFill>
        <p:spPr>
          <a:xfrm>
            <a:off x="214200" y="1857240"/>
            <a:ext cx="3643560" cy="270684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214880" y="1428840"/>
            <a:ext cx="4629240" cy="85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What did the doctor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4214880" y="2428920"/>
            <a:ext cx="4629240" cy="85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What should John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Uzer</cp:lastModifiedBy>
  <dcterms:modified xsi:type="dcterms:W3CDTF">2018-04-06T06:19:19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>п201612302136SlideId257</vt:lpwstr>
  </property>
  <property fmtid="{D5CDD505-2E9C-101B-9397-08002B2CF9AE}" pid="3" name="IsFreeze">
    <vt:bool>1</vt:bool>
  </property>
  <property fmtid="{D5CDD505-2E9C-101B-9397-08002B2CF9AE}" pid="4" name="MayClose">
    <vt:bool>0</vt:bool>
  </property>
  <property fmtid="{D5CDD505-2E9C-101B-9397-08002B2CF9AE}" pid="5" name="StrPasteIntoNotes">
    <vt:lpwstr/>
  </property>
  <property fmtid="{D5CDD505-2E9C-101B-9397-08002B2CF9AE}" pid="6" name="UserClose">
    <vt:bool>0</vt:bool>
  </property>
</Properties>
</file>