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93D-F2BF-446A-8863-79B02AB5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C97-D3EF-4F8F-8FF1-6B64A241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FDA-69CC-4033-AE99-D9711D32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5E8-F9CE-4D9F-BD3D-478BE784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1266-AC74-43A3-8742-E34074F7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42DE-1AE9-473B-9054-C799505E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E816-25D5-41F5-8AAC-CEB16C27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1C51-68B8-4016-8B2C-40566F48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CB72-4F05-46A4-952D-85538E0F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2B3C-3DF7-43E5-8B87-F6AF86D0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2D01-8387-4BC6-B99B-02B5DD9E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06F-14A5-4775-AA22-F276919B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4AD4-761A-4D2E-B6E0-4EB5D91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BD6F-E2D2-4871-A6E1-8DB1AAF5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BA96-EF38-4EA9-B28E-2D6AFCB1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2267-4347-4D6E-9357-ECECAAE4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A768-79FA-4AA4-A373-45E3BB28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D70-C4AB-4696-A028-B72F5CF3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790-40B8-444B-ACAB-FE3EDC60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D0E-9982-41BE-BA55-999B09D8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F0C-12D3-4DF5-BEF3-3945DF9A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FB1-38DE-49E9-94C0-81C52E14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5F3-A3CF-4E1B-8D27-9B12427B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CCB-D7CE-4F42-AB32-30ECCB1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3C6E-6D79-440A-9B23-074241696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45E3-3E3B-4100-87C6-BF0B12BDF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Життя Ліни Костенк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943240" y="1752120"/>
            <a:ext cx="3048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 березня 1930 рі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3687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асиль Костенк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667400" cy="3733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Журнал «Дніпро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" descr="Ð ÐµÐ·ÑÐ»ÑÑÐ°Ñ Ð¿Ð¾ÑÑÐºÑ Ð·Ð¾Ð±ÑÐ°Ð¶ÐµÐ½Ñ Ð·Ð° Ð·Ð°Ð¿Ð¸ÑÐ¾Ð¼ &quot;ÐÐ¾Ð±ÑÐ°Ð¶ÐµÐ½Ð½Ñ Ð»ÑÑÐµÑÐ°ÑÑÑÐ½Ð¾Ñ  ÑÑÑÐ´ÑÑ Ð¿ÑÐ¸ Ð¶ÑÑÐ½Ð°Ð»Ñ Â«ÐÐ½ÑÐ¿ÑÐ¾Â».&quot;"/>
          <p:cNvPicPr/>
          <p:nvPr/>
        </p:nvPicPr>
        <p:blipFill>
          <a:blip r:embed="rId2"/>
          <a:stretch/>
        </p:blipFill>
        <p:spPr>
          <a:xfrm>
            <a:off x="5867280" y="2362320"/>
            <a:ext cx="2857680" cy="4095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5800" y="2971800"/>
            <a:ext cx="4276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1946 році були опубліковані її перші вірші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годом авторка у своїх віршах розповість про біженські дороги воєнних років і про «балетну школу» замінованого поля, по якому доводилося ходити, і про перший, написаний в окопі, вір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540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рчий розвиток Ліни Костенко - поетеси гострої думки і палкого темпераменту - не був позбавлений складних моменті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5379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Ліна Костенк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прямий духовний нащадок Тараса Шевченка, Лесі Українки, Івана Франка - поетів такого масштабу, такого дарування народжується мало - один-два на столітт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200480" cy="2470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3603600" cy="4810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33520" y="3733920"/>
            <a:ext cx="412884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5406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на стала почесним професором Національного університету «Києво-Могилянської академії», її обожнюють студенти і з трепетом ходять на її лекції, пишаючись тим, що можуть слухати «тирана» українського сло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66294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10:48:02Z</dcterms:created>
  <dc:creator>Olga</dc:creator>
  <dc:description/>
  <dc:language>en-US</dc:language>
  <cp:lastModifiedBy>Olga</cp:lastModifiedBy>
  <dcterms:modified xsi:type="dcterms:W3CDTF">2018-04-23T11:03:0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