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FAB-B916-4626-8834-C3F5612F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AB4-5B0D-4C3B-91DE-51F7C27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2BA-3238-402B-9247-63111F2E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CC9-DDED-4C65-8C14-335586B9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5361-6683-4CDE-A034-104CF1EE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98D2-2664-40EB-BC02-76C96B9E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55F6-D6B9-4B5C-A3A5-8132CD92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D1D-92FD-4036-AC5D-A57A1836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5EDD-341E-4C70-96C4-41FA281E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FC38-B63A-49F1-AD8A-8EA50455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8A92-E433-459C-889D-A4156CC9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493-B23B-43C8-A9B2-741B8E45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B913-DA57-4E72-BDC5-E01F12AA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6B64-42A8-4D92-929C-C818ADF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AC07-6542-4D5D-B9C3-E77AF729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372B-194D-4BC5-93C2-18FAFE9B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1FB5-A513-48B9-A115-4DE0D517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A40-CC67-47F2-9997-7F6ED28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85F-372D-4F6F-9C11-D21DBE75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B36-2D76-4B1E-9E6A-AF02932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4FE-5477-48F7-9393-CBF54558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5D1-1F72-4846-A5FF-6B11B59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7DC-9131-4875-A7E3-EA919E8D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2E0-F4D7-4110-991F-2C6D5A0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E35F-6A4D-4B57-B90F-A18C9E035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8134-CED2-4B10-BAD1-D39A77C39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Життя Ліни Костенк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943240" y="1752120"/>
            <a:ext cx="3048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березня 1930 рі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3687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асиль Костенк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667400" cy="3733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Журнал «Дніпро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" descr="Ð ÐµÐ·ÑÐ»ÑÑÐ°Ñ Ð¿Ð¾ÑÑÐºÑ Ð·Ð¾Ð±ÑÐ°Ð¶ÐµÐ½Ñ Ð·Ð° Ð·Ð°Ð¿Ð¸ÑÐ¾Ð¼ &quot;ÐÐ¾Ð±ÑÐ°Ð¶ÐµÐ½Ð½Ñ Ð»ÑÑÐµÑÐ°ÑÑÑÐ½Ð¾Ñ  ÑÑÑÐ´ÑÑ Ð¿ÑÐ¸ Ð¶ÑÑÐ½Ð°Ð»Ñ Â«ÐÐ½ÑÐ¿ÑÐ¾Â».&quot;"/>
          <p:cNvPicPr/>
          <p:nvPr/>
        </p:nvPicPr>
        <p:blipFill>
          <a:blip r:embed="rId2"/>
          <a:stretch/>
        </p:blipFill>
        <p:spPr>
          <a:xfrm>
            <a:off x="5867280" y="2362320"/>
            <a:ext cx="2857680" cy="4095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2971800"/>
            <a:ext cx="4276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1946 році були опубліковані її перші вірші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годом авторка у своїх віршах розповість про біженські дороги воєнних років і про «балетну школу» замінованого поля, по якому доводилося ходити, і про перший, написаний в окопі, вір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540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рчий розвиток Ліни Костенко - поетеси гострої думки і палкого темпераменту - не був позбавлений складних моменті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379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Ліна Костенк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прямий духовний нащадок Тараса Шевченка, Лесі Українки, Івана Франка - поетів такого масштабу, такого дарування народжується мало - один-два на столітт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200480" cy="2470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603600" cy="4810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33520" y="3733920"/>
            <a:ext cx="412884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540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на стала почесним професором Національного університету «Києво-Могилянської академії», її обожнюють студенти і з трепетом ходять на її лекції, пишаючись тим, що можуть слухати «тирана» українського сл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66294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10:48:02Z</dcterms:created>
  <dc:creator>Olga</dc:creator>
  <dc:description/>
  <dc:language>en-US</dc:language>
  <cp:lastModifiedBy>Olga</cp:lastModifiedBy>
  <dcterms:modified xsi:type="dcterms:W3CDTF">2018-04-23T11:03:0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