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7EF-A4E5-4684-AFEA-6241B4472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EB08-4226-4F70-8B5B-78735F887A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0CF-24E3-4EC8-B19A-E7B2CF64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6EB-E00E-445F-841A-CF571E3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9FD-CD68-4DD6-ABCC-F7C98509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BA7-CC3B-4B58-B49E-147BBDEA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A1F-AD9F-4EBB-A5AB-2AC98152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40-D688-4BB8-A538-D315DD9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481-B449-4BE8-A3AD-521A5D3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CE8-C56E-49F1-BF5F-739DD96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768-42FB-490B-AD19-2C9CCB9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961-3164-412A-8989-479C91C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5C2-D724-47FD-9458-ACEFB9E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143-FCDE-4C7B-8F64-6AC5FF3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488-50D5-496C-8A2B-F80B4222E0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Інтерактивна вправа «Мікрофон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Назвіть правила написання складних слів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Інтерактивна вправа «Навчаючи — учу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Іменник як частина мов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Лексичні категорі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менник як частина м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66640" y="1752480"/>
          <a:ext cx="7693200" cy="345276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161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Що означає? (Загальне значенн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які питання відповідає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фоло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ічні озна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нтаксич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ро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едме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Хто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Що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Рід, число, відміно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ff3300"/>
                          </a:solidFill>
                          <a:uFillTx/>
                          <a:latin typeface="Verdana"/>
                        </a:rPr>
                        <a:t>Підмет, додаток</a:t>
                      </a: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, обставина, присудок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означен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ЯДИ ІМЕННИКА ЗА ЗНАЧЕННЯМ: 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197000"/>
          <a:ext cx="8424720" cy="3924360"/>
        </p:xfrm>
        <a:graphic>
          <a:graphicData uri="http://schemas.openxmlformats.org/drawingml/2006/table">
            <a:tbl>
              <a:tblPr/>
              <a:tblGrid>
                <a:gridCol w="647640"/>
                <a:gridCol w="7777080"/>
              </a:tblGrid>
              <a:tr h="720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назви 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ч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- власні назви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ніпро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и істот (хто?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нь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азви неістот (що?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і 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абель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бстрактні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знання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рні (</a:t>
                      </a: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ство, зілля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овинні 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, кисен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Істоти (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хто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и людей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жінка, Олена, футболі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и тварин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лень, кінь, мура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іфологічні істот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мовик, русалка, ма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ерлі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біжчик, покій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істоти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(що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и неживих предметів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актор, сопіл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и сукупності людей чи тварин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урт, рій, табу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и рослин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валія, дуб, спори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ікроорганізм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ктерія, вірус, гриб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тегорія числа іменни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менники діляться на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и груп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іменники, що вживають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однині і в множині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дерево - дерева, думка - дум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ільки в однин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(листя, добро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ільки в множин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(дріжджі, Карпат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79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ільки в одни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живаються іменни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ірні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братство, дрібнота, корінн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з абстрактними значеннями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слава, геройство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речовинні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молоко, ча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 власні назви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Україна, Чигирин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ільки в множи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живаються іменники, що називаю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сукупність предметів, істот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діти, надра, фінанс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часові поняття, ігри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роковини, піжмурки, шах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парні предмети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ножиці, окуляр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 речовину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вершки, парфум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) географічні поняття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Альпи, Сум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мінювані іменники (бюро, кафе) – значення виражається формами узгоджуваних слів :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Звертайтесь у довідкове бю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-360"/>
            <a:ext cx="8507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атегорія роду іменникі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оловічий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дуб, стілець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жіночий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кішка, ніч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ередній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море, село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ільний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базіка, ледащо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прикла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арост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Іван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староста Наді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сирота Васил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сирота Оль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менники – назви істот за фахом, заняттям з нульовим закінченням належать до чоловічого род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інженер, шофер, директор, міністр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ід них творяться назви істот жіночої статі (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учитель – учительк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, або вони ж позначають і осіб жіночого роду, тому рід таких іменників визначають синтаксич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лейтенант Сергій Кривін - лейтенант Галина Криві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7.02.17.     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няття №1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истема частин мови в українській лінгвістиці. Самостійні та службові частини мови. Іменник як частина мови (поділ на відміни, групи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Рід незмінюваних іменників визначається так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Назв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еісто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мають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дній рі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іно, шосе, жур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зв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сто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мають рід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ідповідно до стат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й месье, ця лед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і, мад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Назв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вари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іменник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оловічого ро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поні,  кенгур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еографіч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назви -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ід визначається за загальною назво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та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їс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місто)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апр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острі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бревіатур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мають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ід стрижневого сл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Е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(електростан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пам'ятайте: цеце (муха), івасі, путасу (риба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алямі(ковбаса), гінді (мова), авеню (вулиця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ольрабі (капуста)– жін.р., торнадо (вітер)-чол.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ідміни іменникі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 в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(чол., жін., спільний рід, закінч. –а, -я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хата, пісня, Микита, калі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І в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(чол.р., нульове закінч. або –о; сер.р., закінч. –а (-я), -о, -е)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вітер, сніг, Павло, озеро, мор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ІІ в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(жін.р., нульове закінч., мати)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іч, піч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ма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(сер.р., закінч. –а (-я), суфікси –ат-(-ят-), -ен-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теля, немовля, і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діл іменників І та ІІ відмін на груп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700280"/>
          <a:ext cx="8569080" cy="3784680"/>
        </p:xfrm>
        <a:graphic>
          <a:graphicData uri="http://schemas.openxmlformats.org/drawingml/2006/table">
            <a:tbl>
              <a:tblPr/>
              <a:tblGrid>
                <a:gridCol w="2963880"/>
                <a:gridCol w="2797200"/>
                <a:gridCol w="2808000"/>
              </a:tblGrid>
              <a:tr h="675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ш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на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ий нешиплячий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голосний :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еро, стріха, віт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на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ий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я, водій, зілля, княз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на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ий шиплячий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: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ща, тиша, пла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ій рід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–е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 основою на приголосний: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, сонц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Вправа знавців роду іншомовних слів</a:t>
            </a:r>
            <a:br>
              <a:rPr sz="36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тавте потрібні закінчення. Поясніть, як визначається рід таких незмінюваних іменників.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стралійськ.. кенгуру , обурен.. ООН , смачн.. пюре, рожев.. фламінго, набридлив.. цеце, гарненьк.. поні, грайлив.. шимпанзе, поважн.. мадам, кумедн.. какаду, відмінн.. резюме, мініатюрн.. колібрі</a:t>
            </a:r>
            <a:r>
              <a:rPr b="0" lang="uk-UA" sz="2800" spc="-1" strike="noStrike">
                <a:solidFill>
                  <a:srgbClr val="484848"/>
                </a:solidFill>
                <a:latin typeface="Times New Roman"/>
                <a:ea typeface="Times New Roman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хливи.. торнадо (вітер), швидк.. таксі, велик.. Токіо, смачн.. салямі (ковбаса), цілющ.. боржомі (вода).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пишіть іменники у чотири колонки за відмінами. Підкресліть другу від початку букву. Прочитаєте закінчення вислову О.Гончара  «Працею ...»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ч, площа, біль, галченя, осел, листя, скатерть, плече, кров, мазь, людина, успішність, одиниця, дьоготь, типовість, знамено, сирота, мак, творчість, курча, завзятість, зневага, калюжа, лак, кошеня.</a:t>
            </a:r>
            <a:br>
              <a:rPr sz="32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Вислів О.Гончара: </a:t>
            </a:r>
            <a:br>
              <a:rPr sz="4800"/>
            </a:b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ацею людина і сильна, </a:t>
            </a:r>
            <a:br>
              <a:rPr sz="4800"/>
            </a:b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і красив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озподільний диктант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пишіть підряд іменники І і II відмін у три колонки: 1) тверда; 2) мішана; 3) м'яка група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ураха, ясен, груша, горище, здоров'я, вишня, вдача, стихія, життя, діжка, знання, морж, острівець, змішувач, сміх, стебельце, діжа, лихо, квітень, озеленювач, затишшя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люч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кожному слові підкресліть другу від початку букву. З цих букв прочитаєте вислів Антуана де Сент-Екзюпер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нятт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тор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ізнався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вчився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ідчував труднощі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.146-149 повт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пр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 (с.153)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сокий рівен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сти й записати діалог, використовуючи іменники спільного роду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бо скласти кросворд «Іменник як частина мов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відомості про систему частин мови, озна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якими виділяється і характеризується кожна з част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ви;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тори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мост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іменник як частину мов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и зміцненню навичок визначення ро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исла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мі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менни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вати спостережливість за мовними явищам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влення, мислення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іння використовувати правила на практиц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ховувати грамотну особистість, любов і повагу до рідної мови, повагу один до одн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Епі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1052280"/>
            <a:ext cx="7129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Іменник! Він узяв собі на плечі</a:t>
            </a:r>
            <a:r>
              <a:rPr b="1" i="1" lang="ru-RU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                                                                        </a:t>
            </a:r>
            <a:r>
              <a:rPr b="1" i="1" lang="uk-UA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Велике діло – визначати речі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                                                           </a:t>
            </a:r>
            <a:r>
              <a:rPr b="1" i="1" lang="ru-RU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                                                     </a:t>
            </a:r>
            <a:r>
              <a:rPr b="1" i="1" lang="uk-UA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                </a:t>
            </a:r>
            <a:r>
              <a:rPr b="1" i="1" lang="uk-UA" sz="3200" spc="-1" strike="noStrike">
                <a:solidFill>
                  <a:srgbClr val="993366"/>
                </a:solidFill>
                <a:latin typeface="Comic Sans MS"/>
                <a:ea typeface="Arial"/>
              </a:rPr>
              <a:t>Д. Біло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ДЕВІЗ ЗАНЯТТ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66ff"/>
                </a:solidFill>
                <a:latin typeface="Times New Roman"/>
              </a:rPr>
              <a:t>“ </a:t>
            </a:r>
            <a:r>
              <a:rPr b="1" i="1" lang="uk-UA" sz="3200" spc="-1" strike="noStrike">
                <a:solidFill>
                  <a:srgbClr val="0066ff"/>
                </a:solidFill>
                <a:latin typeface="Times New Roman"/>
              </a:rPr>
              <a:t>Не намагайся бути перши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66ff"/>
                </a:solidFill>
                <a:uFillTx/>
                <a:latin typeface="Times New Roman"/>
              </a:rPr>
              <a:t>а намагайся бути кращи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пишіть речення, над кожним словом надпишіть частини 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413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іни мене, Слово, співом рідної мови, а, як серце заплаче, сильним духом козачим, укріпи в душі волю і пошли щедру долю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кби мені до сонця підійти, я взяв би в нього щедрості краплину і оросив би людськості стежину, до серць людей нові й міцні 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каве про іме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у іменник почали вживати з 1873 року. Її першим використав Омелян Партицький. Правопис 1926 року іменник називав речівн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pic%5CP%5CA%5CPartytsky%20Omelian"/>
          <p:cNvPicPr/>
          <p:nvPr/>
        </p:nvPicPr>
        <p:blipFill>
          <a:blip r:embed="rId1"/>
          <a:stretch/>
        </p:blipFill>
        <p:spPr>
          <a:xfrm>
            <a:off x="4788000" y="1125360"/>
            <a:ext cx="293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передити іменник у кількості слів неспроможна жодна частина мови. В 11-томному „Словнику української мови” нараховується близько 135 тис. слів. Серед них іменників майже половина. Порівняно з іменниками дієслів удвічі менш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рміни „чоловічий”, „жіночий”, „середній” рід дісталися нам у спадок ще з часів V ст.. до н. е. Філософ Протагор запропонував поділити всі імена на 3 роди: чоловічий, жіночий та речови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Protagor"/>
          <p:cNvPicPr/>
          <p:nvPr/>
        </p:nvPicPr>
        <p:blipFill>
          <a:blip r:embed="rId1"/>
          <a:stretch/>
        </p:blipFill>
        <p:spPr>
          <a:xfrm>
            <a:off x="5219640" y="189000"/>
            <a:ext cx="3748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402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ізніше Арістотель запропонував замінити останній термін –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редній рід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ristotel"/>
          <p:cNvPicPr/>
          <p:nvPr/>
        </p:nvPicPr>
        <p:blipFill>
          <a:blip r:embed="rId1"/>
          <a:stretch/>
        </p:blipFill>
        <p:spPr>
          <a:xfrm>
            <a:off x="4788000" y="260280"/>
            <a:ext cx="4171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XTreme.ws</cp:lastModifiedBy>
  <dcterms:modified xsi:type="dcterms:W3CDTF">2017-02-16T19:44:56Z</dcterms:modified>
  <cp:revision>63</cp:revision>
  <dc:subject/>
  <dc:title>Название презентации</dc:title>
</cp:coreProperties>
</file>