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0.gif" ContentType="image/gif"/>
  <Override PartName="/ppt/media/image9.gif" ContentType="image/gif"/>
  <Override PartName="/ppt/media/image18.wmf" ContentType="image/x-wmf"/>
  <Override PartName="/ppt/media/image17.wmf" ContentType="image/x-wmf"/>
  <Override PartName="/ppt/media/image16.gif" ContentType="image/gif"/>
  <Override PartName="/ppt/media/image1.wmf" ContentType="image/x-wmf"/>
  <Override PartName="/ppt/media/image2.png" ContentType="image/png"/>
  <Override PartName="/ppt/media/image15.wmf" ContentType="image/x-wmf"/>
  <Override PartName="/ppt/media/image14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AFC5-B933-4EAB-9FC1-09A6441E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F6DE-B34B-4D64-8A5E-324B0940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63C6-DA1C-44DF-9162-89EF1386B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3034-D6C0-462A-9807-642D90B5C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E381-032E-4E0E-B4BC-D4745A15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4D5C-DE83-4D79-B94F-CFAADAC5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57F3-075C-4A7D-9DF6-36DEEB66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46AA-9F4B-4D5F-B26C-DE3D73B0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CA4C-FDEA-4235-B990-44C3AC0F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5353-2813-49B8-AE46-8C1FE789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F483-CC38-42A2-8CD8-C24686C5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D65F-8FBC-478E-8CC0-CCAA7039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B89F-2339-4A25-8D4A-13CAEB15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E841-A08A-4A56-B981-A2FE29C2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4BE5-FCED-45A6-945A-921EEA4B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4D46-2BA4-49D4-99F9-4BB4346E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2A7F-E950-4A53-9D68-0EE34BAF5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E848-BBAA-4E59-A7E5-C4E970AC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3217-DD22-4735-8EF1-590047E9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DFFB-D2CC-4BE8-B080-F5CB5144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8844-30B0-4DB8-8931-0840D2A8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8AE2-A2EC-4D0C-8FA5-F00DB127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B85E-E017-4EC6-A1A5-7C59395A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8748-ADA6-45A6-9BD1-3BF58924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C6D6-D20C-4E5C-9654-A0D1484010D6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690C-7977-4A08-8EC3-B4546405E6D2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gi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7d47d"/>
                </a:solidFill>
                <a:latin typeface="Arial"/>
              </a:rPr>
              <a:t>Розв'яжи ребус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1581120" cy="18129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290600" y="4397400"/>
            <a:ext cx="1646280" cy="8874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992160" y="2212920"/>
            <a:ext cx="75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2f1311"/>
                </a:solidFill>
                <a:latin typeface="Times New Roman"/>
              </a:rPr>
              <a:t>, ,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125880" y="3657600"/>
            <a:ext cx="3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f1311"/>
                </a:solidFill>
                <a:latin typeface="Times New Roman"/>
              </a:rPr>
              <a:t>,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4648320" y="3886200"/>
            <a:ext cx="1538280" cy="17002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05520" y="5481720"/>
            <a:ext cx="225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2f1311"/>
                </a:solidFill>
                <a:latin typeface="Times New Roman"/>
              </a:rPr>
              <a:t>4,5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90920" y="1200240"/>
            <a:ext cx="3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f1311"/>
                </a:solidFill>
                <a:latin typeface="Times New Roman"/>
              </a:rPr>
              <a:t>,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81480" y="1676520"/>
            <a:ext cx="198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2f1311"/>
                </a:solidFill>
                <a:latin typeface="Times New Roman"/>
              </a:rPr>
              <a:t>Е</a:t>
            </a:r>
            <a:endParaRPr b="0" lang="en-US" sz="9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91320" y="2362320"/>
            <a:ext cx="56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Times New Roman"/>
              </a:rPr>
              <a:t>Р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f7d47d"/>
                </a:solidFill>
                <a:uFillTx/>
                <a:latin typeface="Book Antiqua"/>
              </a:rPr>
              <a:t>Усний тест “Так – ні”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f1311"/>
                </a:solidFill>
                <a:latin typeface="Arial"/>
              </a:rPr>
              <a:t>Звертання може бути головним або другорядним членом реченн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f1311"/>
                </a:solidFill>
                <a:latin typeface="Arial"/>
              </a:rPr>
              <a:t>За будовою звертання бувають непоширені й поширені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f1311"/>
                </a:solidFill>
                <a:latin typeface="Arial"/>
              </a:rPr>
              <a:t>Звертання завжди стоять на початку реченн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f1311"/>
                </a:solidFill>
                <a:latin typeface="Arial"/>
              </a:rPr>
              <a:t>Звертання виражаються іменниками у формі кличного відмінк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7d47d"/>
                </a:solidFill>
                <a:latin typeface="Arial"/>
              </a:rPr>
              <a:t>Творче моделювання:</a:t>
            </a:r>
            <a:br>
              <a:rPr sz="3600"/>
            </a:br>
            <a:r>
              <a:rPr b="0" lang="uk-UA" sz="3600" spc="-1" strike="noStrike" u="sng">
                <a:solidFill>
                  <a:srgbClr val="f7d47d"/>
                </a:solidFill>
                <a:uFillTx/>
                <a:latin typeface="Arial"/>
              </a:rPr>
              <a:t>склади речення зі звертаннями за схемам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1.  -------,З, -------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З,------------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-----------,З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962520" y="2514600"/>
            <a:ext cx="1600200" cy="18082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6095880" y="1295280"/>
            <a:ext cx="952560" cy="819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5562720" y="4495680"/>
            <a:ext cx="1841400" cy="17398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1905120" y="4952880"/>
            <a:ext cx="183996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7d47d"/>
                </a:solidFill>
                <a:latin typeface="Arial"/>
              </a:rPr>
              <a:t>Закінчи речення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1.Сьогодні я повторив(ла)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2.Сьогодні я дізнався(лась)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3.Було цікаво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4.Було складно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5.Тепер я можу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6.У мене вийшло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7.Я не зміг(змогла).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7d47d"/>
                </a:solidFill>
                <a:latin typeface="Arial"/>
              </a:rPr>
              <a:t>Домашнє завдання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С.46 – 47, вправа 98, правила вивчити напам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ят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09480" y="3429000"/>
            <a:ext cx="1981440" cy="22096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105520" y="3581280"/>
            <a:ext cx="182880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 u="sng">
                <a:solidFill>
                  <a:srgbClr val="f7d47d"/>
                </a:solidFill>
                <a:uFillTx/>
                <a:latin typeface="Arial"/>
              </a:rPr>
              <a:t>Тема уроку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2f1311"/>
                </a:solidFill>
                <a:latin typeface="Arial"/>
              </a:rPr>
              <a:t>Звертання. 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2f1311"/>
                </a:solidFill>
                <a:latin typeface="Arial"/>
              </a:rPr>
              <a:t>Розділові знаки при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2f1311"/>
                </a:solidFill>
                <a:latin typeface="Arial"/>
              </a:rPr>
              <a:t>звертанні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191120" y="472428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286000" y="4572000"/>
            <a:ext cx="1523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7d47d"/>
                </a:solidFill>
                <a:latin typeface="Comic Sans MS"/>
              </a:rPr>
              <a:t>Експрес-о п и т у в а н н 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2f1311"/>
                </a:solidFill>
                <a:latin typeface="Verdana"/>
              </a:rPr>
              <a:t>Що таке звертання?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28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2f1311"/>
                </a:solidFill>
                <a:latin typeface="Verdana"/>
              </a:rPr>
              <a:t>Чи є звертання членом речення? 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28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2f1311"/>
                </a:solidFill>
                <a:latin typeface="Verdana"/>
              </a:rPr>
              <a:t>Якою частиною мови найчастіше виражене звертання?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 u="sng">
                <a:solidFill>
                  <a:srgbClr val="f7d47d"/>
                </a:solidFill>
                <a:uFillTx/>
                <a:latin typeface="Arial"/>
              </a:rPr>
              <a:t>Пошукова робота (прочитати виразно текст, знайти звертання)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Є в нашій мові прекрасні звертання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Добрі і мудрі чудові слов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Тими словами усяк без вагання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Маму найкращу свою назива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Мамо, матусенько, мамочко, ненько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Матінко, усміх твій ніжний ловлю!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Мамонько рідна, моя дорогенька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Я над усе тебе в світі люблю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7d47d"/>
                </a:solidFill>
                <a:latin typeface="Arial"/>
              </a:rPr>
              <a:t>Звертанн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це слово чи група, що називають особу або предмет, до якого звертається мовець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виражене іменником у кличному відмінку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буває непоширеним (одне слово) і поширеним (група слів)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може стояти в будь-якому місці речення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не буває членом речення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виділяється на письмі комами, інколи на початку речення – знаком оклику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займенники </a:t>
            </a: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ти, ви </a:t>
            </a: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не бувають звертанням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7d47d"/>
                </a:solidFill>
                <a:latin typeface="Arial"/>
              </a:rPr>
              <a:t>Дослідження:</a:t>
            </a:r>
            <a:br>
              <a:rPr sz="3600"/>
            </a:br>
            <a:r>
              <a:rPr b="0" lang="uk-UA" sz="3600" spc="-1" strike="noStrike" u="sng">
                <a:solidFill>
                  <a:srgbClr val="f7d47d"/>
                </a:solidFill>
                <a:uFillTx/>
                <a:latin typeface="Arial"/>
              </a:rPr>
              <a:t>випиши реченн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1 варіан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з непоширеними звертаннями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2 варіан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- з поширеними звертаннями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962520" y="16761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1. О слово рідне! Хто без тебе я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2. Мово, веселим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струмочком біжи т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об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єднай всі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джерельця малі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3. Рідна мово моя, ти – як хвиля  Дніпров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4. Без мови рідної, юначе, й народу нашого нем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7d47d"/>
                </a:solidFill>
                <a:latin typeface="Arial"/>
              </a:rPr>
              <a:t>Допоможи героям казок виконати практичну роботу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018040" y="1724040"/>
            <a:ext cx="1657440" cy="1924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295960" y="4086360"/>
            <a:ext cx="1101600" cy="1773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1446120" y="1774800"/>
            <a:ext cx="1181160" cy="18223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1577880" y="3922560"/>
            <a:ext cx="98604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7d47d"/>
                </a:solidFill>
                <a:latin typeface="Arial"/>
              </a:rPr>
              <a:t>Практична робота:</a:t>
            </a:r>
            <a:br>
              <a:rPr sz="4000"/>
            </a:br>
            <a:r>
              <a:rPr b="0" lang="uk-UA" sz="2800" spc="-1" strike="noStrike" u="sng">
                <a:solidFill>
                  <a:srgbClr val="f7d47d"/>
                </a:solidFill>
                <a:uFillTx/>
                <a:latin typeface="Arial"/>
              </a:rPr>
              <a:t>спиши речення, виділи звертання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1. Ловись рибко велика та велика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2. Івасику-телесику приплинь, приплинь до бережка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3. Ну Зайцю постривай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4. Не їж мене Лисичко-сестричко краще я тобі пісеньку заспіваю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 u="sng">
                <a:solidFill>
                  <a:srgbClr val="f7d47d"/>
                </a:solidFill>
                <a:uFillTx/>
                <a:latin typeface="Arial"/>
              </a:rPr>
              <a:t>Перевір себе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1. Ловись</a:t>
            </a:r>
            <a:r>
              <a:rPr b="0" lang="uk-UA" sz="3200" spc="-1" strike="noStrike">
                <a:solidFill>
                  <a:srgbClr val="f7d47d"/>
                </a:solidFill>
                <a:latin typeface="Arial"/>
              </a:rPr>
              <a:t>,</a:t>
            </a: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7d47d"/>
                </a:solidFill>
                <a:latin typeface="Arial"/>
              </a:rPr>
              <a:t>рибко,</a:t>
            </a: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 велика та велика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2.</a:t>
            </a:r>
            <a:r>
              <a:rPr b="0" lang="uk-UA" sz="3200" spc="-1" strike="noStrike">
                <a:solidFill>
                  <a:srgbClr val="f7d47d"/>
                </a:solidFill>
                <a:latin typeface="Arial"/>
              </a:rPr>
              <a:t> Івасику-телесику, </a:t>
            </a: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приплинь, приплинь до бережка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3. Ну</a:t>
            </a:r>
            <a:r>
              <a:rPr b="0" lang="uk-UA" sz="3200" spc="-1" strike="noStrike">
                <a:solidFill>
                  <a:srgbClr val="f7d47d"/>
                </a:solidFill>
                <a:latin typeface="Arial"/>
              </a:rPr>
              <a:t>, Зайцю,</a:t>
            </a: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 постривай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4. Не їж мене</a:t>
            </a:r>
            <a:r>
              <a:rPr b="0" lang="uk-UA" sz="3200" spc="-1" strike="noStrike">
                <a:solidFill>
                  <a:srgbClr val="f7d47d"/>
                </a:solidFill>
                <a:latin typeface="Arial"/>
              </a:rPr>
              <a:t>,</a:t>
            </a: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7d47d"/>
                </a:solidFill>
                <a:latin typeface="Arial"/>
              </a:rPr>
              <a:t>Лисичко-сестричко,</a:t>
            </a: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 краще я тобі пісеньку заспіваю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17:36:58Z</dcterms:created>
  <dc:creator>Пользователь</dc:creator>
  <dc:description/>
  <dc:language>en-US</dc:language>
  <cp:lastModifiedBy>Пользователь</cp:lastModifiedBy>
  <dcterms:modified xsi:type="dcterms:W3CDTF">2013-11-10T15:54:20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