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B1B0D-8DD0-46CE-A615-9A427B37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38F6-F7C8-47CA-A739-6D913938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C392-0C7A-4A19-8FE3-FFB387D9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DB60-6694-4AFA-9EC1-167D41C6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286A1-5999-47BC-91C7-AEF23C32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9F0C1-C3A6-475B-91DD-CA96B136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E77D8-4999-4189-B77D-3C30D843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524F6-CDAD-4D51-B104-CE562E4C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FEFB8-19DE-44A2-BC7C-3A4203CA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799C2-0C31-4DD6-94C7-A7429EF4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B0BAF-F64B-4618-9E1E-232C671D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63FE-91F1-48C1-96B1-AA57FBB1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A351B-8F12-4501-99B8-4FB4DD1D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05CAD-8AA8-417C-BAC0-F8B8AEC2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A504A-E62A-486B-814A-65A842EC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F78DA-F295-4385-8A20-A73B395FC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5D86E-7D97-4A8A-A21B-6A8EE596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E033-D77A-4E2E-A024-1479592D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CDDE8-6F1D-4F90-BA4D-66D037F5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C279-B8FD-45EA-92C5-C4610B06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F8B1-78C6-42DF-8B59-4FA48C64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923E-EE1C-4C7E-A7E0-75402DB3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1400D-4123-4180-ACF9-C758651F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6ABFB-73D1-4541-BBE5-92933332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d6efd0"/>
              </a:gs>
              <a:gs pos="100000">
                <a:srgbClr val="9bb9c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ABCA-5250-4A46-8F6F-BBDD5EB76416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d6efd0"/>
                </a:gs>
                <a:gs pos="100000">
                  <a:srgbClr val="9bb9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65b5d1"/>
                </a:gs>
                <a:gs pos="100000">
                  <a:srgbClr val="9bb9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F7FC-33CB-46DA-9387-A46FF7E5664B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336699"/>
                </a:solidFill>
                <a:latin typeface="Garamond"/>
              </a:rPr>
              <a:t>Байки  Езопа</a:t>
            </a:r>
            <a:endParaRPr b="0" lang="en-US" sz="96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743200" y="2133360"/>
            <a:ext cx="60199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3300"/>
                </a:solidFill>
                <a:latin typeface="Courier New"/>
              </a:rPr>
              <a:t>Езоп.</a:t>
            </a:r>
            <a:r>
              <a:rPr b="1" lang="uk-UA" sz="6600" spc="-1" strike="noStrike">
                <a:solidFill>
                  <a:srgbClr val="4d4d4d"/>
                </a:solidFill>
                <a:latin typeface="Courier New"/>
              </a:rPr>
              <a:t> 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00"/>
                </a:solidFill>
                <a:latin typeface="Courier New"/>
              </a:rPr>
              <a:t>“</a:t>
            </a:r>
            <a:r>
              <a:rPr b="1" lang="uk-UA" sz="6600" spc="-1" strike="noStrike">
                <a:solidFill>
                  <a:srgbClr val="ffff00"/>
                </a:solidFill>
                <a:latin typeface="Courier New"/>
              </a:rPr>
              <a:t>Двоє  приятелів  і  ведмідь”</a:t>
            </a:r>
            <a:endParaRPr b="0" lang="en-US" sz="6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030400" cy="4038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Garamond"/>
              </a:rPr>
              <a:t>Тест</a:t>
            </a:r>
            <a:r>
              <a:rPr b="0" lang="ru-RU" sz="7200" spc="-1" strike="noStrike">
                <a:solidFill>
                  <a:srgbClr val="336699"/>
                </a:solidFill>
                <a:latin typeface="Garamond"/>
              </a:rPr>
              <a:t> </a:t>
            </a:r>
            <a:endParaRPr b="0" lang="en-US" sz="72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Arial"/>
              </a:rPr>
              <a:t>1. Дорога  двох  приятелів  пролягала  через..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а) густі кущі;     б) густий ліс;      в) глибоке болото.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Arial"/>
              </a:rPr>
              <a:t>2. Один  із  приятелів,  побачивши   ведмедя..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а) побіг назад у село;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б) завмер від переляку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в) видерся на самісінький вершечок дерева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Garamond"/>
              </a:rPr>
              <a:t>Тест</a:t>
            </a:r>
            <a:r>
              <a:rPr b="0" lang="ru-RU" sz="4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506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Arial"/>
              </a:rPr>
              <a:t>3. Чому  другий  приятель  не  заліз  на дерево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а) бо було вже пізно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б) він не боявся ведмедя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в) поблизу не було високих дерев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Arial"/>
              </a:rPr>
              <a:t>4. Як  другий   приятель   врятувався   від ведмедя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а) вбив його;          б) упав додолу і прикинувся мертвим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в) втік від нього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Arial"/>
              </a:rPr>
              <a:t>5. Чи можна вважати їх друзями?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а) так.              б) ні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Garamond"/>
              </a:rPr>
              <a:t>Тест</a:t>
            </a:r>
            <a:endParaRPr b="0" lang="en-US" sz="72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99"/>
                </a:solidFill>
                <a:uFillTx/>
                <a:latin typeface="Arial"/>
              </a:rPr>
              <a:t>Ключ: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1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2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3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4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5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4d4d4d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00"/>
                </a:solidFill>
                <a:latin typeface="Garamond"/>
              </a:rPr>
              <a:t>Знайди  пару</a:t>
            </a:r>
            <a:endParaRPr b="0" lang="en-US" sz="72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3733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3399"/>
                </a:solidFill>
                <a:latin typeface="Arial"/>
              </a:rPr>
              <a:t>Має слушність</a:t>
            </a:r>
            <a:r>
              <a:rPr b="1" lang="uk-U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3399"/>
                </a:solidFill>
                <a:latin typeface="Arial"/>
              </a:rPr>
              <a:t>Затамував подих</a:t>
            </a: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3399"/>
                </a:solidFill>
                <a:latin typeface="Arial"/>
              </a:rPr>
              <a:t>Дати відсіч</a:t>
            </a:r>
            <a:r>
              <a:rPr b="1" lang="uk-U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3399"/>
                </a:solidFill>
                <a:latin typeface="Arial"/>
              </a:rPr>
              <a:t>Марна справа</a:t>
            </a:r>
            <a:r>
              <a:rPr b="1" lang="uk-U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943600" y="2133360"/>
            <a:ext cx="27432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d4d4d"/>
                </a:solidFill>
                <a:latin typeface="Arial"/>
              </a:rPr>
              <a:t>відбити напад.</a:t>
            </a:r>
            <a:r>
              <a:rPr b="1" i="1" lang="ru-RU" sz="3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d4d4d"/>
                </a:solidFill>
                <a:latin typeface="Arial"/>
              </a:rPr>
              <a:t>правий.</a:t>
            </a:r>
            <a:r>
              <a:rPr b="1" i="1" lang="ru-RU" sz="3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d4d4d"/>
                </a:solidFill>
                <a:latin typeface="Arial"/>
              </a:rPr>
              <a:t>даремно.</a:t>
            </a:r>
            <a:r>
              <a:rPr b="1" i="1" lang="ru-RU" sz="3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4d4d4d"/>
                </a:solidFill>
                <a:latin typeface="Arial"/>
              </a:rPr>
              <a:t>завмер.</a:t>
            </a:r>
            <a:r>
              <a:rPr b="1" i="1" lang="ru-RU" sz="32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2666880"/>
            <a:ext cx="1905120" cy="8384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3276720"/>
            <a:ext cx="2895480" cy="1371600"/>
          </a:xfrm>
          <a:prstGeom prst="line">
            <a:avLst/>
          </a:prstGeom>
          <a:ln w="38160">
            <a:solidFill>
              <a:srgbClr val="66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52680" y="2666880"/>
            <a:ext cx="2743200" cy="14479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657600" y="4114440"/>
            <a:ext cx="2286000" cy="609480"/>
          </a:xfrm>
          <a:prstGeom prst="line">
            <a:avLst/>
          </a:prstGeom>
          <a:ln w="38160">
            <a:solidFill>
              <a:srgbClr val="ff66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87720" y="571680"/>
            <a:ext cx="8366760" cy="5302800"/>
            <a:chOff x="387720" y="571680"/>
            <a:chExt cx="8366760" cy="5302800"/>
          </a:xfrm>
        </p:grpSpPr>
        <p:sp>
          <p:nvSpPr>
            <p:cNvPr id="218" name="_s141353"/>
            <p:cNvSpPr/>
            <p:nvPr/>
          </p:nvSpPr>
          <p:spPr>
            <a:xfrm flipH="1" flipV="1">
              <a:off x="2510280" y="2987280"/>
              <a:ext cx="1027800" cy="22104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" name="_s141352"/>
            <p:cNvSpPr/>
            <p:nvPr/>
          </p:nvSpPr>
          <p:spPr>
            <a:xfrm>
              <a:off x="387720" y="2052720"/>
              <a:ext cx="2171880" cy="1428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990000"/>
                  </a:solidFill>
                  <a:latin typeface="Arial"/>
                </a:rPr>
                <a:t>байдужість</a:t>
              </a:r>
              <a:endParaRPr b="0" lang="en-US" sz="2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" name="_s141351"/>
            <p:cNvSpPr/>
            <p:nvPr/>
          </p:nvSpPr>
          <p:spPr>
            <a:xfrm flipH="1">
              <a:off x="3298320" y="4005360"/>
              <a:ext cx="636480" cy="57636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_s141350"/>
            <p:cNvSpPr/>
            <p:nvPr/>
          </p:nvSpPr>
          <p:spPr>
            <a:xfrm>
              <a:off x="1573200" y="4446360"/>
              <a:ext cx="2171160" cy="14281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990000"/>
                  </a:solidFill>
                  <a:latin typeface="Arial"/>
                </a:rPr>
                <a:t>зрада</a:t>
              </a:r>
              <a:endParaRPr b="0" lang="en-US" sz="2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_s141349"/>
            <p:cNvSpPr/>
            <p:nvPr/>
          </p:nvSpPr>
          <p:spPr>
            <a:xfrm>
              <a:off x="5211360" y="4005360"/>
              <a:ext cx="636480" cy="57636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" name="_s141348"/>
            <p:cNvSpPr/>
            <p:nvPr/>
          </p:nvSpPr>
          <p:spPr>
            <a:xfrm>
              <a:off x="5402160" y="4446360"/>
              <a:ext cx="2171160" cy="14281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990000"/>
                  </a:solidFill>
                  <a:latin typeface="Arial"/>
                </a:rPr>
                <a:t>егоїзм</a:t>
              </a:r>
              <a:endParaRPr b="0" lang="en-US" sz="2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_s141347"/>
            <p:cNvSpPr/>
            <p:nvPr/>
          </p:nvSpPr>
          <p:spPr>
            <a:xfrm flipV="1">
              <a:off x="5603760" y="2985120"/>
              <a:ext cx="1032120" cy="22032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_s141346"/>
            <p:cNvSpPr/>
            <p:nvPr/>
          </p:nvSpPr>
          <p:spPr>
            <a:xfrm>
              <a:off x="6583320" y="2050200"/>
              <a:ext cx="2171160" cy="1428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990000"/>
                  </a:solidFill>
                  <a:latin typeface="Arial"/>
                </a:rPr>
                <a:t>ницість</a:t>
              </a:r>
              <a:endParaRPr b="0" lang="en-US" sz="2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" name="_s141345"/>
            <p:cNvSpPr/>
            <p:nvPr/>
          </p:nvSpPr>
          <p:spPr>
            <a:xfrm flipV="1">
              <a:off x="4571280" y="2000160"/>
              <a:ext cx="0" cy="714240"/>
            </a:xfrm>
            <a:prstGeom prst="line">
              <a:avLst/>
            </a:prstGeom>
            <a:ln w="2844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7" name="_s141344"/>
            <p:cNvSpPr/>
            <p:nvPr/>
          </p:nvSpPr>
          <p:spPr>
            <a:xfrm>
              <a:off x="3485880" y="571680"/>
              <a:ext cx="2171160" cy="14281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700" spc="-1" strike="noStrike">
                  <a:solidFill>
                    <a:srgbClr val="990000"/>
                  </a:solidFill>
                  <a:latin typeface="Arial"/>
                </a:rPr>
                <a:t>боягузство</a:t>
              </a:r>
              <a:endParaRPr b="0" lang="en-US" sz="27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8" name="_s141343"/>
            <p:cNvSpPr/>
            <p:nvPr/>
          </p:nvSpPr>
          <p:spPr>
            <a:xfrm>
              <a:off x="3485880" y="2714400"/>
              <a:ext cx="2171160" cy="14281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99"/>
                  </a:solidFill>
                  <a:latin typeface="Arial"/>
                </a:rPr>
                <a:t>Засуджується</a:t>
              </a:r>
              <a:endParaRPr b="0" lang="en-US" sz="2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ccff"/>
                </a:solidFill>
                <a:latin typeface="Georgia"/>
              </a:rPr>
              <a:t>Пограймося!</a:t>
            </a:r>
            <a:endParaRPr b="0" lang="en-US" sz="72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ff00"/>
                </a:solidFill>
                <a:latin typeface="Garamond"/>
              </a:rPr>
              <a:t>   </a:t>
            </a:r>
            <a:r>
              <a:rPr b="1" lang="uk-UA" sz="5400" spc="-1" strike="noStrike">
                <a:solidFill>
                  <a:srgbClr val="00ff00"/>
                </a:solidFill>
                <a:latin typeface="Garamond"/>
              </a:rPr>
              <a:t>Гра  “Кидок-засічка”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uk-UA" sz="5400" spc="-1" strike="noStrike">
                <a:solidFill>
                  <a:srgbClr val="ffff00"/>
                </a:solidFill>
                <a:latin typeface="Garamond"/>
              </a:rPr>
              <a:t>Гра  “Хто  швидше”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134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6600"/>
                </a:solidFill>
                <a:latin typeface="Garamond"/>
              </a:rPr>
              <a:t>   </a:t>
            </a:r>
            <a:r>
              <a:rPr b="1" lang="uk-UA" sz="5400" spc="-1" strike="noStrike">
                <a:solidFill>
                  <a:srgbClr val="ff6600"/>
                </a:solidFill>
                <a:latin typeface="Garamond"/>
              </a:rPr>
              <a:t>Гра  “Виправ    помилку”</a:t>
            </a:r>
            <a:endParaRPr b="0" lang="en-US" sz="5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6600"/>
                </a:solidFill>
                <a:latin typeface="Garamond"/>
              </a:rPr>
              <a:t>Склади  павутинку</a:t>
            </a:r>
            <a:endParaRPr b="0" lang="en-US" sz="72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32" name=""/>
          <p:cNvSpPr/>
          <p:nvPr/>
        </p:nvSpPr>
        <p:spPr>
          <a:xfrm>
            <a:off x="2514600" y="1905120"/>
            <a:ext cx="4191120" cy="3886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124080" y="2895480"/>
            <a:ext cx="2971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руг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234" name=""/>
          <p:cNvSpPr/>
          <p:nvPr/>
        </p:nvSpPr>
        <p:spPr>
          <a:xfrm rot="19302600">
            <a:off x="6400440" y="1980720"/>
            <a:ext cx="2133720" cy="228600"/>
          </a:xfrm>
          <a:prstGeom prst="rect">
            <a:avLst/>
          </a:prstGeom>
          <a:solidFill>
            <a:srgbClr val="ffe8b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2371800">
            <a:off x="6476760" y="5410080"/>
            <a:ext cx="21333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3581280"/>
            <a:ext cx="21337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302600">
            <a:off x="533520" y="5410080"/>
            <a:ext cx="213336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657600"/>
            <a:ext cx="2133720" cy="228600"/>
          </a:xfrm>
          <a:prstGeom prst="rect">
            <a:avLst/>
          </a:prstGeom>
          <a:solidFill>
            <a:srgbClr val="ffe8b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3617000">
            <a:off x="647280" y="2095200"/>
            <a:ext cx="21337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24080" y="228600"/>
            <a:ext cx="3353040" cy="990720"/>
          </a:xfrm>
          <a:prstGeom prst="cloudCallout">
            <a:avLst>
              <a:gd name="adj1" fmla="val -66050"/>
              <a:gd name="adj2" fmla="val 313620"/>
            </a:avLst>
          </a:prstGeom>
          <a:solidFill>
            <a:srgbClr val="99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озгадуватимемо  кросворд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1219320"/>
            <a:ext cx="2362320" cy="1295280"/>
          </a:xfrm>
          <a:prstGeom prst="cloudCallout">
            <a:avLst>
              <a:gd name="adj1" fmla="val -159944"/>
              <a:gd name="adj2" fmla="val 209560"/>
            </a:avLst>
          </a:prstGeom>
          <a:solidFill>
            <a:srgbClr val="99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Arial"/>
              </a:rPr>
              <a:t>Гра  “Кидок-засічка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1752480"/>
            <a:ext cx="2209680" cy="1143000"/>
          </a:xfrm>
          <a:prstGeom prst="cloudCallout">
            <a:avLst>
              <a:gd name="adj1" fmla="val -79958"/>
              <a:gd name="adj2" fmla="val 174305"/>
            </a:avLst>
          </a:prstGeom>
          <a:solidFill>
            <a:srgbClr val="99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Виконаємо  тест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762120"/>
            <a:ext cx="2666880" cy="1066680"/>
          </a:xfrm>
          <a:prstGeom prst="cloudCallout">
            <a:avLst>
              <a:gd name="adj1" fmla="val 26902"/>
              <a:gd name="adj2" fmla="val 311013"/>
            </a:avLst>
          </a:prstGeom>
          <a:solidFill>
            <a:srgbClr val="99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Складатимемо  прислів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cc33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4267080"/>
            <a:ext cx="3962520" cy="22845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На  уроці  ми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5715000"/>
            <a:ext cx="844560" cy="890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400800" y="3276720"/>
            <a:ext cx="2362320" cy="1143000"/>
          </a:xfrm>
          <a:prstGeom prst="cloudCallout">
            <a:avLst>
              <a:gd name="adj1" fmla="val -158199"/>
              <a:gd name="adj2" fmla="val 120972"/>
            </a:avLst>
          </a:prstGeom>
          <a:solidFill>
            <a:srgbClr val="99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ff33"/>
                </a:solidFill>
                <a:latin typeface="Arial"/>
              </a:rPr>
              <a:t>Гра  “Хто  швидше?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5029200"/>
            <a:ext cx="2361960" cy="1371600"/>
          </a:xfrm>
          <a:prstGeom prst="cloudCallout">
            <a:avLst>
              <a:gd name="adj1" fmla="val -183467"/>
              <a:gd name="adj2" fmla="val 25810"/>
            </a:avLst>
          </a:prstGeom>
          <a:solidFill>
            <a:srgbClr val="99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Arial"/>
              </a:rPr>
              <a:t>Читатимемо  байку  в  особах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438280"/>
            <a:ext cx="2819160" cy="1371600"/>
          </a:xfrm>
          <a:prstGeom prst="cloudCallout">
            <a:avLst>
              <a:gd name="adj1" fmla="val -3773"/>
              <a:gd name="adj2" fmla="val 95949"/>
            </a:avLst>
          </a:prstGeom>
          <a:solidFill>
            <a:srgbClr val="99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Складатимемо  опору,  павутинку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3505320"/>
            <a:ext cx="1981080" cy="1295280"/>
          </a:xfrm>
          <a:prstGeom prst="cloudCallout">
            <a:avLst>
              <a:gd name="adj1" fmla="val -58013"/>
              <a:gd name="adj2" fmla="val 44851"/>
            </a:avLst>
          </a:prstGeom>
          <a:solidFill>
            <a:srgbClr val="99cc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9900"/>
                </a:solidFill>
                <a:latin typeface="Arial"/>
              </a:rPr>
              <a:t>Гра  “Виправ  помилку”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326880"/>
            <a:ext cx="8325000" cy="92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Century Schoolbook"/>
              </a:rPr>
              <a:t>Гра  “Складіть  прислів</a:t>
            </a:r>
            <a:r>
              <a:rPr b="1" lang="en-US" sz="4400" spc="-1" strike="noStrike">
                <a:solidFill>
                  <a:srgbClr val="ff3300"/>
                </a:solidFill>
                <a:latin typeface="Century Schoolbook"/>
              </a:rPr>
              <a:t>’</a:t>
            </a:r>
            <a:r>
              <a:rPr b="1" lang="uk-UA" sz="4400" spc="-1" strike="noStrike">
                <a:solidFill>
                  <a:srgbClr val="ff3300"/>
                </a:solidFill>
                <a:latin typeface="Century Schoolbook"/>
              </a:rPr>
              <a:t>я”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3813120" cy="36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99"/>
                </a:solidFill>
                <a:latin typeface="Arial"/>
              </a:rPr>
              <a:t>Щоб пізнати людину, треба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99"/>
                </a:solidFill>
                <a:latin typeface="Arial"/>
              </a:rPr>
              <a:t>Не одяг прикрашає  людину,</a:t>
            </a:r>
            <a:r>
              <a:rPr b="1" lang="uk-UA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99"/>
                </a:solidFill>
                <a:latin typeface="Arial"/>
              </a:rPr>
              <a:t>Хто не чинить  лихого, том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3399"/>
                </a:solidFill>
                <a:latin typeface="Arial"/>
              </a:rPr>
              <a:t>Друзі пізнаються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0640" y="2306520"/>
            <a:ext cx="3811680" cy="36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Arial"/>
              </a:rPr>
              <a:t>а  добрі  діла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Arial"/>
              </a:rPr>
              <a:t>в  біді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Arial"/>
              </a:rPr>
              <a:t>з  нею  пуд  солі  з’їсти.</a:t>
            </a:r>
            <a:r>
              <a:rPr b="1" lang="uk-UA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Arial"/>
              </a:rPr>
              <a:t>не  страшно  нічого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8709E-006 L -0.0033 0.15082 E">
                                      <p:cBhvr>
                                        <p:cTn id="94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20773E-006 L -0.00052 -0.27295 E">
                                      <p:cBhvr>
                                        <p:cTn id="96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51793E-007 L -0.00209 0.3028 E">
                                      <p:cBhvr>
                                        <p:cTn id="98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96091E-007 L 0.004 -0.14064 E">
                                      <p:cBhvr>
                                        <p:cTn id="100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Garamond"/>
              </a:rPr>
              <a:t>Наш  словничок .</a:t>
            </a:r>
            <a:br>
              <a:rPr sz="6000"/>
            </a:br>
            <a:r>
              <a:rPr b="1" lang="en-US" sz="3600" spc="-1" strike="noStrike">
                <a:solidFill>
                  <a:srgbClr val="66ff33"/>
                </a:solidFill>
                <a:latin typeface="Garamond"/>
              </a:rPr>
              <a:t>/Читання  деформованого  тексту/</a:t>
            </a:r>
            <a:endParaRPr b="0" lang="en-US" sz="36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i="1" lang="uk-UA" sz="3200" spc="-1" strike="noStrike">
                <a:solidFill>
                  <a:srgbClr val="ffff00"/>
                </a:solidFill>
                <a:latin typeface="Arial"/>
              </a:rPr>
              <a:t>йБака – венеликйи, найтішечас вашорвіний втір чаповнольго змісту. У  кахбай в захраоб травин, сорнил, нихзір  преметівд  нобжеразо делюй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Georgia"/>
              </a:rPr>
              <a:t>(   Байка </a:t>
            </a:r>
            <a:r>
              <a:rPr b="0" lang="uk-UA" sz="32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uk-UA" sz="3200" spc="-1" strike="noStrike">
                <a:solidFill>
                  <a:srgbClr val="003399"/>
                </a:solidFill>
                <a:latin typeface="Georgia"/>
              </a:rPr>
              <a:t> невеликий, найчастіше віршований твір повчального змісту. У байках в образах тварин, рослин, різних предметів зображено людей.)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Garamond"/>
              </a:rPr>
              <a:t>Розгадай  кросворд</a:t>
            </a:r>
            <a:endParaRPr b="0" lang="en-US" sz="72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790280"/>
            <a:ext cx="33530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1. „Ото на себе не надійся,  ...  лихові не смійся .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2.  Це висновок байки „Чиж та ...”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3.  „У ... лад</a:t>
            </a:r>
            <a:r>
              <a:rPr b="0" i="1" lang="uk-UA" sz="20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 усяк тому радіє.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4.  Це перші рядочки байки „Лебідь, Щука і ...”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5.  „Проспівав ти ... Боже , вдача вже твоя така.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6.  Це уривки байки „Коник –</a:t>
            </a:r>
            <a:r>
              <a:rPr b="0" i="1" lang="uk-UA" sz="2000" spc="-1" strike="noStrike">
                <a:solidFill>
                  <a:srgbClr val="4d4d4d"/>
                </a:solidFill>
                <a:latin typeface="Arial"/>
              </a:rPr>
              <a:t> ... 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057400" y="3428640"/>
            <a:ext cx="6858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3809880"/>
            <a:ext cx="38124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809880"/>
            <a:ext cx="38124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809880"/>
            <a:ext cx="380880" cy="38124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3809880"/>
            <a:ext cx="38088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809880"/>
            <a:ext cx="38088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809880"/>
            <a:ext cx="38088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19112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419112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419112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419112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4191120"/>
            <a:ext cx="380880" cy="38088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4572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4572000"/>
            <a:ext cx="380880" cy="38088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5334120"/>
            <a:ext cx="380880" cy="38088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4952880"/>
            <a:ext cx="38124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4572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4952880"/>
            <a:ext cx="38088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43600" y="4952880"/>
            <a:ext cx="380880" cy="38124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4572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715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5715000"/>
            <a:ext cx="380880" cy="38088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533412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533412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533412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5715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1460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38480" y="5715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Garamond"/>
              </a:rPr>
              <a:t>Розгадай  кросворд</a:t>
            </a:r>
            <a:endParaRPr b="0" lang="en-US" sz="72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790280"/>
            <a:ext cx="335304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Ото  на  себе   не надійся,   ...   лихові не    смійся .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2.  Це висновок байки „Чиж   та   ...”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3.  „У  ...  лад </a:t>
            </a:r>
            <a:r>
              <a:rPr b="0" i="1" lang="uk-UA" sz="20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  усяк  тому    радіє.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4.  Це   перші   рядочки байки  „Лебідь,  Щука і   ...  ”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5.  „Проспівав   ти   ... Боже ,   вдача   вже твоя   така.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3399"/>
                </a:solidFill>
                <a:latin typeface="Arial"/>
              </a:rPr>
              <a:t>6.  Це уривки байки „Коник –</a:t>
            </a:r>
            <a:r>
              <a:rPr b="0" i="1" lang="uk-UA" sz="2000" spc="-1" strike="noStrike">
                <a:solidFill>
                  <a:srgbClr val="4d4d4d"/>
                </a:solidFill>
                <a:latin typeface="Arial"/>
              </a:rPr>
              <a:t> ... ”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057400" y="3428640"/>
            <a:ext cx="6858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                    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1480" y="3809880"/>
            <a:ext cx="38124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3809880"/>
            <a:ext cx="38124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3809880"/>
            <a:ext cx="380880" cy="38124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3809880"/>
            <a:ext cx="38088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3809880"/>
            <a:ext cx="38088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809880"/>
            <a:ext cx="38088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419112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9112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419112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419112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191120"/>
            <a:ext cx="380880" cy="38088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572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4572000"/>
            <a:ext cx="380880" cy="38088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0060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5334120"/>
            <a:ext cx="380880" cy="38088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4952880"/>
            <a:ext cx="38124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к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67480" y="4572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4952880"/>
            <a:ext cx="380880" cy="38124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8660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і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572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4952880"/>
            <a:ext cx="380880" cy="38124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4572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5715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ц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5715000"/>
            <a:ext cx="380880" cy="380880"/>
          </a:xfrm>
          <a:prstGeom prst="rect">
            <a:avLst/>
          </a:prstGeom>
          <a:solidFill>
            <a:srgbClr val="336699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533412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533412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33412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і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5715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5715000"/>
            <a:ext cx="38124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5715000"/>
            <a:ext cx="380880" cy="380880"/>
          </a:xfrm>
          <a:prstGeom prst="rect">
            <a:avLst/>
          </a:prstGeom>
          <a:solidFill>
            <a:srgbClr val="9bb9c3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99"/>
                </a:solidFill>
                <a:latin typeface="Garamond"/>
              </a:rPr>
              <a:t>Езоп</a:t>
            </a:r>
            <a:endParaRPr b="0" lang="en-US" sz="80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71440" y="1790640"/>
            <a:ext cx="57150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Якщо вірити переказам , жив він дві з половиною тисяч</a:t>
            </a:r>
            <a:r>
              <a:rPr b="0" lang="uk-UA" sz="2000" spc="-1" strike="noStrike">
                <a:solidFill>
                  <a:srgbClr val="003399"/>
                </a:solidFill>
                <a:latin typeface="Arial"/>
              </a:rPr>
              <a:t>і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років тому в </a:t>
            </a: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Давній Греції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. Давні греки вимовляли його ім’я  інакше</a:t>
            </a:r>
            <a:r>
              <a:rPr b="0" lang="uk-UA" sz="20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ніж ми  -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йсопос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они розповідали , що був він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бом – невільником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, з походження не греком, дуже негарним на вигляд: у нього  було велике черево, здорова голова,</a:t>
            </a:r>
            <a:r>
              <a:rPr b="0" lang="uk-UA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а на спині горб . Але цей бридкий р</a:t>
            </a:r>
            <a:r>
              <a:rPr b="0" lang="uk-UA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б відзначався</a:t>
            </a:r>
            <a:r>
              <a:rPr b="0" lang="uk-UA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неабияким розумом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Про мудрість Езопа складалися легенди, які свідчили про те, що він був далеко розумнішим за своїх сучасників , а щоб вони могли скористатись з його </a:t>
            </a:r>
            <a:r>
              <a:rPr b="0" lang="uk-UA" sz="2000" spc="-1" strike="noStrike">
                <a:solidFill>
                  <a:srgbClr val="003399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зуму , він повчав їх своїми байками 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2438640" cy="3276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438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266400"/>
            <a:ext cx="74678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00"/>
                </a:solidFill>
                <a:latin typeface="Century Schoolbook"/>
              </a:rPr>
              <a:t>Читання</a:t>
            </a:r>
            <a:r>
              <a:rPr b="1" i="1" lang="uk-UA" sz="4000" spc="-1" strike="noStrike">
                <a:solidFill>
                  <a:srgbClr val="00ff00"/>
                </a:solidFill>
                <a:latin typeface="Century Schoolbook"/>
              </a:rPr>
              <a:t>   </a:t>
            </a:r>
            <a:r>
              <a:rPr b="1" i="1" lang="ru-RU" sz="4000" spc="-1" strike="noStrike">
                <a:solidFill>
                  <a:srgbClr val="00ff00"/>
                </a:solidFill>
                <a:latin typeface="Century Schoolbook"/>
              </a:rPr>
              <a:t>,,п</a:t>
            </a:r>
            <a:r>
              <a:rPr b="1" i="1" lang="uk-UA" sz="4000" spc="-1" strike="noStrike">
                <a:solidFill>
                  <a:srgbClr val="00ff00"/>
                </a:solidFill>
                <a:latin typeface="Century Schoolbook"/>
              </a:rPr>
              <a:t>і</a:t>
            </a:r>
            <a:r>
              <a:rPr b="1" i="1" lang="ru-RU" sz="4000" spc="-1" strike="noStrike">
                <a:solidFill>
                  <a:srgbClr val="00ff00"/>
                </a:solidFill>
                <a:latin typeface="Century Schoolbook"/>
              </a:rPr>
              <a:t>рамідок ”   </a:t>
            </a:r>
            <a:br>
              <a:rPr sz="4000"/>
            </a:br>
            <a:r>
              <a:rPr b="1" i="1" lang="ru-RU" sz="4000" spc="-1" strike="noStrike">
                <a:solidFill>
                  <a:srgbClr val="00ff00"/>
                </a:solidFill>
                <a:latin typeface="Century Schoolbook"/>
              </a:rPr>
              <a:t>слів   ,,луною’’</a:t>
            </a:r>
            <a:r>
              <a:rPr b="0" lang="ru-RU" sz="4000" spc="-1" strike="noStrike">
                <a:solidFill>
                  <a:srgbClr val="3366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153280" cy="38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ку</a:t>
            </a: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пі                                </a:t>
            </a: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кр</a:t>
            </a: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ута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вгле     дів</a:t>
            </a: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                      невд      овзі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нажа     ханий                      візьме     тьс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ур</a:t>
            </a: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мило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огов       тавс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99"/>
                </a:solidFill>
                <a:latin typeface="Arial"/>
              </a:rPr>
              <a:t>самісі        нький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705720" y="4572000"/>
            <a:ext cx="2133360" cy="1735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190600" cy="18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b5d1"/>
            </a:gs>
            <a:gs pos="100000">
              <a:srgbClr val="d6ef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Garamond"/>
              </a:rPr>
              <a:t>Які  зі  слів  мають  такі  значення?</a:t>
            </a:r>
            <a:endParaRPr b="0" lang="en-US" sz="4400" spc="-1" strike="noStrike">
              <a:solidFill>
                <a:srgbClr val="336699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4d4d4d"/>
                </a:solidFill>
                <a:latin typeface="Arial"/>
              </a:rPr>
              <a:t>„ </a:t>
            </a:r>
            <a:r>
              <a:rPr b="0" lang="uk-UA" sz="3200" spc="-1" strike="noStrike">
                <a:solidFill>
                  <a:srgbClr val="4d4d4d"/>
                </a:solidFill>
                <a:latin typeface="Arial"/>
              </a:rPr>
              <a:t>жартівливе прізвисько ведмедя” - …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бурмило</a:t>
            </a: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d4d4d"/>
                </a:solidFill>
                <a:latin typeface="Arial"/>
              </a:rPr>
              <a:t> „ </a:t>
            </a:r>
            <a:r>
              <a:rPr b="0" lang="uk-UA" sz="3200" spc="-1" strike="noStrike">
                <a:solidFill>
                  <a:srgbClr val="4d4d4d"/>
                </a:solidFill>
                <a:latin typeface="Arial"/>
              </a:rPr>
              <a:t>прийшов до тями, заспокоївся” - …    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оговтався</a:t>
            </a: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d4d4d"/>
                </a:solidFill>
                <a:latin typeface="Arial"/>
              </a:rPr>
              <a:t> „ </a:t>
            </a:r>
            <a:r>
              <a:rPr b="0" lang="uk-UA" sz="3200" spc="-1" strike="noStrike">
                <a:solidFill>
                  <a:srgbClr val="4d4d4d"/>
                </a:solidFill>
                <a:latin typeface="Arial"/>
              </a:rPr>
              <a:t>складні, тяжкі обставини, труднощі”- ..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скрута</a:t>
            </a:r>
            <a:r>
              <a:rPr b="0" lang="uk-UA" sz="32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4-02-19T04:13:3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