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3EBD-7ACD-4E19-9DE0-674640719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E0F1-5F06-43B7-A285-D3570895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1806-3B9D-427E-8F22-94834B670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B172-BD64-4690-9925-2B8E3A0C3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E4EC3-A1B2-4995-B2CC-550664A85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BE8E3-E60F-41DF-84DB-176812EC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9DE49-205A-4E7A-87F3-C15DCFEB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669CA-1EF6-4D74-A1D8-AF06B248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ABA87-2764-41AE-8A20-03CA067C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144F3-8DCE-4D76-A9B5-2FF9E78F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691EA-0A0F-4DD7-A732-8A77C4A9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7891-AF49-4641-B128-F37400D3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1804A-7E62-4E00-BA35-CDB50CA9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A4F23-97F7-426C-B53F-12A89753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DF7E6-4A41-4EFD-B0F1-C2DFCD9A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D4FF3E-0F67-4CC2-8D4F-20CBC5814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7CEB7-D953-4E2F-8187-60773F21B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550A-626D-4650-B8A3-1A00705C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CC15-AD14-4546-812B-45B33E8D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1F6F-BCDA-4C40-96A7-DC90DEE2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3806-4D0F-4884-B144-63E2AE27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E148-2EEC-412A-A659-7A078D4F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EB23-D1EC-434B-A7E2-5411453D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924B-0AA0-441A-87A9-91B0FA57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1C50-8AB8-4757-8107-FC15E02226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147B-7097-4DED-8744-A65691A840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4/44/Tower_Bridge_London_Feb_2006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1557360"/>
            <a:ext cx="82296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Look on the pictures and guess the famous places of interest in London.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1628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c00"/>
                </a:solidFill>
                <a:latin typeface="Tahoma"/>
              </a:rPr>
              <a:t>The Houses of Parliament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horz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8807400" cy="54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866448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7730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cc00"/>
                </a:solidFill>
                <a:latin typeface="Tahoma"/>
              </a:rPr>
              <a:t>Buckingham Palace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391280" cy="568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92520" y="189000"/>
            <a:ext cx="45514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2133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c00"/>
                </a:solidFill>
                <a:latin typeface="Tahoma"/>
              </a:rPr>
              <a:t>Westminster Abbey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horz"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c00"/>
                </a:solidFill>
                <a:latin typeface="Tahoma"/>
              </a:rPr>
              <a:t>British</a:t>
            </a:r>
            <a:br>
              <a:rPr sz="9600"/>
            </a:br>
            <a:r>
              <a:rPr b="1" lang="en-US" sz="9600" spc="-1" strike="noStrike">
                <a:solidFill>
                  <a:srgbClr val="ffcc00"/>
                </a:solidFill>
                <a:latin typeface="Tahoma"/>
              </a:rPr>
              <a:t>Museum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horz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878544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2204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c00"/>
                </a:solidFill>
                <a:latin typeface="Tahoma"/>
              </a:rPr>
              <a:t>Piccadilly</a:t>
            </a:r>
            <a:r>
              <a:rPr b="1" lang="et-EE" sz="96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US" sz="9600" spc="-1" strike="noStrike">
                <a:solidFill>
                  <a:srgbClr val="ffcc00"/>
                </a:solidFill>
                <a:latin typeface="Tahoma"/>
              </a:rPr>
              <a:t>Circus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horz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00400" cy="4876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916360" y="0"/>
            <a:ext cx="3257280" cy="4876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6095880" y="0"/>
            <a:ext cx="3048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842508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9600" spc="-1" strike="noStrike">
                <a:solidFill>
                  <a:srgbClr val="ffcc00"/>
                </a:solidFill>
                <a:latin typeface="Tahoma"/>
              </a:rPr>
              <a:t>St. Paul’s Cathedral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horz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430200"/>
            <a:ext cx="914400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2204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c00"/>
                </a:solidFill>
                <a:latin typeface="Tahoma"/>
              </a:rPr>
              <a:t>London Eye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horz"/>
    <p:sndAc>
      <p:stSnd>
        <p:snd r:embed="rId2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8785440" cy="58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9600" spc="-1" strike="noStrike">
                <a:solidFill>
                  <a:srgbClr val="ffcc00"/>
                </a:solidFill>
                <a:latin typeface="Tahoma"/>
              </a:rPr>
              <a:t>Trafalgar Square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horz"/>
    <p:sndAc>
      <p:stSnd>
        <p:snd r:embed="rId2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9600" spc="-1" strike="noStrike">
                <a:solidFill>
                  <a:srgbClr val="ffcc00"/>
                </a:solidFill>
                <a:latin typeface="Tahoma"/>
              </a:rPr>
              <a:t>Madame Tussauds Waxmuseum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horz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cc00"/>
                </a:solidFill>
                <a:latin typeface="Tahoma"/>
              </a:rPr>
              <a:t>The Big Ben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horz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8969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20606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9600" spc="-1" strike="noStrike">
                <a:solidFill>
                  <a:srgbClr val="ffcc00"/>
                </a:solidFill>
                <a:latin typeface="Tahoma"/>
              </a:rPr>
              <a:t>S</a:t>
            </a:r>
            <a:r>
              <a:rPr b="1" lang="en-US" sz="9600" spc="-1" strike="noStrike">
                <a:solidFill>
                  <a:srgbClr val="ffcc00"/>
                </a:solidFill>
                <a:latin typeface="Tahoma"/>
              </a:rPr>
              <a:t>t</a:t>
            </a:r>
            <a:r>
              <a:rPr b="1" lang="et-EE" sz="9600" spc="-1" strike="noStrike">
                <a:solidFill>
                  <a:srgbClr val="ffcc00"/>
                </a:solidFill>
                <a:latin typeface="Tahoma"/>
              </a:rPr>
              <a:t>.J</a:t>
            </a:r>
            <a:r>
              <a:rPr b="1" lang="en-US" sz="9600" spc="-1" strike="noStrike">
                <a:solidFill>
                  <a:srgbClr val="ffcc00"/>
                </a:solidFill>
                <a:latin typeface="Tahoma"/>
              </a:rPr>
              <a:t>ames</a:t>
            </a:r>
            <a:r>
              <a:rPr b="1" lang="et-EE" sz="9600" spc="-1" strike="noStrike">
                <a:solidFill>
                  <a:srgbClr val="ffcc00"/>
                </a:solidFill>
                <a:latin typeface="Tahoma"/>
              </a:rPr>
              <a:t>`</a:t>
            </a:r>
            <a:r>
              <a:rPr b="1" lang="en-US" sz="9600" spc="-1" strike="noStrike">
                <a:solidFill>
                  <a:srgbClr val="ffcc00"/>
                </a:solidFill>
                <a:latin typeface="Tahoma"/>
              </a:rPr>
              <a:t>s</a:t>
            </a:r>
            <a:r>
              <a:rPr b="1" lang="et-EE" sz="9600" spc="-1" strike="noStrike">
                <a:solidFill>
                  <a:srgbClr val="ffcc00"/>
                </a:solidFill>
                <a:latin typeface="Tahoma"/>
              </a:rPr>
              <a:t>  P</a:t>
            </a:r>
            <a:r>
              <a:rPr b="1" lang="en-US" sz="9600" spc="-1" strike="noStrike">
                <a:solidFill>
                  <a:srgbClr val="ffcc00"/>
                </a:solidFill>
                <a:latin typeface="Tahoma"/>
              </a:rPr>
              <a:t>ark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horz"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ffff"/>
                </a:solidFill>
                <a:latin typeface="Tahoma"/>
              </a:rPr>
              <a:t>The end.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052640"/>
            <a:ext cx="891864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8920" y="2133360"/>
            <a:ext cx="858996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cc00"/>
                </a:solidFill>
                <a:latin typeface="Tahoma"/>
              </a:rPr>
              <a:t>Tower Bridge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horz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8766360" cy="52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2420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cc00"/>
                </a:solidFill>
                <a:latin typeface="Tahoma"/>
              </a:rPr>
              <a:t>Tower of London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horz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889308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21:40:39Z</dcterms:created>
  <dc:creator>User</dc:creator>
  <dc:description/>
  <dc:language>en-US</dc:language>
  <cp:lastModifiedBy>User</cp:lastModifiedBy>
  <dcterms:modified xsi:type="dcterms:W3CDTF">2011-12-07T20:53:50Z</dcterms:modified>
  <cp:revision>4</cp:revision>
  <dc:subject/>
  <dc:title>Look on the pictures and guess the famous places of interest in London.</dc:title>
</cp:coreProperties>
</file>