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C68-E3D9-429C-89B8-A3336E66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029-3E9B-4FB1-8851-B9EBA75B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275-501A-4E61-A8A4-640A2E21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3EA-4A9F-4A88-A250-6496599C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3BBF4-C9F5-43C3-8536-331E547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45076-5806-480B-833E-2ED61713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CE3AF-91AB-40CD-9737-860A7EE2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8D498-0193-43CA-AB29-E014FFE7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07D0F-24A3-4829-AC94-39A8C693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85E49-7F1B-423C-B911-9943F59C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7F6D4-F59D-4AF0-A16F-1EAF718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047-8E59-4E2C-990B-ED75BB9B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A8049-1810-40B1-815F-4B3CB1F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9885F-0D0D-4C51-9B41-FDD84611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06CA1-4F84-4F7F-9B86-94425CD0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C58B6-B101-4085-8C3B-F9D2AD60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3A6F5-C699-4804-8D18-3DE3805F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E02-F9B0-4BA8-B3CD-E6A4283F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70B-2DB3-47F4-807B-C9EBC04C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3C8-FFDE-46FF-AE34-02E34B28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6A2-2831-4F4E-A150-97954660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480-A19D-4A00-A541-276C424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481-BF44-4E2C-8B1E-D92D525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F1A-404A-4FFC-9185-9D0A6313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0F75-702C-4CF7-BB89-B1359050E6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8B22-EC07-4212-9144-C9E82D73CA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4/Tower_Bridge_London_Feb_2006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Look on the pictures and guess the famous places of interest in London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The Houses of Parliament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8074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6448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Tahoma"/>
              </a:rPr>
              <a:t>Buckingham Palac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1280" cy="568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92520" y="189000"/>
            <a:ext cx="4551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Westminster Abbey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British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Museum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Piccadilly</a:t>
            </a: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Circu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4876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916360" y="0"/>
            <a:ext cx="3257280" cy="4876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4250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St. Paul’s Cathedral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London Ey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Trafalgar Squar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Madame Tussauds Waxmuseum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Tahoma"/>
              </a:rPr>
              <a:t>The Big Ben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896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.J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ames</a:t>
            </a: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`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  P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ark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Tahoma"/>
              </a:rPr>
              <a:t>The end.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52640"/>
            <a:ext cx="89186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85899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Tahoma"/>
              </a:rPr>
              <a:t>Tower Bridg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6636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Tahoma"/>
              </a:rPr>
              <a:t>Tower of London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8930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21:40:39Z</dcterms:created>
  <dc:creator>User</dc:creator>
  <dc:description/>
  <dc:language>en-US</dc:language>
  <cp:lastModifiedBy>User</cp:lastModifiedBy>
  <dcterms:modified xsi:type="dcterms:W3CDTF">2011-12-07T20:53:50Z</dcterms:modified>
  <cp:revision>4</cp:revision>
  <dc:subject/>
  <dc:title>Look on the pictures and guess the famous places of interest in London.</dc:title>
</cp:coreProperties>
</file>