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980-E748-4093-A02C-027451E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935-CF7C-4652-A5AD-5CB78C2F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9E4-5733-4D6F-89D0-506F100E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6B3-E7F0-4D06-9EAB-C56FDA00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532-566D-460C-8801-E5AE9B7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8D1-7C0F-4C91-B9C4-A4B2359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0E7-6514-426E-9272-352FDD8F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71E-34DA-4897-9036-8011490A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6BF-D817-4EC1-BF0F-C0CD90E8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9F7-5011-460B-B38E-8F13583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1B5-055E-488B-A8EF-20B468D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ACA-BF48-4007-AA20-6FAF53A0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26F-5675-42E1-87BC-3B2FCA7CCE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Ше</a:t>
            </a:r>
            <a:r>
              <a:rPr b="1" i="1" lang="uk-UA" sz="4800" spc="-1" strike="noStrike">
                <a:solidFill>
                  <a:srgbClr val="c00000"/>
                </a:solidFill>
                <a:latin typeface="Bookman Old Style"/>
              </a:rPr>
              <a:t>деври класицизму</a:t>
            </a:r>
            <a:br>
              <a:rPr sz="4800"/>
            </a:br>
            <a:r>
              <a:rPr b="1" i="1" lang="uk-UA" sz="4800" spc="-1" strike="noStrike">
                <a:solidFill>
                  <a:srgbClr val="c00000"/>
                </a:solidFill>
                <a:latin typeface="Bookman Old Style"/>
              </a:rPr>
              <a:t>в архітектурі Украї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79280" y="1484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55640" y="192564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Calibri"/>
                <a:ea typeface="Calibri"/>
              </a:rPr>
              <a:t>Тенденції класицизму проявилися на Україні у 70-ті роки 18 ст. Спорудам притаманні світлі барви, стримані і чіткі форми, відсутність пишного оздоблення, імпозантність та урочисті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Calibri"/>
                <a:ea typeface="Calibri"/>
              </a:rPr>
              <a:t>Оперний театр м.Од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1003320" y="1700280"/>
            <a:ext cx="7137360" cy="458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00"/>
                </a:solidFill>
                <a:latin typeface="Calibri"/>
                <a:ea typeface="Calibri"/>
              </a:rPr>
              <a:t>Собор Різдва на Подо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02240" cy="4491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Calibri"/>
                <a:ea typeface="Calibri"/>
              </a:rPr>
              <a:t>Пам’ятки скульптури</a:t>
            </a:r>
            <a:br>
              <a:rPr sz="4400"/>
            </a:br>
            <a:r>
              <a:rPr b="0" lang="uk-UA" sz="4400" spc="-1" strike="noStrike">
                <a:solidFill>
                  <a:srgbClr val="404040"/>
                </a:solidFill>
                <a:latin typeface="Calibri"/>
                <a:ea typeface="Calibri"/>
              </a:rPr>
              <a:t>Пластичне мистецтво представлене творами монументальної та монументально-декоративної скульпту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ам’ятник Рішельє в Оде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3635280" y="3284640"/>
            <a:ext cx="5219640" cy="3460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664160" cy="3103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5292720" y="1773360"/>
            <a:ext cx="339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00"/>
                </a:solidFill>
                <a:latin typeface="Calibri"/>
                <a:ea typeface="Calibri"/>
              </a:rPr>
              <a:t>Скульп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00"/>
                </a:solidFill>
                <a:latin typeface="Calibri"/>
                <a:ea typeface="Calibri"/>
              </a:rPr>
              <a:t> </a:t>
            </a:r>
            <a:r>
              <a:rPr b="0" lang="uk-UA" sz="4000" spc="-1" strike="noStrike">
                <a:solidFill>
                  <a:srgbClr val="800000"/>
                </a:solidFill>
                <a:latin typeface="Calibri"/>
                <a:ea typeface="Calibri"/>
              </a:rPr>
              <a:t>Іван Мар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Calibri"/>
                <a:ea typeface="Calibri"/>
              </a:rPr>
              <a:t>Надгробок К.Розумовського в Батури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480360" cy="4852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4221000" y="0"/>
            <a:ext cx="4905360" cy="36752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rcRect l="0" t="0" r="0" b="11004"/>
          <a:stretch/>
        </p:blipFill>
        <p:spPr>
          <a:xfrm>
            <a:off x="291960" y="152280"/>
            <a:ext cx="3929040" cy="3495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3"/>
          <a:stretch/>
        </p:blipFill>
        <p:spPr>
          <a:xfrm>
            <a:off x="2916360" y="2421000"/>
            <a:ext cx="2879640" cy="432756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6075360" y="3697200"/>
            <a:ext cx="23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Calibri"/>
                <a:ea typeface="Calibri"/>
              </a:rPr>
              <a:t>Чотири фонтани на площі Ринок у м.Льв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Calibri"/>
                <a:ea typeface="Calibri"/>
              </a:rPr>
              <a:t>Скульптор Віт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огдан Хмельницький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кульптор Мике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94320" cy="481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040"/>
                </a:solidFill>
                <a:latin typeface="Arial"/>
              </a:rPr>
              <a:t>Музичне мистец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  <a:ea typeface="Calibri"/>
              </a:rPr>
              <a:t>Серед найяскравіших композиторів цієї епохи – Максим Березовський, Артем Ведель і Дмитро Бортнянський, </a:t>
            </a:r>
            <a:r>
              <a:rPr b="0" lang="uk-UA" sz="3600" spc="-1" strike="noStrike">
                <a:solidFill>
                  <a:srgbClr val="404040"/>
                </a:solidFill>
                <a:latin typeface="Calibri"/>
                <a:ea typeface="Calibri"/>
              </a:rPr>
              <a:t>які створили і розвинули новий жанр духовного хорового концер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7   Богородице Дево, Радуйся. Артемий Ведель" descr=""/>
          <p:cNvPicPr/>
          <p:nvPr/>
        </p:nvPicPr>
        <p:blipFill>
          <a:blip r:embed="rId1"/>
          <a:stretch/>
        </p:blipFill>
        <p:spPr>
          <a:xfrm>
            <a:off x="227160" y="582480"/>
            <a:ext cx="866592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534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39640" y="5661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00"/>
                </a:solidFill>
                <a:latin typeface="Calibri"/>
                <a:ea typeface="Calibri"/>
              </a:rPr>
              <a:t>Спасо-Преображенський собор у Новгороді - Сіверсь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Палац козацької старшини Розумовського в Батур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534960" y="1916280"/>
            <a:ext cx="8074080" cy="442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Calibri"/>
                <a:ea typeface="Calibri"/>
              </a:rPr>
              <a:t>Палац графа Завадовського в Лялич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1254240" y="1557360"/>
            <a:ext cx="6635520" cy="497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Calibri"/>
                <a:ea typeface="Calibri"/>
              </a:rPr>
              <a:t>Миколаївська церква в с.Дика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048360" cy="453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040"/>
                </a:solidFill>
                <a:latin typeface="Arial"/>
              </a:rPr>
              <a:t>Київський універс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277040" cy="457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040"/>
                </a:solidFill>
                <a:latin typeface="Calibri"/>
                <a:ea typeface="Calibri"/>
              </a:rPr>
              <a:t>Церква Миколи Набережного на Подолі м.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1079640" y="1628640"/>
            <a:ext cx="69847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3178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Calibri"/>
                <a:ea typeface="Calibri"/>
              </a:rPr>
              <a:t>Ротонда фонтана «Самсон»</a:t>
            </a:r>
            <a:br>
              <a:rPr sz="3600"/>
            </a:br>
            <a:r>
              <a:rPr b="0" lang="uk-UA" sz="3600" spc="-1" strike="noStrike">
                <a:solidFill>
                  <a:srgbClr val="800000"/>
                </a:solidFill>
                <a:latin typeface="Calibri"/>
                <a:ea typeface="Calibri"/>
              </a:rPr>
              <a:t>м. Киї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3862440" y="243000"/>
            <a:ext cx="4824360" cy="644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00"/>
                </a:solidFill>
                <a:latin typeface="Calibri"/>
                <a:ea typeface="Calibri"/>
              </a:rPr>
              <a:t>На початку 19 ст. поширився стиль амп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146640" cy="4075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979640" y="5703840"/>
            <a:ext cx="61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Calibri"/>
                <a:ea typeface="Calibri"/>
              </a:rPr>
              <a:t>Контрактовий дім м.Киї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Пользователь Windows</cp:lastModifiedBy>
  <dcterms:modified xsi:type="dcterms:W3CDTF">2018-04-16T17:37:13Z</dcterms:modified>
  <cp:revision>95</cp:revision>
  <dc:subject/>
  <dc:title>TITLE</dc:title>
</cp:coreProperties>
</file>