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gif" ContentType="image/gif"/>
  <Override PartName="/ppt/media/image25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3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69B-8788-4361-9B60-F2121B53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3BE-1C4B-4BF7-99FE-0206C8BB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9F4-5555-40A4-8D7A-41ECDA9D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457-61C5-4E7E-A28E-E31092DC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93D-4EFE-4F3F-9240-175DB38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699-36ED-4CF6-B961-70DC485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236-5728-4FF2-B0D2-A97765A5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15D-8D55-49E1-A056-08B6065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C47-1974-40B5-90B9-F49048D5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FD9-FA4B-4011-8BF8-4723983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330-C619-4386-BF6A-98A688A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D77-A37A-4799-8747-D328EFC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1ED2-03E4-467E-9474-A1D980DD6B7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468440" y="1865160"/>
            <a:ext cx="4761000" cy="4402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www.wilburworldofscience.com/science_labwork_1_.gif"/>
          <p:cNvPicPr/>
          <p:nvPr/>
        </p:nvPicPr>
        <p:blipFill>
          <a:blip r:embed="rId3"/>
          <a:srcRect l="0" t="0" r="0" b="5599"/>
          <a:stretch/>
        </p:blipFill>
        <p:spPr>
          <a:xfrm>
            <a:off x="6084720" y="4724280"/>
            <a:ext cx="2808360" cy="165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animo2.ucoz.ru/_ph/56/1/585445454.jpg"/>
          <p:cNvPicPr/>
          <p:nvPr/>
        </p:nvPicPr>
        <p:blipFill>
          <a:blip r:embed="rId4"/>
          <a:stretch/>
        </p:blipFill>
        <p:spPr>
          <a:xfrm>
            <a:off x="131760" y="5208480"/>
            <a:ext cx="2124000" cy="15433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4577760" y="5805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8 кла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443640" y="3284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асяненко О. М.,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читель хімії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ВК «Дивосвіт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. Жовті Во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916360" y="1628640"/>
            <a:ext cx="446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Ланцюжок перетворень (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ртуальна лабораторі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конаємо ланцюжок перетворень між класами неорганічних сполук.  (перетворення з Р та В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040960" cy="1139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887480" y="329400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431640"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00000"/>
                </a:solidFill>
                <a:uFillTx/>
                <a:latin typeface="Calibri"/>
              </a:rPr>
              <a:t>СОЛІ –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.П. основна стійка: піднятись на носки, повільно піднімаючи через сторони руки вверх та вдихаючи повітря через ні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431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пуститись на стопи, повільно опускаючи руки через сторони вниз та видихаючи повітря через ро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763640" y="1184400"/>
            <a:ext cx="62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285840"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00000"/>
                </a:solidFill>
                <a:uFillTx/>
                <a:latin typeface="Calibri"/>
              </a:rPr>
              <a:t>ОКСИД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.П. основна стійка: нахили тулуба вперед, назад, вліво, вправо (2рази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1887480" y="1897200"/>
            <a:ext cx="62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285840"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00000"/>
                </a:solidFill>
                <a:uFillTx/>
                <a:latin typeface="Calibri"/>
              </a:rPr>
              <a:t>КИСЛОТ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-В.П. основна стійка: нахили голов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перед, назад, вліво, вправо (2раз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763640" y="25718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285840"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00000"/>
                </a:solidFill>
                <a:uFillTx/>
                <a:latin typeface="Calibri"/>
              </a:rPr>
              <a:t>ОСНОВ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- В.П. основна стійка руки на плечах: колові рухи   руками вперед 2 рази, назад  2рази (2раз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5" descr=""/>
          <p:cNvPicPr/>
          <p:nvPr/>
        </p:nvPicPr>
        <p:blipFill>
          <a:blip r:embed="rId3"/>
          <a:stretch/>
        </p:blipFill>
        <p:spPr>
          <a:xfrm>
            <a:off x="4200480" y="4925880"/>
            <a:ext cx="2590920" cy="15670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4"/>
          <a:stretch/>
        </p:blipFill>
        <p:spPr>
          <a:xfrm>
            <a:off x="3309840" y="4925880"/>
            <a:ext cx="4157640" cy="15670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5"/>
          <a:stretch/>
        </p:blipFill>
        <p:spPr>
          <a:xfrm>
            <a:off x="4273560" y="4956120"/>
            <a:ext cx="2852640" cy="15670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6"/>
          <a:stretch/>
        </p:blipFill>
        <p:spPr>
          <a:xfrm>
            <a:off x="3535200" y="4956120"/>
            <a:ext cx="3908520" cy="1567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040960" cy="11397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771640" y="1515960"/>
            <a:ext cx="552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жн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а група отримує аркуш з завданням: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дати назви запропонованим речовинам, вибрати серед них речовини, які складають генетичний ряд вказаного металу або немета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класти схему взаємозв’язку членів даного генетичного ряду, дати їм назви, визначити класи речовин, до яких вони віднося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3203640" y="2565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ДУМАТИ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колек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ДІЯТИ</a:t>
            </a:r>
            <a:r>
              <a:rPr b="0" lang="uk-UA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опера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c00000"/>
                </a:solidFill>
                <a:uFillTx/>
                <a:latin typeface="Calibri"/>
              </a:rPr>
              <a:t>СПЕРЕЧАТИС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доказо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987640" y="3789360"/>
            <a:ext cx="45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Це для всіх обов’язко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971640" y="2016000"/>
            <a:ext cx="8256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енетичний ряд мета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95320" y="2906640"/>
            <a:ext cx="1676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тал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3209760" y="3048120"/>
            <a:ext cx="597240" cy="2826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730680" y="2913120"/>
            <a:ext cx="14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сновний 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5186520" y="3016080"/>
            <a:ext cx="596880" cy="284400"/>
          </a:xfrm>
          <a:prstGeom prst="rightArrow">
            <a:avLst>
              <a:gd name="adj1" fmla="val 50000"/>
              <a:gd name="adj2" fmla="val 551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651640" y="295920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6961320" y="3048120"/>
            <a:ext cx="596880" cy="282600"/>
          </a:xfrm>
          <a:prstGeom prst="rightArrow">
            <a:avLst>
              <a:gd name="adj1" fmla="val 50000"/>
              <a:gd name="adj2" fmla="val 555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259760" y="297972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і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971640" y="2016000"/>
            <a:ext cx="8256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енетичний ряд немета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76360" y="2895480"/>
            <a:ext cx="1870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еметал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3209760" y="3048120"/>
            <a:ext cx="597240" cy="2826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730680" y="2913120"/>
            <a:ext cx="14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ислотний 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5186520" y="3016080"/>
            <a:ext cx="596880" cy="284400"/>
          </a:xfrm>
          <a:prstGeom prst="rightArrow">
            <a:avLst>
              <a:gd name="adj1" fmla="val 50000"/>
              <a:gd name="adj2" fmla="val 551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651640" y="295920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6961320" y="3048120"/>
            <a:ext cx="596880" cy="282600"/>
          </a:xfrm>
          <a:prstGeom prst="rightArrow">
            <a:avLst>
              <a:gd name="adj1" fmla="val 50000"/>
              <a:gd name="adj2" fmla="val 555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7259760" y="297972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і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795320" y="2906640"/>
            <a:ext cx="1676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тал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3209760" y="3048120"/>
            <a:ext cx="597240" cy="2826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730680" y="2913120"/>
            <a:ext cx="14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сновний 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186520" y="3016080"/>
            <a:ext cx="596880" cy="284400"/>
          </a:xfrm>
          <a:prstGeom prst="rightArrow">
            <a:avLst>
              <a:gd name="adj1" fmla="val 50000"/>
              <a:gd name="adj2" fmla="val 5517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641920" y="290664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с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961320" y="3048120"/>
            <a:ext cx="596880" cy="282600"/>
          </a:xfrm>
          <a:prstGeom prst="rightArrow">
            <a:avLst>
              <a:gd name="adj1" fmla="val 50000"/>
              <a:gd name="adj2" fmla="val 555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245360" y="297972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і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4381560"/>
            <a:ext cx="1870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еметал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3201840" y="4533840"/>
            <a:ext cx="596880" cy="282600"/>
          </a:xfrm>
          <a:prstGeom prst="rightArrow">
            <a:avLst>
              <a:gd name="adj1" fmla="val 50000"/>
              <a:gd name="adj2" fmla="val 555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3722760" y="4398840"/>
            <a:ext cx="14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ислотний окс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5178600" y="4502160"/>
            <a:ext cx="596880" cy="284040"/>
          </a:xfrm>
          <a:prstGeom prst="rightArrow">
            <a:avLst>
              <a:gd name="adj1" fmla="val 50000"/>
              <a:gd name="adj2" fmla="val 552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5643720" y="444348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6953400" y="4533840"/>
            <a:ext cx="596880" cy="282600"/>
          </a:xfrm>
          <a:prstGeom prst="rightArrow">
            <a:avLst>
              <a:gd name="adj1" fmla="val 50000"/>
              <a:gd name="adj2" fmla="val 5553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7251840" y="446400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і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4"/>
          <p:cNvSpPr/>
          <p:nvPr/>
        </p:nvSpPr>
        <p:spPr>
          <a:xfrm rot="18688200">
            <a:off x="6860880" y="4217760"/>
            <a:ext cx="974880" cy="343080"/>
          </a:xfrm>
          <a:prstGeom prst="rightArrow">
            <a:avLst>
              <a:gd name="adj1" fmla="val 50000"/>
              <a:gd name="adj2" fmla="val 556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4"/>
          <p:cNvSpPr/>
          <p:nvPr/>
        </p:nvSpPr>
        <p:spPr>
          <a:xfrm rot="2527200">
            <a:off x="6856200" y="3284640"/>
            <a:ext cx="950760" cy="342720"/>
          </a:xfrm>
          <a:prstGeom prst="rightArrow">
            <a:avLst>
              <a:gd name="adj1" fmla="val 50000"/>
              <a:gd name="adj2" fmla="val 555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TextBox 9" descr=""/>
          <p:cNvPicPr/>
          <p:nvPr/>
        </p:nvPicPr>
        <p:blipFill>
          <a:blip r:embed="rId3"/>
          <a:stretch/>
        </p:blipFill>
        <p:spPr>
          <a:xfrm>
            <a:off x="7407360" y="3376440"/>
            <a:ext cx="151740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1840" y="260280"/>
            <a:ext cx="79632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Генетичний зв’язок між класами неорганічних спол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84360" y="198900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54764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547280" y="20811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195640" y="1989000"/>
            <a:ext cx="143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Times New Roman"/>
              </a:rPr>
              <a:t>Ме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07640" y="20811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140360" y="1989000"/>
            <a:ext cx="180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012000" y="21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04000" y="1989000"/>
            <a:ext cx="136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4427640" y="3141720"/>
            <a:ext cx="1224000" cy="503280"/>
          </a:xfrm>
          <a:prstGeom prst="wedgeRectCallout">
            <a:avLst>
              <a:gd name="adj1" fmla="val -14333"/>
              <a:gd name="adj2" fmla="val -188800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с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2023920" y="3013200"/>
            <a:ext cx="1297080" cy="720720"/>
          </a:xfrm>
          <a:prstGeom prst="wedgeRectCallout">
            <a:avLst>
              <a:gd name="adj1" fmla="val -8384"/>
              <a:gd name="adj2" fmla="val -13259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Основ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окс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95280" y="4437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Calibri"/>
              </a:rPr>
              <a:t>Не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268360" y="4437000"/>
            <a:ext cx="181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He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4716360" y="4437000"/>
            <a:ext cx="110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6804000" y="4437000"/>
            <a:ext cx="15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1704600" y="4508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067280" y="4508640"/>
            <a:ext cx="7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012000" y="45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4572000" y="5589720"/>
            <a:ext cx="1224000" cy="504720"/>
          </a:xfrm>
          <a:prstGeom prst="wedgeRectCallout">
            <a:avLst>
              <a:gd name="adj1" fmla="val 2527"/>
              <a:gd name="adj2" fmla="val -182388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кисл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28"/>
          <p:cNvSpPr/>
          <p:nvPr/>
        </p:nvSpPr>
        <p:spPr>
          <a:xfrm>
            <a:off x="1692360" y="5445000"/>
            <a:ext cx="1727280" cy="648000"/>
          </a:xfrm>
          <a:prstGeom prst="wedgeRectCallout">
            <a:avLst>
              <a:gd name="adj1" fmla="val 13972"/>
              <a:gd name="adj2" fmla="val -155638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Кислотний окс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AutoShape 29"/>
          <p:cNvCxnSpPr/>
          <p:nvPr/>
        </p:nvCxnSpPr>
        <p:spPr>
          <a:xfrm>
            <a:off x="1042920" y="2492280"/>
            <a:ext cx="5472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" name="AutoShape 30"/>
          <p:cNvCxnSpPr>
            <a:stCxn id="130" idx="2"/>
            <a:endCxn id="138" idx="0"/>
          </p:cNvCxnSpPr>
          <p:nvPr/>
        </p:nvCxnSpPr>
        <p:spPr>
          <a:xfrm>
            <a:off x="2916000" y="2508120"/>
            <a:ext cx="26208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AutoShape 31"/>
          <p:cNvCxnSpPr/>
          <p:nvPr/>
        </p:nvCxnSpPr>
        <p:spPr>
          <a:xfrm>
            <a:off x="5076360" y="2492280"/>
            <a:ext cx="22788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AutoShape 32"/>
          <p:cNvCxnSpPr>
            <a:stCxn id="130" idx="2"/>
            <a:endCxn id="139" idx="0"/>
          </p:cNvCxnSpPr>
          <p:nvPr/>
        </p:nvCxnSpPr>
        <p:spPr>
          <a:xfrm>
            <a:off x="2916360" y="2508120"/>
            <a:ext cx="235152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AutoShape 33"/>
          <p:cNvCxnSpPr/>
          <p:nvPr/>
        </p:nvCxnSpPr>
        <p:spPr>
          <a:xfrm>
            <a:off x="1042920" y="2492280"/>
            <a:ext cx="421416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AutoShape 34"/>
          <p:cNvCxnSpPr>
            <a:stCxn id="138" idx="0"/>
          </p:cNvCxnSpPr>
          <p:nvPr/>
        </p:nvCxnSpPr>
        <p:spPr>
          <a:xfrm flipV="1">
            <a:off x="3178080" y="2564640"/>
            <a:ext cx="1899360" cy="1872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2" name="AutoShape 35"/>
          <p:cNvCxnSpPr/>
          <p:nvPr/>
        </p:nvCxnSpPr>
        <p:spPr>
          <a:xfrm flipV="1">
            <a:off x="5292360" y="2491920"/>
            <a:ext cx="222156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3" name="AutoShape 36"/>
          <p:cNvCxnSpPr/>
          <p:nvPr/>
        </p:nvCxnSpPr>
        <p:spPr>
          <a:xfrm>
            <a:off x="5076360" y="2492280"/>
            <a:ext cx="252036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" name="AutoShape 37"/>
          <p:cNvCxnSpPr/>
          <p:nvPr/>
        </p:nvCxnSpPr>
        <p:spPr>
          <a:xfrm>
            <a:off x="7451280" y="2492280"/>
            <a:ext cx="7236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" name="AutoShape 38"/>
          <p:cNvCxnSpPr/>
          <p:nvPr/>
        </p:nvCxnSpPr>
        <p:spPr>
          <a:xfrm>
            <a:off x="1042560" y="2492280"/>
            <a:ext cx="6506280" cy="1929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</p:spTree>
  </p:cSld>
  <p:transition spd="slow"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1" descr=""/>
          <p:cNvPicPr/>
          <p:nvPr/>
        </p:nvPicPr>
        <p:blipFill>
          <a:blip r:embed="rId2"/>
          <a:stretch/>
        </p:blipFill>
        <p:spPr>
          <a:xfrm>
            <a:off x="1689120" y="2176560"/>
            <a:ext cx="7173720" cy="1749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1973160" y="3244680"/>
            <a:ext cx="633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C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Прямоугольник 2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2771640" y="2133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йом «Логічний ланцюг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2352600" y="480960"/>
            <a:ext cx="5048280" cy="11397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933720" y="32130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0a0"/>
                </a:solidFill>
                <a:latin typeface="Calibri"/>
              </a:rPr>
              <a:t>захопи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281680" y="21337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0a0"/>
                </a:solidFill>
                <a:latin typeface="Calibri"/>
              </a:rPr>
              <a:t>«Запали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664960" y="41497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7030a0"/>
                </a:solidFill>
                <a:latin typeface="Calibri"/>
              </a:rPr>
              <a:t>й повест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158760"/>
            <a:ext cx="7180200" cy="1749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1890720" y="2349360"/>
            <a:ext cx="69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пишіть рівняння реакцій за допомогою яких (теоретично) можна отримати запропоновану речовин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а 1: магній сульф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а 2: кальцій хлори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а 3: цинк сульфа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а 4: ферум (ІІ) хлор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па 5: алюміній хлор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Прямоугольник 1" descr=""/>
          <p:cNvPicPr/>
          <p:nvPr/>
        </p:nvPicPr>
        <p:blipFill>
          <a:blip r:embed="rId2"/>
          <a:stretch/>
        </p:blipFill>
        <p:spPr>
          <a:xfrm>
            <a:off x="1054080" y="231840"/>
            <a:ext cx="7291440" cy="17492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843280" y="2060640"/>
            <a:ext cx="59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) між класами неорганічних сполук існує генетичний зв’язок, що ґрунтується на одержанні одних речовин з інших;                                                             2) генетичні зв’язки можна зобразити у вигляді ланцюж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) в основі генетичних зв’язків лежить можливість хімічних елементів переходити із одних сполук в інші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) одну і ту саму речовину можна одержати кількома способ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) генетичні зв’язки є підтвердженням основних законів приро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1" descr=""/>
          <p:cNvPicPr/>
          <p:nvPr/>
        </p:nvPicPr>
        <p:blipFill>
          <a:blip r:embed="rId2"/>
          <a:stretch/>
        </p:blipFill>
        <p:spPr>
          <a:xfrm>
            <a:off x="1755720" y="219240"/>
            <a:ext cx="6784920" cy="23652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2843280" y="2492280"/>
            <a:ext cx="561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 уроці  я дізнався… , зрозумів… , навчився… , найбільший мій успіх – це… , найбільші труднощі… , я відчув… ,я не вмів, а тепер умію… ,я змінив своє ставлення до… , на наступному уроці я хочу… 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2"/>
          <a:stretch/>
        </p:blipFill>
        <p:spPr>
          <a:xfrm>
            <a:off x="2981160" y="1238400"/>
            <a:ext cx="4767480" cy="174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school.xvatit.com/images/e/e7/Him9-4.jpg"/>
          <p:cNvPicPr/>
          <p:nvPr/>
        </p:nvPicPr>
        <p:blipFill>
          <a:blip r:embed="rId3"/>
          <a:stretch/>
        </p:blipFill>
        <p:spPr>
          <a:xfrm>
            <a:off x="6732720" y="4057560"/>
            <a:ext cx="1774800" cy="224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1311120" y="122400"/>
            <a:ext cx="7527960" cy="19684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411280" y="2276640"/>
            <a:ext cx="54723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Інтерактивний прийом «Я вітаю»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</a:rPr>
              <a:t>«Я вітаю тих, хто має хороший настрій;  добре виспався; хоче працювати; виконав домашнє завдання; в доброму гуморі; хотів би дізнатися щось нове; хоче спілкувати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animo2.ucoz.ru/_ph/56/1/412876003.jpg"/>
          <p:cNvPicPr/>
          <p:nvPr/>
        </p:nvPicPr>
        <p:blipFill>
          <a:blip r:embed="rId3"/>
          <a:stretch/>
        </p:blipFill>
        <p:spPr>
          <a:xfrm>
            <a:off x="6875640" y="4653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6419880" cy="174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124000" y="2637000"/>
            <a:ext cx="619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ліц – опит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«Коротко про головн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Що ми називаємо речовинами?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 класифікуються речовини?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і речовини називаються простим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і речовини називаються складним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 класифікуються складні речовин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1311120" y="122400"/>
            <a:ext cx="7527960" cy="11397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3132000" y="1484280"/>
            <a:ext cx="504036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мета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Неорган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чні речовин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сид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С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ладн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Основ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лі                                                     Кис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ww.diana10.ru/_ph/27/2/875698456.gif"/>
          <p:cNvPicPr/>
          <p:nvPr/>
        </p:nvPicPr>
        <p:blipFill>
          <a:blip r:embed="rId3"/>
          <a:stretch/>
        </p:blipFill>
        <p:spPr>
          <a:xfrm>
            <a:off x="1949400" y="1197000"/>
            <a:ext cx="16858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1" descr=""/>
          <p:cNvPicPr/>
          <p:nvPr/>
        </p:nvPicPr>
        <p:blipFill>
          <a:blip r:embed="rId2"/>
          <a:stretch/>
        </p:blipFill>
        <p:spPr>
          <a:xfrm>
            <a:off x="1311120" y="-23760"/>
            <a:ext cx="7527960" cy="18828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2"/>
          <p:cNvSpPr/>
          <p:nvPr/>
        </p:nvSpPr>
        <p:spPr>
          <a:xfrm>
            <a:off x="2987640" y="1773360"/>
            <a:ext cx="504036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мета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Неорган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ічні речовин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сид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С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ладні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Основ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лі                                                     Кисл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24"/>
          <p:cNvCxnSpPr/>
          <p:nvPr/>
        </p:nvCxnSpPr>
        <p:spPr>
          <a:xfrm flipH="1" flipV="1">
            <a:off x="4571640" y="2420640"/>
            <a:ext cx="1513440" cy="115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26"/>
          <p:cNvCxnSpPr/>
          <p:nvPr/>
        </p:nvCxnSpPr>
        <p:spPr>
          <a:xfrm flipH="1">
            <a:off x="6011280" y="3943440"/>
            <a:ext cx="216360" cy="63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28"/>
          <p:cNvCxnSpPr/>
          <p:nvPr/>
        </p:nvCxnSpPr>
        <p:spPr>
          <a:xfrm flipH="1">
            <a:off x="3779280" y="2420640"/>
            <a:ext cx="432360" cy="115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Прямая со стрелкой 30"/>
          <p:cNvCxnSpPr/>
          <p:nvPr/>
        </p:nvCxnSpPr>
        <p:spPr>
          <a:xfrm>
            <a:off x="4787640" y="2276640"/>
            <a:ext cx="187236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32"/>
          <p:cNvCxnSpPr/>
          <p:nvPr/>
        </p:nvCxnSpPr>
        <p:spPr>
          <a:xfrm flipH="1">
            <a:off x="4931640" y="4652640"/>
            <a:ext cx="577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34"/>
          <p:cNvCxnSpPr/>
          <p:nvPr/>
        </p:nvCxnSpPr>
        <p:spPr>
          <a:xfrm flipH="1">
            <a:off x="3995280" y="4797360"/>
            <a:ext cx="1656720" cy="2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36"/>
          <p:cNvCxnSpPr/>
          <p:nvPr/>
        </p:nvCxnSpPr>
        <p:spPr>
          <a:xfrm flipH="1">
            <a:off x="3801240" y="4841640"/>
            <a:ext cx="2088360" cy="93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38"/>
          <p:cNvCxnSpPr/>
          <p:nvPr/>
        </p:nvCxnSpPr>
        <p:spPr>
          <a:xfrm>
            <a:off x="6443280" y="4841640"/>
            <a:ext cx="1081800" cy="93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2"/>
          <a:stretch/>
        </p:blipFill>
        <p:spPr>
          <a:xfrm>
            <a:off x="1000080" y="-23760"/>
            <a:ext cx="8356680" cy="19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4751280" cy="395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04096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835280" y="2492280"/>
          <a:ext cx="6769080" cy="3813120"/>
        </p:xfrm>
        <a:graphic>
          <a:graphicData uri="http://schemas.openxmlformats.org/drawingml/2006/table">
            <a:tbl>
              <a:tblPr/>
              <a:tblGrid>
                <a:gridCol w="2736720"/>
                <a:gridCol w="1008000"/>
                <a:gridCol w="1081080"/>
                <a:gridCol w="914400"/>
                <a:gridCol w="1028880"/>
              </a:tblGrid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л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си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л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Ферум (ІІІ) окс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Сульфіт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Хром (ІІІ) гі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Барій ортофос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Силікат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Натрій сульф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Ферум (ІІ) гі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Йодид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Алюміній бром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 Літій 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55640" y="549360"/>
          <a:ext cx="7993080" cy="4316400"/>
        </p:xfrm>
        <a:graphic>
          <a:graphicData uri="http://schemas.openxmlformats.org/drawingml/2006/table">
            <a:tbl>
              <a:tblPr/>
              <a:tblGrid>
                <a:gridCol w="3230640"/>
                <a:gridCol w="1190520"/>
                <a:gridCol w="1276560"/>
                <a:gridCol w="1079280"/>
                <a:gridCol w="1216080"/>
              </a:tblGrid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лу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си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л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 Ферум (ІІІ) окси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 Сульфіт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 Хром (ІІІ) гі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 Барій ортофосф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 Силікат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 Натрій сульф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 Ферум (ІІ) гі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. Йодидна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 Алюміній бром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. Літій 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74" name="Прямоугольник 3" descr=""/>
          <p:cNvPicPr/>
          <p:nvPr/>
        </p:nvPicPr>
        <p:blipFill>
          <a:blip r:embed="rId2"/>
          <a:stretch/>
        </p:blipFill>
        <p:spPr>
          <a:xfrm>
            <a:off x="3382920" y="5095800"/>
            <a:ext cx="44816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8:57:19Z</dcterms:created>
  <dc:creator>Ольга Николаевна</dc:creator>
  <dc:description/>
  <dc:language>en-US</dc:language>
  <cp:lastModifiedBy>ольга николаевна</cp:lastModifiedBy>
  <dcterms:modified xsi:type="dcterms:W3CDTF">2018-06-16T14:30:53Z</dcterms:modified>
  <cp:revision>34</cp:revision>
  <dc:subject/>
  <dc:title>Презентация PowerPoint</dc:title>
</cp:coreProperties>
</file>